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2985750" cy="7408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3720" y="685440"/>
            <a:ext cx="60105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2609-498E-4947-8AD6-D24DBB7DC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423720" y="685800"/>
            <a:ext cx="601056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A6C0-C368-45E2-9919-60E9B56320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A732-2D5C-4F68-8DFB-7962EBA22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116856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9440" y="4281840"/>
            <a:ext cx="116856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D813-131F-44EB-977F-00167BFA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9440" y="428184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37320" y="428184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23C4-E0AF-41F5-B56B-80CDFA4AB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0440" y="172872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51080" y="172872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9440" y="428184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0440" y="428184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51080" y="428184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7B97-169D-4596-B7A9-54D585157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9440" y="1728720"/>
            <a:ext cx="1168560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DFB0-E4EA-4A55-ACB3-D3DC7EAE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116856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C85C-4E10-4865-8CD3-2E707921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51D6-C3E9-4978-8EC7-31EAB2A1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FE23-AA99-41FF-AF4E-914BCC51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9440" y="297000"/>
            <a:ext cx="1168560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97ED-48F9-4A6D-BF58-52794543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9440" y="428184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5D25-4905-4E7F-AE4B-02759717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37320" y="428184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8330-FDAE-4716-B47C-9BE51BE1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9440" y="4281840"/>
            <a:ext cx="116856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7B4E-D715-415F-A079-537EF3A2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9440" y="1728720"/>
            <a:ext cx="116856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770040" indent="-295200">
              <a:spcBef>
                <a:spcPts val="8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2" marL="1184400" indent="-236520"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3" marL="1658880" indent="-236520">
              <a:spcBef>
                <a:spcPts val="8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4" marL="2133720" indent="-239760">
              <a:spcBef>
                <a:spcPts val="82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5" marL="2133720" indent="-239760">
              <a:spcBef>
                <a:spcPts val="82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6" marL="2133720" indent="-239760">
              <a:spcBef>
                <a:spcPts val="82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9440" y="6744960"/>
            <a:ext cx="3030480" cy="514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19CC-EA89-44F1-ACF1-FE0099F458E7}" type="datetime">
              <a:rPr b="0" lang="en-US" sz="15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35200" y="6744960"/>
            <a:ext cx="4113000" cy="514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03840" y="6744960"/>
            <a:ext cx="3030840" cy="514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20AF-475D-4E1F-8440-FB77159C6981}" type="slidenum">
              <a:rPr b="0" lang="en-US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73040" y="503280"/>
            <a:ext cx="121158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BÀI 2 / 2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CÁC VĂN KIỆN 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CÔNG ĐỒNG VATICANÔ II 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VÀ SÁCH GIÁO LÝ HỘI THÁNH CÔNG GIÁO</a:t>
            </a:r>
            <a:endParaRPr b="1" lang="en-US" sz="1800" spc="1" strike="noStrike">
              <a:ln w="0">
                <a:noFill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53920" y="5989680"/>
            <a:ext cx="113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fr-FR" sz="2000" spc="-1" strike="noStrike">
                <a:solidFill>
                  <a:srgbClr val="ffffff"/>
                </a:solidFill>
                <a:latin typeface="Arial"/>
              </a:rPr>
              <a:t>Tin Mừng và đức tin của Giáo Hội đã được diễn đạt chói lọi trong các văn kiện Công đồng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1000" autoRev="1" fill="hold"/>
                                        <p:tgtEl>
                                          <p:spTgt spid="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9000"/>
                            </p:stCondLst>
                            <p:childTnLst>
                              <p:par>
                                <p:cTn id="2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112760"/>
            <a:ext cx="12984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600" spc="-1" strike="noStrike">
                <a:solidFill>
                  <a:srgbClr val="f0e500"/>
                </a:solidFill>
                <a:latin typeface="Arial"/>
              </a:rPr>
              <a:t>16. H.- Sách Giáo lý Hội Thánh Công Giáo quan trọng thế nào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0" y="655560"/>
            <a:ext cx="12984120" cy="5946120"/>
            <a:chOff x="0" y="655560"/>
            <a:chExt cx="12984120" cy="5946120"/>
          </a:xfrm>
        </p:grpSpPr>
        <p:sp>
          <p:nvSpPr>
            <p:cNvPr id="73" name=""/>
            <p:cNvSpPr/>
            <p:nvPr/>
          </p:nvSpPr>
          <p:spPr>
            <a:xfrm>
              <a:off x="0" y="655560"/>
              <a:ext cx="12984120" cy="59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600" spc="-1" strike="noStrike">
                  <a:solidFill>
                    <a:srgbClr val="ffffff"/>
                  </a:solidFill>
                  <a:latin typeface="Arial"/>
                </a:rPr>
                <a:t>T.- Sách Giáo lý      Hội Thánh Công Giáo quan trọng đặc biệt ở  điểm này:</a:t>
              </a:r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1920960" y="5151600"/>
              <a:ext cx="1523880" cy="1447560"/>
              <a:chOff x="1920960" y="5151600"/>
              <a:chExt cx="1523880" cy="1447560"/>
            </a:xfrm>
          </p:grpSpPr>
          <p:sp>
            <p:nvSpPr>
              <p:cNvPr id="75" name=""/>
              <p:cNvSpPr/>
              <p:nvPr/>
            </p:nvSpPr>
            <p:spPr>
              <a:xfrm>
                <a:off x="1920960" y="5151600"/>
                <a:ext cx="1523880" cy="1447560"/>
              </a:xfrm>
              <a:prstGeom prst="ellips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 txBox="1"/>
              <p:nvPr/>
            </p:nvSpPr>
            <p:spPr>
              <a:xfrm>
                <a:off x="2149200" y="5456160"/>
                <a:ext cx="914040" cy="723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0000ff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3</a:t>
                </a:r>
                <a:endParaRPr b="0" lang="en-US" sz="1800" spc="1" strike="noStrike">
                  <a:ln w="0">
                    <a:noFill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9159840" y="1112760"/>
            <a:ext cx="907920" cy="914400"/>
            <a:chOff x="9159840" y="1112760"/>
            <a:chExt cx="907920" cy="914400"/>
          </a:xfrm>
        </p:grpSpPr>
        <p:sp>
          <p:nvSpPr>
            <p:cNvPr id="78" name=""/>
            <p:cNvSpPr/>
            <p:nvPr/>
          </p:nvSpPr>
          <p:spPr>
            <a:xfrm>
              <a:off x="9159840" y="1112760"/>
              <a:ext cx="907920" cy="9144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 txBox="1"/>
            <p:nvPr/>
          </p:nvSpPr>
          <p:spPr>
            <a:xfrm>
              <a:off x="9388440" y="1265040"/>
              <a:ext cx="30456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1</a:t>
              </a:r>
              <a:endPara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44440" y="426960"/>
            <a:ext cx="12573000" cy="6980400"/>
            <a:chOff x="244440" y="426960"/>
            <a:chExt cx="12573000" cy="6980400"/>
          </a:xfrm>
        </p:grpSpPr>
        <p:sp>
          <p:nvSpPr>
            <p:cNvPr id="81" name=""/>
            <p:cNvSpPr/>
            <p:nvPr/>
          </p:nvSpPr>
          <p:spPr>
            <a:xfrm>
              <a:off x="244440" y="426960"/>
              <a:ext cx="12573000" cy="6980400"/>
            </a:xfrm>
            <a:custGeom>
              <a:avLst/>
              <a:gdLst>
                <a:gd name="textAreaLeft" fmla="*/ 0 w 12573000"/>
                <a:gd name="textAreaRight" fmla="*/ 12573360 w 12573000"/>
                <a:gd name="textAreaTop" fmla="*/ 904680 h 6980400"/>
                <a:gd name="textAreaBottom" fmla="*/ 6075720 h 698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96720" y="1265400"/>
              <a:ext cx="64771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600" spc="-1" strike="noStrike">
                  <a:solidFill>
                    <a:srgbClr val="ffffff"/>
                  </a:solidFill>
                  <a:latin typeface="Arial"/>
                </a:rPr>
                <a:t>Đóng góp</a:t>
              </a:r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0760" y="2712960"/>
              <a:ext cx="1242036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600" spc="-1" strike="noStrike">
                  <a:solidFill>
                    <a:srgbClr val="ffffff"/>
                  </a:solidFill>
                  <a:latin typeface="Arial"/>
                </a:rPr>
                <a:t>vào việc canh tân đời sống Giáo Hội</a:t>
              </a:r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9464760" y="1036800"/>
            <a:ext cx="907920" cy="914400"/>
            <a:chOff x="9464760" y="1036800"/>
            <a:chExt cx="907920" cy="914400"/>
          </a:xfrm>
        </p:grpSpPr>
        <p:sp>
          <p:nvSpPr>
            <p:cNvPr id="85" name=""/>
            <p:cNvSpPr/>
            <p:nvPr/>
          </p:nvSpPr>
          <p:spPr>
            <a:xfrm>
              <a:off x="9464760" y="1036800"/>
              <a:ext cx="907920" cy="9144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9769320" y="1189080"/>
              <a:ext cx="30456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2</a:t>
              </a:r>
              <a:endPara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68120" y="198360"/>
            <a:ext cx="12496680" cy="7132680"/>
            <a:chOff x="168120" y="198360"/>
            <a:chExt cx="12496680" cy="7132680"/>
          </a:xfrm>
        </p:grpSpPr>
        <p:sp>
          <p:nvSpPr>
            <p:cNvPr id="88" name=""/>
            <p:cNvSpPr/>
            <p:nvPr/>
          </p:nvSpPr>
          <p:spPr>
            <a:xfrm>
              <a:off x="168120" y="198360"/>
              <a:ext cx="12496680" cy="7132680"/>
            </a:xfrm>
            <a:custGeom>
              <a:avLst/>
              <a:gdLst>
                <a:gd name="textAreaLeft" fmla="*/ 0 w 12496680"/>
                <a:gd name="textAreaRight" fmla="*/ 12497040 w 12496680"/>
                <a:gd name="textAreaTop" fmla="*/ 924480 h 7132680"/>
                <a:gd name="textAreaBottom" fmla="*/ 6208200 h 713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6720" y="503280"/>
              <a:ext cx="5029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0" spc="-1" strike="noStrike">
                  <a:solidFill>
                    <a:srgbClr val="ffffff"/>
                  </a:solidFill>
                  <a:latin typeface="Arial"/>
                </a:rPr>
                <a:t>Trở thành</a:t>
              </a:r>
              <a:r>
                <a:rPr b="1" lang="fr-FR" sz="9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68120" y="2027160"/>
              <a:ext cx="12496680" cy="34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0" spc="-1" strike="noStrike">
                  <a:solidFill>
                    <a:srgbClr val="ffffff"/>
                  </a:solidFill>
                  <a:latin typeface="Arial"/>
                </a:rPr>
                <a:t>dụng cụ giá trị và hợp pháp để phục vụ sự hiệp thông trong</a:t>
              </a:r>
              <a:r>
                <a:rPr b="1" lang="fr-FR" sz="9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9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fr-FR" sz="9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92600" y="5456160"/>
              <a:ext cx="5943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fr-FR" sz="8000" spc="-1" strike="noStrike">
                  <a:solidFill>
                    <a:srgbClr val="ffffff"/>
                  </a:solidFill>
                  <a:latin typeface="Arial"/>
                </a:rPr>
                <a:t>Giáo Hội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9388440" y="884160"/>
            <a:ext cx="907920" cy="914400"/>
            <a:chOff x="9388440" y="884160"/>
            <a:chExt cx="907920" cy="914400"/>
          </a:xfrm>
        </p:grpSpPr>
        <p:sp>
          <p:nvSpPr>
            <p:cNvPr id="93" name=""/>
            <p:cNvSpPr/>
            <p:nvPr/>
          </p:nvSpPr>
          <p:spPr>
            <a:xfrm>
              <a:off x="9388440" y="884160"/>
              <a:ext cx="907920" cy="9144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9693360" y="1036440"/>
              <a:ext cx="30456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3</a:t>
              </a:r>
              <a:endPara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68120" y="0"/>
            <a:ext cx="12649320" cy="7407360"/>
            <a:chOff x="168120" y="0"/>
            <a:chExt cx="12649320" cy="7407360"/>
          </a:xfrm>
        </p:grpSpPr>
        <p:sp>
          <p:nvSpPr>
            <p:cNvPr id="96" name=""/>
            <p:cNvSpPr/>
            <p:nvPr/>
          </p:nvSpPr>
          <p:spPr>
            <a:xfrm>
              <a:off x="168120" y="0"/>
              <a:ext cx="12649320" cy="7407360"/>
            </a:xfrm>
            <a:custGeom>
              <a:avLst/>
              <a:gdLst>
                <a:gd name="textAreaLeft" fmla="*/ 0 w 12649320"/>
                <a:gd name="textAreaRight" fmla="*/ 12649680 w 12649320"/>
                <a:gd name="textAreaTop" fmla="*/ 960120 h 7407360"/>
                <a:gd name="textAreaBottom" fmla="*/ 6447240 h 740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3040" y="503280"/>
              <a:ext cx="62485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600" spc="-1" strike="noStrike">
                  <a:solidFill>
                    <a:srgbClr val="ffffff"/>
                  </a:solidFill>
                  <a:latin typeface="Arial"/>
                </a:rPr>
                <a:t>Làm nên</a:t>
              </a:r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4440" y="2027160"/>
              <a:ext cx="1249668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600" spc="-1" strike="noStrike">
                  <a:solidFill>
                    <a:srgbClr val="ffffff"/>
                  </a:solidFill>
                  <a:latin typeface="Arial"/>
                </a:rPr>
                <a:t>chuẩn mực chắc chắn để giảng dạy</a:t>
              </a:r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788240" y="5227560"/>
              <a:ext cx="47242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600" spc="-1" strike="noStrike">
                  <a:solidFill>
                    <a:srgbClr val="ffffff"/>
                  </a:solidFill>
                  <a:latin typeface="Arial"/>
                </a:rPr>
                <a:t>đức tin.</a:t>
              </a:r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426960"/>
            <a:ext cx="129841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8000" spc="-1" strike="noStrike">
                <a:solidFill>
                  <a:srgbClr val="f0e500"/>
                </a:solidFill>
                <a:latin typeface="Arial"/>
              </a:rPr>
              <a:t>17. H. Năm Đức Tin,     Đức Thánh Cha đưa ra quyết tâm nào về việc    sử dụng sách Giáo lý   Hội Thánh Công Giáo 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579600"/>
            <a:ext cx="129841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ffffff"/>
                </a:solidFill>
                <a:latin typeface="Arial"/>
              </a:rPr>
              <a:t>T.Đức Thánh Cha dạy: </a:t>
            </a:r>
            <a:r>
              <a:rPr b="1" i="1" lang="fr-FR" sz="9600" spc="-1" strike="noStrike">
                <a:solidFill>
                  <a:srgbClr val="ffffff"/>
                </a:solidFill>
                <a:latin typeface="Arial"/>
              </a:rPr>
              <a:t>“Năm Đức Tin </a:t>
            </a:r>
            <a:r>
              <a:rPr b="1" i="1" lang="fr-FR" sz="9600" spc="-1" strike="noStrike">
                <a:solidFill>
                  <a:srgbClr val="ff00ff"/>
                </a:solidFill>
                <a:latin typeface="Arial"/>
              </a:rPr>
              <a:t>phải   </a:t>
            </a:r>
            <a:r>
              <a:rPr b="1" i="1" lang="fr-FR" sz="9600" spc="-1" strike="noStrike">
                <a:solidFill>
                  <a:srgbClr val="ffffff"/>
                </a:solidFill>
                <a:latin typeface="Arial"/>
              </a:rPr>
              <a:t>                       thể hiện quyết tâm :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66680" y="198360"/>
            <a:ext cx="1281744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khám phá và học hỏi nội dung cơ bản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378160" y="2560680"/>
            <a:ext cx="761976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381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của đức ti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923000"/>
            <a:ext cx="12984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6600" spc="-1" strike="noStrike">
                <a:solidFill>
                  <a:srgbClr val="ffffff"/>
                </a:solidFill>
                <a:latin typeface="Arial"/>
              </a:rPr>
              <a:t>được trình bày trong sách Giáo lý Hội Thánh Công Giáo”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6000"/>
                            </p:stCondLst>
                            <p:childTnLst>
                              <p:par>
                                <p:cTn id="242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" dur="100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-1)"/>
                                      </p:to>
                                    </p:set>
                                    <p:set>
                                      <p:cBhvr>
                                        <p:cTn id="244" dur="100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)"/>
                                      </p:to>
                                    </p:set>
                                    <p:set>
                                      <p:cBhvr>
                                        <p:cTn id="245" dur="100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12982680" cy="74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6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44440" y="1189080"/>
            <a:ext cx="12268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600" spc="-1" strike="noStrike">
                <a:solidFill>
                  <a:srgbClr val="f0e500"/>
                </a:solidFill>
                <a:latin typeface="Arial"/>
              </a:rPr>
              <a:t>14. H.- Sách Giáo lý </a:t>
            </a:r>
            <a:r>
              <a:rPr b="1" i="1" lang="fr-FR" sz="8800" spc="-1" strike="noStrike">
                <a:solidFill>
                  <a:srgbClr val="f0e500"/>
                </a:solidFill>
                <a:latin typeface="Arial"/>
              </a:rPr>
              <a:t>Hội Thánh Công Giáo</a:t>
            </a:r>
            <a:r>
              <a:rPr b="1" i="1" lang="fr-FR" sz="9600" spc="-1" strike="noStrike">
                <a:solidFill>
                  <a:srgbClr val="f0e500"/>
                </a:solidFill>
                <a:latin typeface="Arial"/>
              </a:rPr>
              <a:t> là bộ sách nào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44440" y="198360"/>
            <a:ext cx="12496680" cy="20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T.- Sách Giáo lý Hội Thánh Công Giáo là bộ sách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440" y="2179800"/>
            <a:ext cx="1249668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 u="sng">
                <a:solidFill>
                  <a:srgbClr val="ff00ff"/>
                </a:solidFill>
                <a:uFillTx/>
                <a:latin typeface="Arial"/>
              </a:rPr>
              <a:t>trình bày đức tin Công giáo</a:t>
            </a:r>
            <a:r>
              <a:rPr b="1" lang="fr-FR" sz="7200" spc="-1" strike="noStrike">
                <a:solidFill>
                  <a:srgbClr val="ff00ff"/>
                </a:solidFill>
                <a:latin typeface="Arial"/>
              </a:rPr>
              <a:t>,</a:t>
            </a: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8120" y="3246480"/>
            <a:ext cx="1249704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dựa trên tổng hợp các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8120" y="4237200"/>
            <a:ext cx="1249704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 u="sng">
                <a:solidFill>
                  <a:srgbClr val="00ff00"/>
                </a:solidFill>
                <a:uFillTx/>
                <a:latin typeface="Arial"/>
              </a:rPr>
              <a:t>đạo lý và quy tắc mục vụ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4440" y="5340240"/>
            <a:ext cx="12496680" cy="20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trong các văn kiện của Công đồng Vaticanô II</a:t>
            </a:r>
            <a:r>
              <a:rPr b="0" lang="fr-FR" sz="7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300"/>
                            </p:stCondLst>
                            <p:childTnLst>
                              <p:par>
                                <p:cTn id="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8300"/>
                            </p:stCondLst>
                            <p:childTnLst>
                              <p:par>
                                <p:cTn id="5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99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2900"/>
                            </p:stCondLst>
                            <p:childTnLst>
                              <p:par>
                                <p:cTn id="6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4200"/>
                            </p:stCondLst>
                            <p:childTnLst>
                              <p:par>
                                <p:cTn id="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4700"/>
                            </p:stCondLst>
                            <p:childTnLst>
                              <p:par>
                                <p:cTn id="7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605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9050"/>
                            </p:stCondLst>
                            <p:childTnLst>
                              <p:par>
                                <p:cTn id="8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4440" y="198360"/>
            <a:ext cx="3287880" cy="464832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4297320" y="2225520"/>
            <a:ext cx="8686800" cy="5181840"/>
            <a:chOff x="4297320" y="2225520"/>
            <a:chExt cx="8686800" cy="5181840"/>
          </a:xfrm>
        </p:grpSpPr>
        <p:sp>
          <p:nvSpPr>
            <p:cNvPr id="58" name=""/>
            <p:cNvSpPr/>
            <p:nvPr/>
          </p:nvSpPr>
          <p:spPr>
            <a:xfrm>
              <a:off x="4297320" y="2225520"/>
              <a:ext cx="8686800" cy="5181840"/>
            </a:xfrm>
            <a:prstGeom prst="flowChartAlternateProcess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511520" y="2282760"/>
              <a:ext cx="8472600" cy="512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600" spc="-1" strike="noStrike">
                  <a:solidFill>
                    <a:srgbClr val="000000"/>
                  </a:solidFill>
                  <a:latin typeface="Arial"/>
                </a:rPr>
                <a:t>Bộ sách được          phát hành năm 1992 dưới thời           Chân phước    Gioan Phaolô II</a:t>
              </a:r>
              <a:r>
                <a:rPr b="1" lang="fr-FR" sz="6600" spc="-1" strike="noStrike">
                  <a:solidFill>
                    <a:srgbClr val="ffffff"/>
                  </a:solidFill>
                  <a:latin typeface="Arial"/>
                </a:rPr>
                <a:t>. </a:t>
              </a:r>
              <a:endParaRPr b="0" lang="en-US" sz="6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503280"/>
            <a:ext cx="129841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600" spc="-1" strike="noStrike">
                <a:solidFill>
                  <a:srgbClr val="f0e500"/>
                </a:solidFill>
                <a:latin typeface="Arial"/>
              </a:rPr>
              <a:t>15. H.- Nội dung sách Giáo lý Hội Thánh Công Giáo được trình bày như thế nào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0" y="351000"/>
            <a:ext cx="12984120" cy="6095880"/>
            <a:chOff x="0" y="351000"/>
            <a:chExt cx="12984120" cy="6095880"/>
          </a:xfrm>
        </p:grpSpPr>
        <p:sp>
          <p:nvSpPr>
            <p:cNvPr id="62" name=""/>
            <p:cNvSpPr/>
            <p:nvPr/>
          </p:nvSpPr>
          <p:spPr>
            <a:xfrm>
              <a:off x="0" y="351000"/>
              <a:ext cx="12984120" cy="59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600" spc="-1" strike="noStrike">
                  <a:solidFill>
                    <a:srgbClr val="ffffff"/>
                  </a:solidFill>
                  <a:latin typeface="Arial"/>
                </a:rPr>
                <a:t>T.- Nội dung sách Giáo lý Hội Thánh Công Giáo gồm  phần:  </a:t>
              </a:r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3063960" y="4998960"/>
              <a:ext cx="1523880" cy="1447920"/>
              <a:chOff x="3063960" y="4998960"/>
              <a:chExt cx="1523880" cy="1447920"/>
            </a:xfrm>
          </p:grpSpPr>
          <p:sp>
            <p:nvSpPr>
              <p:cNvPr id="64" name=""/>
              <p:cNvSpPr/>
              <p:nvPr/>
            </p:nvSpPr>
            <p:spPr>
              <a:xfrm>
                <a:off x="3063960" y="4998960"/>
                <a:ext cx="1523880" cy="1447920"/>
              </a:xfrm>
              <a:prstGeom prst="ellips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 txBox="1"/>
              <p:nvPr/>
            </p:nvSpPr>
            <p:spPr>
              <a:xfrm>
                <a:off x="3292200" y="5303880"/>
                <a:ext cx="914040" cy="723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0000ff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4</a:t>
                </a:r>
                <a:endParaRPr b="0" lang="en-US" sz="1800" spc="1" strike="noStrike">
                  <a:ln w="0">
                    <a:noFill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2000" fill="hold"/>
                                        <p:tgtEl>
                                          <p:spTgt spid="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1281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 u="sng">
                <a:solidFill>
                  <a:srgbClr val="ff00ff"/>
                </a:solidFill>
                <a:uFillTx/>
                <a:latin typeface="Arial"/>
              </a:rPr>
              <a:t>Phần I</a:t>
            </a:r>
            <a:r>
              <a:rPr b="1" lang="fr-FR" sz="9600" spc="-1" strike="noStrike">
                <a:solidFill>
                  <a:srgbClr val="ff00ff"/>
                </a:solidFill>
                <a:latin typeface="Arial"/>
              </a:rPr>
              <a:t> :</a:t>
            </a:r>
            <a:r>
              <a:rPr b="1" lang="fr-FR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ffffff"/>
                </a:solidFill>
                <a:latin typeface="Arial"/>
              </a:rPr>
              <a:t>Tuyên xưng đức tin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924280"/>
            <a:ext cx="12984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 u="sng">
                <a:solidFill>
                  <a:srgbClr val="ff00ff"/>
                </a:solidFill>
                <a:uFillTx/>
                <a:latin typeface="Arial"/>
              </a:rPr>
              <a:t>Phần II</a:t>
            </a:r>
            <a:r>
              <a:rPr b="1" lang="fr-FR" sz="9600" spc="-1" strike="noStrike">
                <a:solidFill>
                  <a:srgbClr val="ff00ff"/>
                </a:solidFill>
                <a:latin typeface="Arial"/>
              </a:rPr>
              <a:t> :</a:t>
            </a:r>
            <a:r>
              <a:rPr b="1" lang="fr-FR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ffffff"/>
                </a:solidFill>
                <a:latin typeface="Arial"/>
              </a:rPr>
              <a:t>Cử hành mầu nhiệm Kitô giáo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1298412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 u="sng">
                <a:solidFill>
                  <a:srgbClr val="ff00ff"/>
                </a:solidFill>
                <a:uFillTx/>
                <a:latin typeface="Arial"/>
              </a:rPr>
              <a:t>Phần III</a:t>
            </a:r>
            <a:r>
              <a:rPr b="1" lang="fr-FR" sz="9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9600" spc="-1" strike="noStrike">
                <a:solidFill>
                  <a:srgbClr val="ff00ff"/>
                </a:solidFill>
                <a:latin typeface="Arial"/>
              </a:rPr>
              <a:t>:</a:t>
            </a:r>
            <a:r>
              <a:rPr b="1" lang="fr-FR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ffffff"/>
                </a:solidFill>
                <a:latin typeface="Arial"/>
              </a:rPr>
              <a:t>Đời sống trong     Đức Kitô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4389480"/>
            <a:ext cx="12984120" cy="25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 u="sng">
                <a:solidFill>
                  <a:srgbClr val="ff00ff"/>
                </a:solidFill>
                <a:uFillTx/>
                <a:latin typeface="Arial"/>
              </a:rPr>
              <a:t>Phần IV</a:t>
            </a:r>
            <a:r>
              <a:rPr b="1" lang="fr-FR" sz="9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9600" spc="-1" strike="noStrike">
                <a:solidFill>
                  <a:srgbClr val="ff00ff"/>
                </a:solidFill>
                <a:latin typeface="Arial"/>
              </a:rPr>
              <a:t>:</a:t>
            </a:r>
            <a:r>
              <a:rPr b="1" lang="fr-FR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ffffff"/>
                </a:solidFill>
                <a:latin typeface="Arial"/>
              </a:rPr>
              <a:t>Kinh nguyện </a:t>
            </a:r>
            <a:r>
              <a:rPr b="1" lang="fr-FR" sz="8800" spc="-1" strike="noStrike">
                <a:solidFill>
                  <a:srgbClr val="ffffff"/>
                </a:solidFill>
                <a:latin typeface="Arial"/>
              </a:rPr>
              <a:t>Kitô giáo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44440" y="0"/>
            <a:ext cx="1242072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ffffff"/>
                </a:solidFill>
                <a:latin typeface="Arial"/>
              </a:rPr>
              <a:t>Bốn phần này làm thành đời sống đức tin trọn vẹn của người tín hữu và của cả Giáo Hội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5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4T00:16:05Z</dcterms:created>
  <dc:creator>NguyenMinh</dc:creator>
  <dc:description/>
  <dc:language>en-US</dc:language>
  <cp:lastModifiedBy>Nguyen Minh</cp:lastModifiedBy>
  <dcterms:modified xsi:type="dcterms:W3CDTF">2013-02-20T02:16:02Z</dcterms:modified>
  <cp:revision>48</cp:revision>
  <dc:subject/>
  <dc:title>Slide 1</dc:title>
</cp:coreProperties>
</file>