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985750" cy="7408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3720" y="685440"/>
            <a:ext cx="6010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9B63-885D-40A7-87D8-403B903C4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423720" y="685800"/>
            <a:ext cx="601056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194A-38D4-4171-B192-C58C4B81F3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D28-2851-4F2C-9EA4-C6C6ED81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EE7-2277-452A-BD3F-22609032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944-A02C-4716-B18D-A19D85BF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108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108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576-631D-4815-98EE-85A04370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8B6-CECA-4320-845D-E260079C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C32-0602-418E-BC31-4919746B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AE3-6D7A-457E-B56F-D2BD949F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7E0-498B-4958-A7D2-D8D235AF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9440" y="297000"/>
            <a:ext cx="1168560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F5A-09F2-42C7-990F-C1F45BB8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433-E239-43CA-BAD8-D774D1E6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D45-E1E3-47FB-BCFD-237F4CD5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087-E70D-4164-8DD0-C86300D1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70040" indent="-29520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3652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36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9440" y="6744960"/>
            <a:ext cx="303048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D74B-318D-4A17-B9B4-293040DC974E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5200" y="6744960"/>
            <a:ext cx="411300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03840" y="6744960"/>
            <a:ext cx="303084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C9C6-248D-4036-90ED-BE1FF306C203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01840" y="884160"/>
            <a:ext cx="7315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ÀI 8 / 2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ỐNG BÁC ÁI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380200"/>
            <a:ext cx="1298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fr-FR" sz="3600" spc="-1" strike="noStrike">
                <a:solidFill>
                  <a:srgbClr val="ffffff"/>
                </a:solidFill>
                <a:latin typeface="Arial"/>
              </a:rPr>
              <a:t>Chúng ta đừng yêu thương  nơi đầu môi chót lưỡi,  nhưng phải yêu thương  cách chân thật và bằng việc làm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1G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3,18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73188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71. H.- Ta phải làm gì để tôn trọng và      bảo vệ môi trường luân lý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664160" y="2027160"/>
            <a:ext cx="3352680" cy="1008360"/>
            <a:chOff x="4664160" y="2027160"/>
            <a:chExt cx="3352680" cy="1008360"/>
          </a:xfrm>
        </p:grpSpPr>
        <p:sp>
          <p:nvSpPr>
            <p:cNvPr id="96" name=""/>
            <p:cNvSpPr/>
            <p:nvPr/>
          </p:nvSpPr>
          <p:spPr>
            <a:xfrm>
              <a:off x="4664160" y="2027160"/>
              <a:ext cx="3352680" cy="990720"/>
            </a:xfrm>
            <a:prstGeom prst="flowChartAlternateProcess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40120" y="2027160"/>
              <a:ext cx="327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000000"/>
                  </a:solidFill>
                  <a:latin typeface="Arial"/>
                </a:rPr>
                <a:t>sử dụng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89200" y="-25920"/>
            <a:ext cx="3281400" cy="2828160"/>
            <a:chOff x="889200" y="-25920"/>
            <a:chExt cx="3281400" cy="2828160"/>
          </a:xfrm>
        </p:grpSpPr>
        <p:sp>
          <p:nvSpPr>
            <p:cNvPr id="99" name=""/>
            <p:cNvSpPr/>
            <p:nvPr/>
          </p:nvSpPr>
          <p:spPr>
            <a:xfrm rot="2228400">
              <a:off x="858600" y="885600"/>
              <a:ext cx="3352680" cy="990720"/>
            </a:xfrm>
            <a:prstGeom prst="flowChartAlternateProcess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228400">
              <a:off x="853200" y="883800"/>
              <a:ext cx="3352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000000"/>
                  </a:solidFill>
                  <a:latin typeface="Arial"/>
                </a:rPr>
                <a:t>sản xuất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4511520" y="19836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Chỉ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533800" y="312480"/>
            <a:ext cx="3377520" cy="2593440"/>
            <a:chOff x="8533800" y="312480"/>
            <a:chExt cx="3377520" cy="2593440"/>
          </a:xfrm>
        </p:grpSpPr>
        <p:sp>
          <p:nvSpPr>
            <p:cNvPr id="103" name=""/>
            <p:cNvSpPr/>
            <p:nvPr/>
          </p:nvSpPr>
          <p:spPr>
            <a:xfrm rot="19714200">
              <a:off x="8546040" y="1113480"/>
              <a:ext cx="3352680" cy="990720"/>
            </a:xfrm>
            <a:prstGeom prst="flowChartAlternateProcess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9714200">
              <a:off x="8703000" y="1112400"/>
              <a:ext cx="3047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000000"/>
                  </a:solidFill>
                  <a:latin typeface="Arial"/>
                </a:rPr>
                <a:t>trao</a:t>
              </a:r>
              <a:r>
                <a:rPr b="1" lang="fr-FR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6000" spc="-1" strike="noStrike">
                  <a:solidFill>
                    <a:srgbClr val="000000"/>
                  </a:solidFill>
                  <a:latin typeface="Arial"/>
                </a:rPr>
                <a:t>đổi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 txBox="1"/>
          <p:nvPr/>
        </p:nvSpPr>
        <p:spPr>
          <a:xfrm>
            <a:off x="396720" y="1798560"/>
            <a:ext cx="124207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Times New Roman"/>
              </a:rPr>
              <a:t>các văn hóa phẩm phù hợp với luân lý Kitô</a:t>
            </a:r>
            <a:endParaRPr b="1" lang="en-US" sz="1800" spc="1" strike="noStrike">
              <a:ln w="0">
                <a:noFill/>
              </a:ln>
              <a:solidFill>
                <a:srgbClr val="ff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Times New Roman"/>
              </a:rPr>
              <a:t>và đạo đức dân tộc </a:t>
            </a:r>
            <a:endParaRPr b="1" lang="en-US" sz="1800" spc="1" strike="noStrike">
              <a:ln w="0">
                <a:noFill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5608800"/>
            <a:ext cx="12984120" cy="1801800"/>
            <a:chOff x="0" y="5608800"/>
            <a:chExt cx="12984120" cy="1801800"/>
          </a:xfrm>
        </p:grpSpPr>
        <p:sp>
          <p:nvSpPr>
            <p:cNvPr id="107" name=""/>
            <p:cNvSpPr/>
            <p:nvPr/>
          </p:nvSpPr>
          <p:spPr>
            <a:xfrm>
              <a:off x="0" y="5670720"/>
              <a:ext cx="12984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nỗ lực xây dựng nền văn minh         tình thương và văn hóa sự sống.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6720" y="5608800"/>
              <a:ext cx="12039840" cy="17985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8120" y="274680"/>
            <a:ext cx="1281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72. H.- Để              hoạt động bác ái                    tăng thêm hiệu quả, ta cần làm gì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082520" y="2484360"/>
            <a:ext cx="3809880" cy="1219320"/>
            <a:chOff x="1082520" y="2484360"/>
            <a:chExt cx="3809880" cy="1219320"/>
          </a:xfrm>
        </p:grpSpPr>
        <p:sp>
          <p:nvSpPr>
            <p:cNvPr id="111" name=""/>
            <p:cNvSpPr/>
            <p:nvPr/>
          </p:nvSpPr>
          <p:spPr>
            <a:xfrm>
              <a:off x="1082520" y="2560680"/>
              <a:ext cx="3809880" cy="11430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58480" y="2484360"/>
              <a:ext cx="3657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200" spc="-1" strike="noStrike">
                  <a:solidFill>
                    <a:srgbClr val="ff00ff"/>
                  </a:solidFill>
                  <a:latin typeface="Arial"/>
                </a:rPr>
                <a:t>cá nhân</a:t>
              </a:r>
              <a:r>
                <a:rPr b="1" lang="fr-FR" sz="36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616040" y="198360"/>
            <a:ext cx="10134720" cy="1998720"/>
            <a:chOff x="1616040" y="198360"/>
            <a:chExt cx="10134720" cy="1998720"/>
          </a:xfrm>
        </p:grpSpPr>
        <p:sp>
          <p:nvSpPr>
            <p:cNvPr id="114" name=""/>
            <p:cNvSpPr/>
            <p:nvPr/>
          </p:nvSpPr>
          <p:spPr>
            <a:xfrm>
              <a:off x="1616040" y="884160"/>
              <a:ext cx="10134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0" spc="-1" strike="noStrike">
                  <a:solidFill>
                    <a:srgbClr val="ffffff"/>
                  </a:solidFill>
                  <a:latin typeface="Arial"/>
                </a:rPr>
                <a:t>phối hợp hoạt động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5121360" y="198360"/>
              <a:ext cx="26668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Times New Roman"/>
                </a:rPr>
                <a:t>cần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  <p:sp>
        <p:nvSpPr>
          <p:cNvPr id="116" name=""/>
          <p:cNvSpPr txBox="1"/>
          <p:nvPr/>
        </p:nvSpPr>
        <p:spPr>
          <a:xfrm>
            <a:off x="5197320" y="2408400"/>
            <a:ext cx="182592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với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740120" y="4846680"/>
            <a:ext cx="129564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&amp;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788240" y="2560680"/>
            <a:ext cx="3809880" cy="1191240"/>
            <a:chOff x="7788240" y="2560680"/>
            <a:chExt cx="3809880" cy="1191240"/>
          </a:xfrm>
        </p:grpSpPr>
        <p:sp>
          <p:nvSpPr>
            <p:cNvPr id="119" name=""/>
            <p:cNvSpPr/>
            <p:nvPr/>
          </p:nvSpPr>
          <p:spPr>
            <a:xfrm>
              <a:off x="7788240" y="2633400"/>
              <a:ext cx="3809880" cy="1070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69120" y="2560680"/>
              <a:ext cx="327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200" spc="-1" strike="noStrike">
                  <a:solidFill>
                    <a:srgbClr val="ff00ff"/>
                  </a:solidFill>
                  <a:latin typeface="Arial"/>
                </a:rPr>
                <a:t>tập thể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645240" y="4295880"/>
            <a:ext cx="6110280" cy="3111480"/>
            <a:chOff x="6645240" y="4295880"/>
            <a:chExt cx="6110280" cy="3111480"/>
          </a:xfrm>
        </p:grpSpPr>
        <p:sp>
          <p:nvSpPr>
            <p:cNvPr id="122" name=""/>
            <p:cNvSpPr/>
            <p:nvPr/>
          </p:nvSpPr>
          <p:spPr>
            <a:xfrm>
              <a:off x="6645240" y="4295880"/>
              <a:ext cx="611028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ffffff"/>
                  </a:solidFill>
                  <a:latin typeface="Arial"/>
                </a:rPr>
                <a:t>trong các  hiệp hội bác ái như Caritas.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21560" y="4389480"/>
              <a:ext cx="6033960" cy="301788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73040" y="4389480"/>
            <a:ext cx="3429000" cy="3017880"/>
            <a:chOff x="473040" y="4389480"/>
            <a:chExt cx="3429000" cy="3017880"/>
          </a:xfrm>
        </p:grpSpPr>
        <p:sp>
          <p:nvSpPr>
            <p:cNvPr id="125" name=""/>
            <p:cNvSpPr/>
            <p:nvPr/>
          </p:nvSpPr>
          <p:spPr>
            <a:xfrm>
              <a:off x="473040" y="4694400"/>
              <a:ext cx="33530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ffffff"/>
                  </a:solidFill>
                  <a:latin typeface="Arial"/>
                </a:rPr>
                <a:t>trong   giáo xứ</a:t>
              </a: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3040" y="4389480"/>
              <a:ext cx="3429000" cy="301788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-3240"/>
            <a:ext cx="12984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73. H.-                           Đức Thánh Cha          dạy thế nào về            mối liên hệ giữa           đức tin và đức ái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44440" y="0"/>
            <a:ext cx="1273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.- Đức Thánh Cha dạy 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0760" y="1417680"/>
            <a:ext cx="10515600" cy="1739880"/>
            <a:chOff x="320760" y="1417680"/>
            <a:chExt cx="10515600" cy="1739880"/>
          </a:xfrm>
        </p:grpSpPr>
        <p:sp>
          <p:nvSpPr>
            <p:cNvPr id="130" name=""/>
            <p:cNvSpPr/>
            <p:nvPr/>
          </p:nvSpPr>
          <p:spPr>
            <a:xfrm>
              <a:off x="853920" y="1417680"/>
              <a:ext cx="9982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i="1" lang="fr-FR" sz="5400" spc="-1" strike="noStrike">
                  <a:solidFill>
                    <a:srgbClr val="ffffff"/>
                  </a:solidFill>
                  <a:latin typeface="Arial"/>
                </a:rPr>
                <a:t>Đức tin không có đức ái sẽ chẳng mang lại kết quả 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20760" y="15699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*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96720" y="3322800"/>
            <a:ext cx="12587400" cy="1556280"/>
            <a:chOff x="396720" y="3322800"/>
            <a:chExt cx="12587400" cy="1556280"/>
          </a:xfrm>
        </p:grpSpPr>
        <p:sp>
          <p:nvSpPr>
            <p:cNvPr id="133" name=""/>
            <p:cNvSpPr/>
            <p:nvPr/>
          </p:nvSpPr>
          <p:spPr>
            <a:xfrm>
              <a:off x="1082520" y="3322800"/>
              <a:ext cx="11901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4800" spc="-1" strike="noStrike">
                  <a:solidFill>
                    <a:srgbClr val="ff00ff"/>
                  </a:solidFill>
                  <a:latin typeface="Arial"/>
                </a:rPr>
                <a:t>Đức ái không có đức tin, sẽ là một tình cảm luôn phó mặc cho ngờ vực. 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396720" y="339876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*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96720" y="5119560"/>
            <a:ext cx="12435120" cy="2287440"/>
            <a:chOff x="396720" y="5119560"/>
            <a:chExt cx="12435120" cy="2287440"/>
          </a:xfrm>
        </p:grpSpPr>
        <p:sp>
          <p:nvSpPr>
            <p:cNvPr id="136" name=""/>
            <p:cNvSpPr/>
            <p:nvPr/>
          </p:nvSpPr>
          <p:spPr>
            <a:xfrm>
              <a:off x="1082520" y="5119560"/>
              <a:ext cx="117493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4800" spc="-1" strike="noStrike">
                  <a:solidFill>
                    <a:srgbClr val="00ff00"/>
                  </a:solidFill>
                  <a:latin typeface="Arial"/>
                </a:rPr>
                <a:t>Đức tin và đức ái cần có nhau đến mức đức này giúp cho đức kia thể hiện sắc thái của mình »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396720" y="51516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*</a:t>
              </a:r>
              <a:endPara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5556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74. H.- Đức tin           là động lực thúc đẩy người tín hữu        làm gì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78360" y="598968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thực thi bác á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0"/>
            <a:ext cx="12984120" cy="1646280"/>
            <a:chOff x="0" y="0"/>
            <a:chExt cx="12984120" cy="1646280"/>
          </a:xfrm>
        </p:grpSpPr>
        <p:sp>
          <p:nvSpPr>
            <p:cNvPr id="141" name=""/>
            <p:cNvSpPr/>
            <p:nvPr/>
          </p:nvSpPr>
          <p:spPr>
            <a:xfrm>
              <a:off x="0" y="0"/>
              <a:ext cx="12984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T.- Đức tin là động lực thúc đẩy người tín hữu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07160" y="884160"/>
              <a:ext cx="1600200" cy="7621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073240" y="1798560"/>
            <a:ext cx="9236160" cy="1752840"/>
            <a:chOff x="2073240" y="1798560"/>
            <a:chExt cx="9236160" cy="1752840"/>
          </a:xfrm>
        </p:grpSpPr>
        <p:sp>
          <p:nvSpPr>
            <p:cNvPr id="144" name=""/>
            <p:cNvSpPr/>
            <p:nvPr/>
          </p:nvSpPr>
          <p:spPr>
            <a:xfrm>
              <a:off x="2073240" y="1798560"/>
              <a:ext cx="9236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tiến bước trong hiệp thông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07160" y="2789280"/>
              <a:ext cx="1600200" cy="7621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121360" y="3780000"/>
            <a:ext cx="2971800" cy="1904760"/>
            <a:chOff x="5121360" y="3780000"/>
            <a:chExt cx="2971800" cy="1904760"/>
          </a:xfrm>
        </p:grpSpPr>
        <p:sp>
          <p:nvSpPr>
            <p:cNvPr id="147" name=""/>
            <p:cNvSpPr txBox="1"/>
            <p:nvPr/>
          </p:nvSpPr>
          <p:spPr>
            <a:xfrm>
              <a:off x="5121360" y="3780000"/>
              <a:ext cx="2971800" cy="81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Verdana"/>
                </a:rPr>
                <a:t>để</a:t>
              </a:r>
              <a:endPara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  <a:ea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83120" y="4923000"/>
              <a:ext cx="1600200" cy="7617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1298268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7960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67. H.- Vì sao phải  tôn trọng sự sống con người và bảo vệ thai nhi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759040" y="274680"/>
            <a:ext cx="5562720" cy="1905120"/>
            <a:chOff x="2759040" y="274680"/>
            <a:chExt cx="5562720" cy="1905120"/>
          </a:xfrm>
        </p:grpSpPr>
        <p:sp>
          <p:nvSpPr>
            <p:cNvPr id="52" name=""/>
            <p:cNvSpPr txBox="1"/>
            <p:nvPr/>
          </p:nvSpPr>
          <p:spPr>
            <a:xfrm>
              <a:off x="2759040" y="274680"/>
              <a:ext cx="3581280" cy="143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vì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6645240" y="502920"/>
              <a:ext cx="1905120" cy="1447920"/>
            </a:xfrm>
            <a:custGeom>
              <a:avLst/>
              <a:gdLst>
                <a:gd name="textAreaLeft" fmla="*/ 237960 w 1905120"/>
                <a:gd name="textAreaRight" fmla="*/ 1667160 w 1905120"/>
                <a:gd name="textAreaTop" fmla="*/ 361800 h 1447920"/>
                <a:gd name="textAreaBottom" fmla="*/ 10861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8120" y="2467080"/>
            <a:ext cx="6096240" cy="4940280"/>
            <a:chOff x="168120" y="2467080"/>
            <a:chExt cx="6096240" cy="4940280"/>
          </a:xfrm>
        </p:grpSpPr>
        <p:sp>
          <p:nvSpPr>
            <p:cNvPr id="55" name=""/>
            <p:cNvSpPr/>
            <p:nvPr/>
          </p:nvSpPr>
          <p:spPr>
            <a:xfrm>
              <a:off x="168120" y="2467080"/>
              <a:ext cx="6096240" cy="49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con người được        </a:t>
              </a:r>
              <a:r>
                <a:rPr b="1" lang="fr-FR" sz="6600" spc="-1" strike="noStrike">
                  <a:solidFill>
                    <a:srgbClr val="ffffff"/>
                  </a:solidFill>
                  <a:latin typeface="Arial"/>
                </a:rPr>
                <a:t>Thiên Chúa tạo dựng   theo hình ảnh của Ngài 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6720" y="2484360"/>
              <a:ext cx="5562720" cy="492300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264360" y="2484360"/>
            <a:ext cx="6719760" cy="4923000"/>
            <a:chOff x="6264360" y="2484360"/>
            <a:chExt cx="6719760" cy="4923000"/>
          </a:xfrm>
        </p:grpSpPr>
        <p:sp>
          <p:nvSpPr>
            <p:cNvPr id="58" name=""/>
            <p:cNvSpPr/>
            <p:nvPr/>
          </p:nvSpPr>
          <p:spPr>
            <a:xfrm>
              <a:off x="6338880" y="2637000"/>
              <a:ext cx="6645240" cy="44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sự sống con người </a:t>
              </a:r>
              <a:r>
                <a:rPr b="1" i="1" lang="fr-FR" sz="2400" spc="-1" strike="noStrike">
                  <a:solidFill>
                    <a:srgbClr val="ff00ff"/>
                  </a:solidFill>
                  <a:latin typeface="Arial"/>
                </a:rPr>
                <a:t>(từ lúc thụ thai cho đến khi chết tự nhiên)</a:t>
              </a: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6600" spc="-1" strike="noStrike">
                  <a:solidFill>
                    <a:srgbClr val="ffffff"/>
                  </a:solidFill>
                  <a:latin typeface="Arial"/>
                </a:rPr>
                <a:t>luôn thuộc quyền        Thiên Chúa.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64360" y="2484360"/>
              <a:ext cx="6719760" cy="492300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417680"/>
            <a:ext cx="1298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68. H.- Phải chăm sóc người hấp hối         thế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63960" y="118908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* việc cầu nguyệ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2332080"/>
            <a:ext cx="1021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* giúp lãnh nhận các bí tí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87640" y="35514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* ân cần phục vụ các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nhu cầu thể xác</a:t>
            </a:r>
            <a:r>
              <a:rPr b="0" lang="fr-F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608800"/>
            <a:ext cx="1298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ff"/>
                </a:solidFill>
                <a:latin typeface="Arial"/>
              </a:rPr>
              <a:t>để chuẩn bị họ gặp gỡ Thiên Chúa hằng sống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760" y="0"/>
            <a:ext cx="1266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T.- Phải nâng đỡ người hấp hố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44440" y="1112760"/>
            <a:ext cx="2743200" cy="4038840"/>
            <a:chOff x="244440" y="1112760"/>
            <a:chExt cx="2743200" cy="4038840"/>
          </a:xfrm>
        </p:grpSpPr>
        <p:sp>
          <p:nvSpPr>
            <p:cNvPr id="67" name=""/>
            <p:cNvSpPr txBox="1"/>
            <p:nvPr/>
          </p:nvSpPr>
          <p:spPr>
            <a:xfrm>
              <a:off x="244440" y="1112760"/>
              <a:ext cx="1981080" cy="33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Verdana"/>
                </a:rPr>
                <a:t>bằng</a:t>
              </a:r>
              <a:endPara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  <a:ea typeface="Verdana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2454120" y="1112760"/>
              <a:ext cx="533520" cy="403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{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-3240"/>
            <a:ext cx="12984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69. H.- Gia đình và Giáo xứ cần quan tâm thế nào đối với các bệnh nhân mắc bệnh hiểm nghè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25320" y="0"/>
            <a:ext cx="11887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T.- Gia đình và Giáo xứ                                                                          cần mặc lấy tâm tình và thái độ                                                                 của Chúa Kitô đối với bệnh nhân</a:t>
            </a: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2789280"/>
            <a:ext cx="12984120" cy="4191120"/>
            <a:chOff x="0" y="2789280"/>
            <a:chExt cx="12984120" cy="419112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9671040" y="3094200"/>
              <a:ext cx="3313080" cy="35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0" y="2941560"/>
              <a:ext cx="337356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 txBox="1"/>
            <p:nvPr/>
          </p:nvSpPr>
          <p:spPr>
            <a:xfrm>
              <a:off x="5045040" y="2789280"/>
              <a:ext cx="2895480" cy="12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Verdana"/>
                </a:rPr>
                <a:t>để </a:t>
              </a:r>
              <a:endPara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  <a:ea typeface="Verdana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521160" y="4313160"/>
            <a:ext cx="6095880" cy="916920"/>
            <a:chOff x="3521160" y="4313160"/>
            <a:chExt cx="6095880" cy="916920"/>
          </a:xfrm>
        </p:grpSpPr>
        <p:sp>
          <p:nvSpPr>
            <p:cNvPr id="76" name=""/>
            <p:cNvSpPr/>
            <p:nvPr/>
          </p:nvSpPr>
          <p:spPr>
            <a:xfrm>
              <a:off x="3521160" y="4313160"/>
              <a:ext cx="609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ân cần giúp đỡ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3521160" y="4541760"/>
              <a:ext cx="4572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*</a:t>
              </a:r>
              <a:endPara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521160" y="5303880"/>
            <a:ext cx="5790960" cy="916920"/>
            <a:chOff x="3521160" y="5303880"/>
            <a:chExt cx="5790960" cy="916920"/>
          </a:xfrm>
        </p:grpSpPr>
        <p:sp>
          <p:nvSpPr>
            <p:cNvPr id="79" name=""/>
            <p:cNvSpPr/>
            <p:nvPr/>
          </p:nvSpPr>
          <p:spPr>
            <a:xfrm>
              <a:off x="4130640" y="5303880"/>
              <a:ext cx="518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không xa tránh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3521160" y="5532480"/>
              <a:ext cx="45720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*</a:t>
              </a:r>
              <a:endPara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521160" y="6294600"/>
            <a:ext cx="8458200" cy="916920"/>
            <a:chOff x="3521160" y="6294600"/>
            <a:chExt cx="8458200" cy="916920"/>
          </a:xfrm>
        </p:grpSpPr>
        <p:sp>
          <p:nvSpPr>
            <p:cNvPr id="82" name=""/>
            <p:cNvSpPr/>
            <p:nvPr/>
          </p:nvSpPr>
          <p:spPr>
            <a:xfrm>
              <a:off x="4130640" y="629460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không phân biệt đối xử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521160" y="6523200"/>
              <a:ext cx="45720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9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*</a:t>
              </a:r>
              <a:endPara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80820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70. H.- Ta phải làm gì để tôn trọng và      bảo vệ môi trường thiên nhiên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4130640" y="198360"/>
            <a:ext cx="4952880" cy="1981440"/>
            <a:chOff x="4130640" y="198360"/>
            <a:chExt cx="4952880" cy="1981440"/>
          </a:xfrm>
        </p:grpSpPr>
        <p:sp>
          <p:nvSpPr>
            <p:cNvPr id="86" name=""/>
            <p:cNvSpPr txBox="1"/>
            <p:nvPr/>
          </p:nvSpPr>
          <p:spPr>
            <a:xfrm>
              <a:off x="4130640" y="198360"/>
              <a:ext cx="4952880" cy="94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Ta phải </a:t>
              </a:r>
              <a:endPara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78560" y="1341360"/>
              <a:ext cx="182880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0" y="2332080"/>
            <a:ext cx="6188040" cy="4267080"/>
            <a:chOff x="0" y="2332080"/>
            <a:chExt cx="6188040" cy="4267080"/>
          </a:xfrm>
        </p:grpSpPr>
        <p:sp>
          <p:nvSpPr>
            <p:cNvPr id="89" name=""/>
            <p:cNvSpPr/>
            <p:nvPr/>
          </p:nvSpPr>
          <p:spPr>
            <a:xfrm>
              <a:off x="0" y="2332080"/>
              <a:ext cx="6188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có tinh thần trách nhiệm khi           sử dụng bầu không khí, nguồn nước, và đất đai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8120" y="2408400"/>
              <a:ext cx="5867640" cy="419076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797520" y="2332080"/>
            <a:ext cx="5867640" cy="4208760"/>
            <a:chOff x="6797520" y="2332080"/>
            <a:chExt cx="5867640" cy="4208760"/>
          </a:xfrm>
        </p:grpSpPr>
        <p:sp>
          <p:nvSpPr>
            <p:cNvPr id="92" name=""/>
            <p:cNvSpPr/>
            <p:nvPr/>
          </p:nvSpPr>
          <p:spPr>
            <a:xfrm>
              <a:off x="6797520" y="2332080"/>
              <a:ext cx="579132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tích cực góp phần xây dựng  môi trường sống lành mạnh   cho mọi người.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97520" y="2332080"/>
              <a:ext cx="5867640" cy="419112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16:05Z</dcterms:created>
  <dc:creator>NguyenMinh</dc:creator>
  <dc:description/>
  <dc:language>en-US</dc:language>
  <cp:lastModifiedBy>Nguyen Minh</cp:lastModifiedBy>
  <dcterms:modified xsi:type="dcterms:W3CDTF">2013-02-20T13:47:34Z</dcterms:modified>
  <cp:revision>47</cp:revision>
  <dc:subject/>
  <dc:title>Slide 1</dc:title>
</cp:coreProperties>
</file>