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5307-C27D-40D1-AA10-CF67F57D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DFF1-F3BA-4493-AD81-6F193F12E0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0D1-AF84-4A7E-BECE-F817F464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C55-63C9-4A74-A199-9F4D2E3E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14B-2438-47B4-8CCC-9C4336DE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F7C-2D34-44CB-8497-A6CEA588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DD3-64CD-4C85-9B81-7F74366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8B7-1EC3-4DEE-8362-EB1EF96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9EC-5575-48BC-AEA6-88A9FC57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D2C-7925-4633-AA38-5FBA6709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AAD-55FB-4DD0-9A56-0B66B6BF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3F2-CD9E-4FA8-8860-D1C8434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EA1-A8FD-499B-BFD5-1CBE2095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CAE-A0DF-4EB9-8F00-CF91BEB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27E-E2C3-4EAB-B518-B4A0BE74F061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46C-2279-4391-814E-55E0CCE538D1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06560" y="503280"/>
            <a:ext cx="10667880" cy="40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9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ĐỨC MARIA,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ẪU GƯƠNG SỐNG ĐỨC TIN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RONG HIỆP THÔNG VÀ BÁC ÁI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440" y="5227560"/>
            <a:ext cx="124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húc cho bà vì bà đã tin rằng                                         lời Chúa phán cùng bà sẽ được thực hiệ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,4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8120" y="1417680"/>
            <a:ext cx="1281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0e500"/>
                </a:solidFill>
                <a:latin typeface="Arial"/>
              </a:rPr>
              <a:t>79. H.- Đức Maria dạy chúng ta sống tình  hiệp thông ra sao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26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.- Đức Maria dạy chúng t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73640" y="5151600"/>
            <a:ext cx="17589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để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360" y="5346720"/>
            <a:ext cx="11430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kiến tạo cộng đoàn yêu thương và hiệp nhấ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01640" y="1112760"/>
            <a:ext cx="11963520" cy="1008360"/>
            <a:chOff x="701640" y="1112760"/>
            <a:chExt cx="11963520" cy="1008360"/>
          </a:xfrm>
        </p:grpSpPr>
        <p:sp>
          <p:nvSpPr>
            <p:cNvPr id="90" name=""/>
            <p:cNvSpPr/>
            <p:nvPr/>
          </p:nvSpPr>
          <p:spPr>
            <a:xfrm>
              <a:off x="1311120" y="1112760"/>
              <a:ext cx="11354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ff"/>
                  </a:solidFill>
                  <a:latin typeface="Arial"/>
                </a:rPr>
                <a:t>vượt ra khỏi cách sống ích kỷ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701640" y="1417680"/>
              <a:ext cx="363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58840" y="2103480"/>
            <a:ext cx="11353680" cy="1008360"/>
            <a:chOff x="1158840" y="2103480"/>
            <a:chExt cx="11353680" cy="1008360"/>
          </a:xfrm>
        </p:grpSpPr>
        <p:sp>
          <p:nvSpPr>
            <p:cNvPr id="93" name=""/>
            <p:cNvSpPr/>
            <p:nvPr/>
          </p:nvSpPr>
          <p:spPr>
            <a:xfrm>
              <a:off x="1996920" y="2103480"/>
              <a:ext cx="1051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hòa đồng với tha nhân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158840" y="2408400"/>
              <a:ext cx="363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39720" y="3170160"/>
            <a:ext cx="10972800" cy="1922760"/>
            <a:chOff x="1539720" y="3170160"/>
            <a:chExt cx="10972800" cy="1922760"/>
          </a:xfrm>
        </p:grpSpPr>
        <p:sp>
          <p:nvSpPr>
            <p:cNvPr id="96" name=""/>
            <p:cNvSpPr/>
            <p:nvPr/>
          </p:nvSpPr>
          <p:spPr>
            <a:xfrm>
              <a:off x="2149200" y="3170160"/>
              <a:ext cx="10363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ff00"/>
                  </a:solidFill>
                  <a:latin typeface="Arial"/>
                </a:rPr>
                <a:t>hòa nhịp với  Giáo Hội trong các biến cố vui buồn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539720" y="3474720"/>
              <a:ext cx="3636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8120" y="1494000"/>
            <a:ext cx="1281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0e500"/>
                </a:solidFill>
                <a:latin typeface="Arial"/>
              </a:rPr>
              <a:t>80. H.- Đức Maria đã sống cuộc đời bác ái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30440" y="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T.- Đức Maria đã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49360" y="1112760"/>
            <a:ext cx="12115800" cy="1922760"/>
            <a:chOff x="549360" y="1112760"/>
            <a:chExt cx="12115800" cy="1922760"/>
          </a:xfrm>
        </p:grpSpPr>
        <p:sp>
          <p:nvSpPr>
            <p:cNvPr id="101" name=""/>
            <p:cNvSpPr/>
            <p:nvPr/>
          </p:nvSpPr>
          <p:spPr>
            <a:xfrm>
              <a:off x="1463760" y="1112760"/>
              <a:ext cx="11201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mau mắn tới thăm và ở lại giúp đỡ  bà chị họ Isave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360" y="1494000"/>
              <a:ext cx="533160" cy="533160"/>
            </a:xfrm>
            <a:custGeom>
              <a:avLst/>
              <a:gdLst>
                <a:gd name="textAreaLeft" fmla="*/ 125280 w 533160"/>
                <a:gd name="textAreaRight" fmla="*/ 407520 w 533160"/>
                <a:gd name="textAreaTop" fmla="*/ 62640 h 533160"/>
                <a:gd name="textAreaBottom" fmla="*/ 334440 h 533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49360" y="3170160"/>
            <a:ext cx="12115800" cy="1922760"/>
            <a:chOff x="549360" y="3170160"/>
            <a:chExt cx="12115800" cy="1922760"/>
          </a:xfrm>
        </p:grpSpPr>
        <p:sp>
          <p:nvSpPr>
            <p:cNvPr id="104" name=""/>
            <p:cNvSpPr/>
            <p:nvPr/>
          </p:nvSpPr>
          <p:spPr>
            <a:xfrm>
              <a:off x="1539720" y="3170160"/>
              <a:ext cx="11125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tế nhị trợ giúp đôi tân hôn ở Cana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360" y="3475080"/>
              <a:ext cx="533160" cy="533520"/>
            </a:xfrm>
            <a:custGeom>
              <a:avLst/>
              <a:gdLst>
                <a:gd name="textAreaLeft" fmla="*/ 125280 w 533160"/>
                <a:gd name="textAreaRight" fmla="*/ 407520 w 533160"/>
                <a:gd name="textAreaTop" fmla="*/ 62640 h 533520"/>
                <a:gd name="textAreaBottom" fmla="*/ 334800 h 533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25320" y="5151600"/>
            <a:ext cx="12130200" cy="1922760"/>
            <a:chOff x="625320" y="5151600"/>
            <a:chExt cx="12130200" cy="1922760"/>
          </a:xfrm>
        </p:grpSpPr>
        <p:sp>
          <p:nvSpPr>
            <p:cNvPr id="107" name=""/>
            <p:cNvSpPr/>
            <p:nvPr/>
          </p:nvSpPr>
          <p:spPr>
            <a:xfrm>
              <a:off x="1539720" y="5151600"/>
              <a:ext cx="1121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ân cần chăm sóc các Tông đồ và Giáo Hội sơ khai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5320" y="5456160"/>
              <a:ext cx="533520" cy="533520"/>
            </a:xfrm>
            <a:custGeom>
              <a:avLst/>
              <a:gdLst>
                <a:gd name="textAreaLeft" fmla="*/ 125280 w 533520"/>
                <a:gd name="textAreaRight" fmla="*/ 407880 w 533520"/>
                <a:gd name="textAreaTop" fmla="*/ 62640 h 533520"/>
                <a:gd name="textAreaBottom" fmla="*/ 334800 h 533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4440" y="1112760"/>
            <a:ext cx="1273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0e500"/>
                </a:solidFill>
                <a:latin typeface="Arial"/>
              </a:rPr>
              <a:t>81. H.- Gương sống bác ái của Mẹ dạy chúng ta điều gì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298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.- Gương sống bác ái của Mẹ dạy chúng ta biế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797520" y="3322800"/>
            <a:ext cx="5715000" cy="3886200"/>
            <a:chOff x="6797520" y="3322800"/>
            <a:chExt cx="5715000" cy="3886200"/>
          </a:xfrm>
        </p:grpSpPr>
        <p:sp>
          <p:nvSpPr>
            <p:cNvPr id="112" name=""/>
            <p:cNvSpPr/>
            <p:nvPr/>
          </p:nvSpPr>
          <p:spPr>
            <a:xfrm>
              <a:off x="6797520" y="3398760"/>
              <a:ext cx="5715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cảm thông,     giúp đỡ những người gặp khó khăn xác hồn.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97520" y="3322800"/>
              <a:ext cx="5715000" cy="388620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3040" y="3322800"/>
            <a:ext cx="5715000" cy="3886200"/>
            <a:chOff x="473040" y="3322800"/>
            <a:chExt cx="5715000" cy="3886200"/>
          </a:xfrm>
        </p:grpSpPr>
        <p:sp>
          <p:nvSpPr>
            <p:cNvPr id="115" name=""/>
            <p:cNvSpPr/>
            <p:nvPr/>
          </p:nvSpPr>
          <p:spPr>
            <a:xfrm>
              <a:off x="930240" y="3780000"/>
              <a:ext cx="4876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chia vui sẻ buồn với tha nhân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040" y="3322800"/>
              <a:ext cx="5715000" cy="388620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8082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0e500"/>
                </a:solidFill>
                <a:latin typeface="Arial"/>
              </a:rPr>
              <a:t>82. H.- Chúng ta có thể cầu nguyện với Mẹ thế nào trong  Năm Đức Tin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3040" y="0"/>
            <a:ext cx="11750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.- Chúng ta có thể dâng lên Mẹ lời cầu nguyện này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8120" y="1646280"/>
            <a:ext cx="9541080" cy="647640"/>
            <a:chOff x="168120" y="1646280"/>
            <a:chExt cx="9541080" cy="647640"/>
          </a:xfrm>
        </p:grpSpPr>
        <p:sp>
          <p:nvSpPr>
            <p:cNvPr id="120" name=""/>
            <p:cNvSpPr/>
            <p:nvPr/>
          </p:nvSpPr>
          <p:spPr>
            <a:xfrm>
              <a:off x="777960" y="1646280"/>
              <a:ext cx="893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Lạy Mẹ Maria, Mẹ được chúc phúc vì đã tin.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68120" y="1722600"/>
              <a:ext cx="4399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3040" y="2332080"/>
            <a:ext cx="12801600" cy="1068840"/>
            <a:chOff x="473040" y="2332080"/>
            <a:chExt cx="12801600" cy="1068840"/>
          </a:xfrm>
        </p:grpSpPr>
        <p:sp>
          <p:nvSpPr>
            <p:cNvPr id="123" name=""/>
            <p:cNvSpPr/>
            <p:nvPr/>
          </p:nvSpPr>
          <p:spPr>
            <a:xfrm>
              <a:off x="1158840" y="2332080"/>
              <a:ext cx="1211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Xin giúp chúng con luôn tin những lời Chúa dạy và Hội Thánh truyền,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73040" y="2484360"/>
              <a:ext cx="439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58840" y="4160880"/>
            <a:ext cx="11201400" cy="1068840"/>
            <a:chOff x="1158840" y="4160880"/>
            <a:chExt cx="11201400" cy="1068840"/>
          </a:xfrm>
        </p:grpSpPr>
        <p:sp>
          <p:nvSpPr>
            <p:cNvPr id="126" name=""/>
            <p:cNvSpPr/>
            <p:nvPr/>
          </p:nvSpPr>
          <p:spPr>
            <a:xfrm>
              <a:off x="1692360" y="4160880"/>
              <a:ext cx="10667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biết quan tâm đến nhu cầu của mọi người anh chị em chung quanh chúng c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158840" y="4160880"/>
              <a:ext cx="4399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53920" y="3398760"/>
            <a:ext cx="11901600" cy="657720"/>
            <a:chOff x="853920" y="3398760"/>
            <a:chExt cx="11901600" cy="657720"/>
          </a:xfrm>
        </p:grpSpPr>
        <p:sp>
          <p:nvSpPr>
            <p:cNvPr id="129" name=""/>
            <p:cNvSpPr/>
            <p:nvPr/>
          </p:nvSpPr>
          <p:spPr>
            <a:xfrm>
              <a:off x="1463760" y="3475080"/>
              <a:ext cx="1129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biết phó thác mọi sự cho tình yêu quan phòng của Chúa,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853920" y="3398760"/>
              <a:ext cx="439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692360" y="5303880"/>
            <a:ext cx="8305200" cy="657720"/>
            <a:chOff x="1692360" y="5303880"/>
            <a:chExt cx="8305200" cy="657720"/>
          </a:xfrm>
        </p:grpSpPr>
        <p:sp>
          <p:nvSpPr>
            <p:cNvPr id="132" name=""/>
            <p:cNvSpPr/>
            <p:nvPr/>
          </p:nvSpPr>
          <p:spPr>
            <a:xfrm>
              <a:off x="2301840" y="5380200"/>
              <a:ext cx="769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nhờ đó họ sẽ được nhận biết Chúa,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692360" y="5303880"/>
              <a:ext cx="4395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073240" y="6141960"/>
            <a:ext cx="9905760" cy="1068840"/>
            <a:chOff x="2073240" y="6141960"/>
            <a:chExt cx="9905760" cy="1068840"/>
          </a:xfrm>
        </p:grpSpPr>
        <p:sp>
          <p:nvSpPr>
            <p:cNvPr id="135" name=""/>
            <p:cNvSpPr/>
            <p:nvPr/>
          </p:nvSpPr>
          <p:spPr>
            <a:xfrm>
              <a:off x="2606400" y="6141960"/>
              <a:ext cx="937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để chính họ cũng nhận được ơn đức tin đem lại sự sống đời đời”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073240" y="6141960"/>
              <a:ext cx="4395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17680"/>
            <a:ext cx="12984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ập sách nhỏ này không muốn có lời kết. Thay vào đó là một ước mong. Mong sao các tín hữu trong Giáo phận tìm hiểu ở nơi khác những điều trình bày chưa rõ ràng, hoặc không được trình bày ở đây, để hiểu và sống tích cực chủ đề năm 2013 như         Đức Giám mục Giáo phận mong mỏ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guyện xin Đức Trinh Nữ Maria, Đấng đã lắng nghe và thực hành Lời Chúa giúp chúng con làm việc trọng đại và cấp thiết nà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197320" y="0"/>
            <a:ext cx="20955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LỜI KẾ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98560"/>
            <a:ext cx="1298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0e500"/>
                </a:solidFill>
                <a:latin typeface="Arial"/>
              </a:rPr>
              <a:t>75. H.- Đức Maria đã sống đức tin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4440" y="5151600"/>
            <a:ext cx="125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uẩn bị Mừng Kim Khánh Giáo Phậ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Ngũ niên 2011 – 201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44640" y="503280"/>
            <a:ext cx="9296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INH CẦU NGUYỆN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HO GIÁO PHẬN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0"/>
            <a:ext cx="12984120" cy="10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Laïy Thieân Chuùa giaøu loøng thöông xoùt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chuùng con caûm taï Chuùa ñaõ qui tuï chuùng con thaønh gia ñình Giaùo Phaän 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 </a:t>
            </a:r>
            <a:r>
              <a:rPr b="1" lang="en-US" sz="8400" spc="-1" strike="noStrike">
                <a:solidFill>
                  <a:srgbClr val="ffffff"/>
                </a:solidFill>
                <a:latin typeface="VNI-Helve-Condense"/>
              </a:rPr>
              <a:t>vaø haèng hieän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0"/>
            <a:ext cx="12984120" cy="9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dieän chaêm soùc töøng ngöôøi chuùng con.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Chuùa ñang daãn chuùng con vaøo haønh trình tieán veà hoàng aân</a:t>
            </a:r>
            <a:r>
              <a:rPr b="1" lang="en-US" sz="9100" spc="-1" strike="noStrike">
                <a:solidFill>
                  <a:srgbClr val="ffffff"/>
                </a:solidFill>
                <a:latin typeface="VNI-Helve-Condense"/>
              </a:rPr>
              <a:t>         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Kim Khaùnh Giaùo Phaä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0"/>
            <a:ext cx="12984120" cy="10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Khi</a:t>
            </a: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môøi goïi chuùng con noã löïc canh taân ñôøi soáng ñöùc tin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ñeå gia ñình vaø giaùo xöù trôû thaønh coäng ñoaøn Lôøi Chuùa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coäng ñoaøn Phuïn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12984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Töï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coäng ñoaøn Yeâu Thöông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coäng ñoaøn Truyeàn Giaùo 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vaø coäng ñoaøn Thaùnh Theå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.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Laïy Chuùa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,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xin cho chuùng co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0"/>
            <a:ext cx="12984120" cy="108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bieát yeâu meán vaø soáng Lôøi Chuùa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,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ñeå chuùng con luoân böôùc ñi trong aùnh saùng söï thaät vaø tình yeâu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.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Xin cho Lôøi Chuùa thaám nhuaàn moïi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0"/>
            <a:ext cx="12984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suy nghó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lôøi noùi 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vaø haønh ñoäng cuûa chuùng con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ñeå cuoäc ñôøi chuùng con troå sinh nhieàu hoa traùi thaùnh thieän.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 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Xin ch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12984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chuùng con bieát soát saéng caàu nguyeän chung vôùi nhau nôi gia ñình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sieâng naêng tham döï Phuïng Vuï cuûa Hoäi Thaùnh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vaø laøm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12984120" cy="108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cho Thaùnh leã trôû thaønh trung taâm ñôøi soáng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ñeå chuùng con ngaøy caøng hieäp nhaát vôùi Chuùa hôn.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Nhôø Lôøi Chuùa vaø caùc Bí Tích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12984120" cy="108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nuoâi döôõng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xin giuùp chuùng con luoân soáng hieäp nhaát vaø yeâu thöông.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Xin ñoå traøn Chuùa Thaùnh Thaàn treân chuùng con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thuùc ñaå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31880"/>
            <a:ext cx="1298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.- Đức Maria đã hoàn toàn 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tin tưởng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vào quyền năng và tình yêu Thiên Chúa, nên đã 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phó thác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trọn bản thân và đời mình để Chúa dẫn dắt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12984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chuùng con nhieät thaønh tieáp noái söù maïng phuïc vuï vaø yeâu thöông cuûa Hoäi Thaùnh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bieát cuøng nhau xaây döïng neàn vaên minh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0"/>
            <a:ext cx="12984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tình thöông vaø vaên hoùa söï soáng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ñeå moïi ngöôøi tin nhaän Ñöùc Gieâsu Kitoâ laø Ñaáng Cöùu Ñoä duy nhaát.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 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Nhôø lôøi chuyeån caàu cuû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2984120" cy="9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300" spc="-1" strike="noStrike">
                <a:solidFill>
                  <a:srgbClr val="ffffff"/>
                </a:solidFill>
                <a:latin typeface="VNI-Helve-Condense"/>
              </a:rPr>
              <a:t>Ñöùc Maria Voâ Nhieãm Nguyeân Toäi,</a:t>
            </a:r>
            <a:r>
              <a:rPr b="1" lang="en-US" sz="83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300" spc="-1" strike="noStrike">
                <a:solidFill>
                  <a:srgbClr val="ffffff"/>
                </a:solidFill>
                <a:latin typeface="VNI-Helve-Condense"/>
              </a:rPr>
              <a:t> thaùnh caû Giuse </a:t>
            </a:r>
            <a:r>
              <a:rPr b="1" lang="en-US" sz="83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300" spc="-1" strike="noStrike">
                <a:solidFill>
                  <a:srgbClr val="ffffff"/>
                </a:solidFill>
                <a:latin typeface="VNI-Helve-Condense"/>
              </a:rPr>
              <a:t> vaø caùc thaùnh Töû Ñaïo Vieät Nam,</a:t>
            </a:r>
            <a:r>
              <a:rPr b="1" lang="en-US" sz="83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300" spc="-1" strike="noStrike">
                <a:solidFill>
                  <a:srgbClr val="ffffff"/>
                </a:solidFill>
                <a:latin typeface="VNI-Helve-Condense"/>
              </a:rPr>
              <a:t> xin Chuùa chuùc laønh cho moïi coá gaéng cuûa chuùng con,</a:t>
            </a:r>
            <a:r>
              <a:rPr b="1" lang="en-US" sz="83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300" spc="-1" strike="noStrike">
                <a:solidFill>
                  <a:srgbClr val="ffffff"/>
                </a:solidFill>
                <a:latin typeface="VNI-Helve-Condense"/>
              </a:rPr>
              <a:t> nhaèm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231840"/>
            <a:ext cx="12984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8800" spc="-1" strike="noStrike" u="sng">
                <a:solidFill>
                  <a:srgbClr val="ff00ff"/>
                </a:solidFill>
                <a:uFillTx/>
                <a:latin typeface="VNI-Helve-Condense"/>
              </a:rPr>
              <a:t>Xaây döïng gia ñình vaø giaùo xöù thaønh gia ñình cuûa Thieân Chuùa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,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 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neân daáu chæ tình yeâu vaø hy voïng cho theá giôùi hoâm nay.</a:t>
            </a:r>
            <a:r>
              <a:rPr b="1" lang="en-US" sz="88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8800" spc="-1" strike="noStrike">
                <a:solidFill>
                  <a:srgbClr val="ffffff"/>
                </a:solidFill>
                <a:latin typeface="VNI-Helve-Condense"/>
              </a:rPr>
              <a:t> Amen.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53920" y="1112760"/>
            <a:ext cx="111254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INH NĂM ĐỨC TI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Laïy Chuùa laø Cha chí thaùnh, laø Thieân Chuùa toaøn naêng haèng höõu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 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chuùng con caûm taï Chuùa ñaõ ban cho chuùng c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ôn ñöùc tin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nhôø ñoù chuùng con ñöôïc nhaän bieát vaø thöïc haønh nhöõng ñieàu Chuùa daïy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haàu ñem laïi cho chuùng c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12984120" cy="11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haïnh phuùc ñôøi naøy vaø ñôøi sau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Laïy Chuùa Gieâsu Kitoâ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Chuùa laø ñöôøng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laø söï thaät vaø laø söï soáng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Ai tin Chuùa se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tìm thaáy ñöôøng ñi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tìm ra chaân lyù vaø tìm ñöôïc söï soáng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Chuùng con caûm taï Chuùa ñaõ ñeán rao giaûng Tin Möøng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daï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2984120" cy="11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chuùng con nhöõng ñieàu phaûi tin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nhöõng vieäc phaûi laøm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ñeå ñöôïc soáng vaø soáng doài daøo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Xin naâng ñôõ ñöùc tin yeá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8120" y="1189080"/>
            <a:ext cx="12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0e500"/>
                </a:solidFill>
                <a:latin typeface="Arial"/>
              </a:rPr>
              <a:t>76. H.- Con đường sống đức tin của Mẹ là con đường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keùm cuûa chuùng con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ñeå chuùng con luoân bieát tín thaùc vaøo tình thöông cuûa Chuùa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saün saøng daán thaân loan baùo T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Möøng cho moïi loaøi thuï taïo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theo leänh Chuùa truyeàn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Laïy Chuùa Thaùnh Thaàn laø Ñaáng höôùng daãn moïi loaøi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xin khôi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12984120" cy="11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laïi cho chuùng con nhöõng ñieàu chuùng con phaûi tin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nhöõng vieäc phaûi laøm 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 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ñeå ñöùc tin cuûa chuùng con moãi ngaø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theâm saâu saéc vaø tröôûng thaønh hôn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Xin ban cho chuùng con bieát can ñaûm tuyeân xöng ñöùc tin tröôùc maët moïi ngöôøi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12984120" cy="11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bieát yù thöùc cöû haønh ñöùc tin trong caùc nghi leã phuïng vuï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thöïc haønh ñöùc tin trong cuoäc soáng haèng ngaøy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 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ñeå coù theå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2984120" cy="11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thoâng truyeàn ñöùc tin ñoù laïi cho con chaùu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vaø taát caû moïi ngöôøi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ñaëc bieät laø nhöõng ngöôøi chöa nhaän bieát Chuùa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Laï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Meï Maria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Meï ñöôïc chuùc phuùc vì ñaõ tin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Xin giuùp chuùng con luoân tin nhöõng lôøi Chuùa daïy vaø Hoäi Thaùnh truyeàn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bieát phoù thaùc moïi söï cho tình yeâu quan phoøng cuûa Chuùa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bieát quan taâm ñeán nhu caàu cuûa moïi ngöôøi anh ch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em chung quanh chuùng con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nhôø ñoù hoï seõ ñöôïc nhaän bieát Chuùa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ñeå chính hoï cuõng nhaän ñöôïc ôn ñöùc tin ñem laïi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2984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söï soáng ñôøi ñôøi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Laïy Thaùnh Caû Giuse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caùc Thaùnh Töû ñaïo Vieät Nam cuøng toaøn theå caùc Thaùnh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caùc ngaøi la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29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.- Con đường sống đức tin của Mẹ là con đườ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97320" y="2560680"/>
            <a:ext cx="23623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nhưng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cũng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0760" y="2225520"/>
            <a:ext cx="4724280" cy="5181480"/>
            <a:chOff x="320760" y="2225520"/>
            <a:chExt cx="4724280" cy="5181480"/>
          </a:xfrm>
        </p:grpSpPr>
        <p:sp>
          <p:nvSpPr>
            <p:cNvPr id="56" name=""/>
            <p:cNvSpPr/>
            <p:nvPr/>
          </p:nvSpPr>
          <p:spPr>
            <a:xfrm>
              <a:off x="320760" y="2225520"/>
              <a:ext cx="4724280" cy="51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gian nan    thử thách quanh co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nhiều 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đen tối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9360" y="2301840"/>
              <a:ext cx="4191120" cy="510516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8093160" y="2206800"/>
            <a:ext cx="4190760" cy="6202800"/>
            <a:chOff x="8093160" y="2206800"/>
            <a:chExt cx="4190760" cy="6202800"/>
          </a:xfrm>
        </p:grpSpPr>
        <p:sp>
          <p:nvSpPr>
            <p:cNvPr id="59" name=""/>
            <p:cNvSpPr/>
            <p:nvPr/>
          </p:nvSpPr>
          <p:spPr>
            <a:xfrm>
              <a:off x="8169120" y="2282760"/>
              <a:ext cx="4038120" cy="61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tràn ngập ánh sáng hy vọng  và                bình an.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93160" y="2206800"/>
              <a:ext cx="4190760" cy="510516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426960"/>
            <a:ext cx="129841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nhöõng göông maãu soáng ñoäng veà ñöùc tin cho chuùng con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Xin giuùp chuùng con bieát soáng 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	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	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426960"/>
            <a:ext cx="129841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vaø thöïc haønh ñöùc tin cuûa chuùng con trong cuoäc soáng haèng ngaøy,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nhaát laø trong Naêm Ñöù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96048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tin naøy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Chuùc tuïng Thieân Chuùa vinh hieån muoân ñôøi.</a:t>
            </a:r>
            <a:r>
              <a:rPr b="1" lang="en-US" sz="9600" spc="-1" strike="noStrike">
                <a:solidFill>
                  <a:srgbClr val="ff00ff"/>
                </a:solidFill>
                <a:latin typeface="VNI-Helve-Condense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VNI-Helve-Condense"/>
              </a:rPr>
              <a:t> Amen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65400"/>
            <a:ext cx="1281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0e500"/>
                </a:solidFill>
                <a:latin typeface="Arial"/>
              </a:rPr>
              <a:t>77. H.Gương sống đức tin của Mẹ dạy chúng ta điều gì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01640" y="2789280"/>
            <a:ext cx="4662360" cy="1739880"/>
            <a:chOff x="701640" y="2789280"/>
            <a:chExt cx="4662360" cy="1739880"/>
          </a:xfrm>
        </p:grpSpPr>
        <p:sp>
          <p:nvSpPr>
            <p:cNvPr id="63" name=""/>
            <p:cNvSpPr/>
            <p:nvPr/>
          </p:nvSpPr>
          <p:spPr>
            <a:xfrm>
              <a:off x="701640" y="2789280"/>
              <a:ext cx="4662360" cy="1676520"/>
            </a:xfrm>
            <a:prstGeom prst="flowChartAlternateProcess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06560" y="2789280"/>
              <a:ext cx="3962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thành tâm     đón nhận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721560" y="2712960"/>
            <a:ext cx="5957640" cy="2562840"/>
            <a:chOff x="6721560" y="2712960"/>
            <a:chExt cx="5957640" cy="2562840"/>
          </a:xfrm>
        </p:grpSpPr>
        <p:sp>
          <p:nvSpPr>
            <p:cNvPr id="66" name=""/>
            <p:cNvSpPr/>
            <p:nvPr/>
          </p:nvSpPr>
          <p:spPr>
            <a:xfrm>
              <a:off x="6873840" y="2789280"/>
              <a:ext cx="5805000" cy="1676160"/>
            </a:xfrm>
            <a:prstGeom prst="flowChartAlternateProcess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21560" y="2712960"/>
              <a:ext cx="595764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can đảm thi hành                   thánh ý Chúa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1768320" y="4160880"/>
            <a:ext cx="99824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rong cuộc sống hằng ngày.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298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. Gương sống đức tin của Mẹ dạy chúng t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4520" y="2712960"/>
            <a:ext cx="838440" cy="2667240"/>
          </a:xfrm>
          <a:prstGeom prst="downArrow">
            <a:avLst>
              <a:gd name="adj1" fmla="val 50000"/>
              <a:gd name="adj2" fmla="val 7953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1890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0e500"/>
                </a:solidFill>
                <a:latin typeface="Arial"/>
              </a:rPr>
              <a:t>78. H.- Đức Maria đã sống tình hiệp thông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20760" y="1874880"/>
            <a:ext cx="5638680" cy="5532480"/>
            <a:chOff x="320760" y="1874880"/>
            <a:chExt cx="5638680" cy="5532480"/>
          </a:xfrm>
        </p:grpSpPr>
        <p:sp>
          <p:nvSpPr>
            <p:cNvPr id="73" name=""/>
            <p:cNvSpPr txBox="1"/>
            <p:nvPr/>
          </p:nvSpPr>
          <p:spPr>
            <a:xfrm>
              <a:off x="2378160" y="1874880"/>
              <a:ext cx="1692360" cy="60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erdana"/>
                </a:rPr>
                <a:t>xưa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20760" y="2865600"/>
              <a:ext cx="5638680" cy="4541760"/>
              <a:chOff x="320760" y="2865600"/>
              <a:chExt cx="5638680" cy="4541760"/>
            </a:xfrm>
          </p:grpSpPr>
          <p:sp>
            <p:nvSpPr>
              <p:cNvPr id="75" name=""/>
              <p:cNvSpPr/>
              <p:nvPr/>
            </p:nvSpPr>
            <p:spPr>
              <a:xfrm>
                <a:off x="473040" y="3246480"/>
                <a:ext cx="5349960" cy="37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Mẹ đã cùng   Giáo Hội sơ khai cầu nguyện để đón chờ        Chúa Thánh Thần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6200000">
                <a:off x="869040" y="2316960"/>
                <a:ext cx="4541760" cy="5638680"/>
              </a:xfrm>
              <a:prstGeom prst="bracePair">
                <a:avLst>
                  <a:gd name="adj" fmla="val 8333"/>
                </a:avLst>
              </a:prstGeom>
              <a:noFill/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6492960" y="2027160"/>
            <a:ext cx="6324480" cy="5379480"/>
            <a:chOff x="6492960" y="2027160"/>
            <a:chExt cx="6324480" cy="5379480"/>
          </a:xfrm>
        </p:grpSpPr>
        <p:sp>
          <p:nvSpPr>
            <p:cNvPr id="78" name=""/>
            <p:cNvSpPr txBox="1"/>
            <p:nvPr/>
          </p:nvSpPr>
          <p:spPr>
            <a:xfrm>
              <a:off x="8854920" y="2027160"/>
              <a:ext cx="16923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erdana"/>
                </a:rPr>
                <a:t>nay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492960" y="2865240"/>
              <a:ext cx="6324480" cy="4541400"/>
              <a:chOff x="6492960" y="2865240"/>
              <a:chExt cx="6324480" cy="4541400"/>
            </a:xfrm>
          </p:grpSpPr>
          <p:sp>
            <p:nvSpPr>
              <p:cNvPr id="80" name=""/>
              <p:cNvSpPr/>
              <p:nvPr/>
            </p:nvSpPr>
            <p:spPr>
              <a:xfrm>
                <a:off x="6554880" y="3259440"/>
                <a:ext cx="6262560" cy="37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trên trời, Mẹ hằng để tâm săn sóc con cái Mẹ còn ở dưới thế với tình mẫu tử    bao la, trìu mến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6200000">
                <a:off x="7384320" y="1973520"/>
                <a:ext cx="4541400" cy="6324480"/>
              </a:xfrm>
              <a:prstGeom prst="bracePair">
                <a:avLst>
                  <a:gd name="adj" fmla="val 8333"/>
                </a:avLst>
              </a:prstGeom>
              <a:noFill/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244440" y="0"/>
            <a:ext cx="12739680" cy="3170160"/>
            <a:chOff x="244440" y="0"/>
            <a:chExt cx="12739680" cy="3170160"/>
          </a:xfrm>
        </p:grpSpPr>
        <p:sp>
          <p:nvSpPr>
            <p:cNvPr id="83" name=""/>
            <p:cNvSpPr/>
            <p:nvPr/>
          </p:nvSpPr>
          <p:spPr>
            <a:xfrm>
              <a:off x="244440" y="0"/>
              <a:ext cx="12739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T.- Đức Maria đã hiệp thông sâu sắc vào toàn bộ công trình cứu độ của Chúa Giêsu.</a:t>
              </a:r>
              <a:r>
                <a:rPr b="1" lang="en-US" sz="48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49960" y="1569960"/>
              <a:ext cx="1904760" cy="1600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15:10:58Z</dcterms:modified>
  <cp:revision>39</cp:revision>
  <dc:subject/>
  <dc:title>Slide 1</dc:title>
</cp:coreProperties>
</file>