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D494-D7EC-4F1E-A5F5-DE688659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57BB-64FA-4B38-972F-CEEBBE4486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CD0-EEFB-4866-AFCA-A2F9F47F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31F-DFC2-47C9-86D6-B1BA580D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49F-8670-4F06-8853-6B43C58C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4A9-E625-4887-A4DC-FACFC85D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189-9862-471F-864A-F3B8FE7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42B-87D8-4C9C-B6EA-4F0A51E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208-5BD4-4979-ACB9-C76898AF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B77-8F9A-41B7-B9C6-FDFE1053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DE3-4D09-4A68-9DC3-A07B7D73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D08-C904-4777-9E90-878166F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5DB-203B-4A2D-9562-7DFDF3C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F65-FF7B-4874-8F7D-422DF1D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D81-BC88-4FBF-8768-40766E57B21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B50-3DF3-4822-A147-5A9E83C371F8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73240" y="655560"/>
            <a:ext cx="85345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7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IÁO LÝ VỀ BÁC ÁI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320" y="5075280"/>
            <a:ext cx="119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Trên hết mọi đức tính, anh em phải có lòng bác ái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đó là mối dây liên kết tuyệt hảo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3,1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49360" y="0"/>
            <a:ext cx="6095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ff"/>
                </a:solidFill>
                <a:latin typeface="Arial"/>
              </a:rPr>
              <a:t>T.- Vì bản thân ta là hình ảnh Thiên Chúa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237200"/>
            <a:ext cx="656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Nhờ thực thi bác ái     đối với chính bản thân, ta làm rõ hình ảnh   Thiên Chúa nơi 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58840" y="503280"/>
            <a:ext cx="10525320" cy="6904080"/>
            <a:chOff x="1158840" y="503280"/>
            <a:chExt cx="10525320" cy="6904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7940520" y="503280"/>
              <a:ext cx="3743640" cy="298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1158840" y="2943360"/>
              <a:ext cx="4572000" cy="4464000"/>
              <a:chOff x="1158840" y="2943360"/>
              <a:chExt cx="4572000" cy="4464000"/>
            </a:xfrm>
          </p:grpSpPr>
          <p:sp>
            <p:nvSpPr>
              <p:cNvPr id="89" name=""/>
              <p:cNvSpPr/>
              <p:nvPr/>
            </p:nvSpPr>
            <p:spPr>
              <a:xfrm>
                <a:off x="1158840" y="2943360"/>
                <a:ext cx="4572000" cy="446400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70200" y="3325680"/>
                <a:ext cx="3352680" cy="37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Giống hình ảnh của Thiên Chúa  có nghĩa là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ff"/>
                    </a:solidFill>
                    <a:latin typeface="Arial"/>
                  </a:rPr>
                  <a:t>*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có linh hồn thiêng liêng,      </a:t>
                </a:r>
                <a:r>
                  <a:rPr b="1" lang="en-US" sz="3200" spc="-1" strike="noStrike">
                    <a:solidFill>
                      <a:srgbClr val="ff00ff"/>
                    </a:solidFill>
                    <a:latin typeface="Arial"/>
                  </a:rPr>
                  <a:t>*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có trí tuệ,          </a:t>
                </a:r>
                <a:r>
                  <a:rPr b="1" lang="en-US" sz="3200" spc="-1" strike="noStrike">
                    <a:solidFill>
                      <a:srgbClr val="ff00ff"/>
                    </a:solidFill>
                    <a:latin typeface="Arial"/>
                  </a:rPr>
                  <a:t>*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ý chí và tự do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1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100"/>
                            </p:stCondLst>
                            <p:childTnLst>
                              <p:par>
                                <p:cTn id="1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8120" y="1265400"/>
            <a:ext cx="1258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8. H.- Cần bác ái  với tha nhân         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87640" y="351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T.- Cần bác á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16480"/>
            <a:ext cx="129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ff"/>
                </a:solidFill>
                <a:latin typeface="Arial"/>
              </a:rPr>
              <a:t>Đức Thánh Cha Bênêđictô dạy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Chúng ta phải nhận ra tha nhân thực sự là một cái tôi khác của chính mình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87840" y="1798560"/>
            <a:ext cx="3245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với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49360" y="2865600"/>
            <a:ext cx="5638320" cy="2895480"/>
            <a:chOff x="549360" y="2865600"/>
            <a:chExt cx="5638320" cy="2895480"/>
          </a:xfrm>
        </p:grpSpPr>
        <p:sp>
          <p:nvSpPr>
            <p:cNvPr id="96" name=""/>
            <p:cNvSpPr/>
            <p:nvPr/>
          </p:nvSpPr>
          <p:spPr>
            <a:xfrm>
              <a:off x="549360" y="4237200"/>
              <a:ext cx="4647960" cy="1523880"/>
            </a:xfrm>
            <a:prstGeom prst="flowChartPreparation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920" y="4389480"/>
              <a:ext cx="403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000000"/>
                  </a:solidFill>
                  <a:latin typeface="Arial"/>
                </a:rPr>
                <a:t>tha nhân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587480" y="2865600"/>
              <a:ext cx="1600200" cy="137160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5273640" y="469440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88040" y="2865600"/>
            <a:ext cx="5943600" cy="2819160"/>
            <a:chOff x="6188040" y="2865600"/>
            <a:chExt cx="5943600" cy="2819160"/>
          </a:xfrm>
        </p:grpSpPr>
        <p:sp>
          <p:nvSpPr>
            <p:cNvPr id="101" name=""/>
            <p:cNvSpPr/>
            <p:nvPr/>
          </p:nvSpPr>
          <p:spPr>
            <a:xfrm>
              <a:off x="6950160" y="4160880"/>
              <a:ext cx="5181480" cy="1523880"/>
            </a:xfrm>
            <a:prstGeom prst="flowChartPreparation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83320" y="423720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000000"/>
                  </a:solidFill>
                  <a:latin typeface="Arial"/>
                </a:rPr>
                <a:t>bản thân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88040" y="2865600"/>
              <a:ext cx="1523880" cy="144756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9. H.- Vì sao phải  thể hiện lòng bác ái đối với                     các thụ tạo khác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4440" y="0"/>
            <a:ext cx="1273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T.- Vì mọi thụ tạo đều được Chú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44640" y="-2773440"/>
            <a:ext cx="7924680" cy="1600200"/>
          </a:xfrm>
          <a:prstGeom prst="downArrowCallout">
            <a:avLst>
              <a:gd name="adj1" fmla="val -117765"/>
              <a:gd name="adj2" fmla="val 123808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565440" y="-2697120"/>
            <a:ext cx="7924680" cy="1600200"/>
          </a:xfrm>
          <a:prstGeom prst="downArrowCallout">
            <a:avLst>
              <a:gd name="adj1" fmla="val -117765"/>
              <a:gd name="adj2" fmla="val 123808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97320" y="3017880"/>
            <a:ext cx="762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73840" y="3017880"/>
            <a:ext cx="5486400" cy="1981080"/>
            <a:chOff x="6873840" y="3017880"/>
            <a:chExt cx="5486400" cy="1981080"/>
          </a:xfrm>
        </p:grpSpPr>
        <p:sp>
          <p:nvSpPr>
            <p:cNvPr id="110" name=""/>
            <p:cNvSpPr/>
            <p:nvPr/>
          </p:nvSpPr>
          <p:spPr>
            <a:xfrm>
              <a:off x="6950160" y="3094200"/>
              <a:ext cx="534816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chia sẻ sự tốt lành của Người</a:t>
              </a: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840" y="3017880"/>
              <a:ext cx="5486400" cy="198108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63760" y="3094200"/>
            <a:ext cx="2590560" cy="1904760"/>
            <a:chOff x="1463760" y="3094200"/>
            <a:chExt cx="2590560" cy="1904760"/>
          </a:xfrm>
        </p:grpSpPr>
        <p:sp>
          <p:nvSpPr>
            <p:cNvPr id="113" name=""/>
            <p:cNvSpPr/>
            <p:nvPr/>
          </p:nvSpPr>
          <p:spPr>
            <a:xfrm>
              <a:off x="1539720" y="3170160"/>
              <a:ext cx="2437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Dựng  nên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63760" y="3094200"/>
              <a:ext cx="2590560" cy="19047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0760" y="0"/>
            <a:ext cx="1266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Vì thế bác ái với các thụ tạo         là tôn trọ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44640" y="-2773440"/>
            <a:ext cx="7924680" cy="1600200"/>
          </a:xfrm>
          <a:prstGeom prst="downArrowCallout">
            <a:avLst>
              <a:gd name="adj1" fmla="val -117765"/>
              <a:gd name="adj2" fmla="val 123808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565440" y="-2697120"/>
            <a:ext cx="7924680" cy="1600200"/>
          </a:xfrm>
          <a:prstGeom prst="downArrowCallout">
            <a:avLst>
              <a:gd name="adj1" fmla="val -117765"/>
              <a:gd name="adj2" fmla="val 123808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59440" y="3246480"/>
            <a:ext cx="762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30240" y="2712960"/>
            <a:ext cx="4267080" cy="4208760"/>
            <a:chOff x="930240" y="2712960"/>
            <a:chExt cx="4267080" cy="4208760"/>
          </a:xfrm>
        </p:grpSpPr>
        <p:sp>
          <p:nvSpPr>
            <p:cNvPr id="120" name=""/>
            <p:cNvSpPr/>
            <p:nvPr/>
          </p:nvSpPr>
          <p:spPr>
            <a:xfrm>
              <a:off x="930240" y="2712960"/>
              <a:ext cx="41911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quyền           tạo dựng       tốt lành của   Thiên Chúa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0240" y="2712960"/>
              <a:ext cx="4267080" cy="3429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559640" y="2637000"/>
            <a:ext cx="4267080" cy="3429000"/>
            <a:chOff x="7559640" y="2637000"/>
            <a:chExt cx="4267080" cy="3429000"/>
          </a:xfrm>
        </p:grpSpPr>
        <p:sp>
          <p:nvSpPr>
            <p:cNvPr id="123" name=""/>
            <p:cNvSpPr/>
            <p:nvPr/>
          </p:nvSpPr>
          <p:spPr>
            <a:xfrm>
              <a:off x="7559640" y="3017880"/>
              <a:ext cx="4267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phẩm giá cao quý của mọi loài</a:t>
              </a:r>
              <a:r>
                <a:rPr b="1" lang="fr-FR" sz="3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2637000"/>
              <a:ext cx="4267080" cy="3429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298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800" spc="-1" strike="noStrike">
                <a:solidFill>
                  <a:srgbClr val="f0e500"/>
                </a:solidFill>
                <a:latin typeface="Arial"/>
              </a:rPr>
              <a:t>53. H.- Bác ái là gì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01640" y="1189080"/>
            <a:ext cx="12006360" cy="6002280"/>
            <a:chOff x="701640" y="1189080"/>
            <a:chExt cx="12006360" cy="6002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8245440" y="1189080"/>
              <a:ext cx="4462560" cy="31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701640" y="4846680"/>
              <a:ext cx="10363320" cy="23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244440" y="149400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T.- Bác ái nghĩa là tình yêu bao la không giới hạn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51" dur="1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52" dur="1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74880"/>
            <a:ext cx="1298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4. H.- Bác ái           bắt nguồn từ đâu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8120" y="351000"/>
            <a:ext cx="8839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T.- Bác ái bắt nguồn từ Thiên Chúa vì            </a:t>
            </a:r>
            <a:r>
              <a:rPr b="1" i="1" lang="fr-FR" sz="5400" spc="-1" strike="noStrike">
                <a:solidFill>
                  <a:srgbClr val="ff00ff"/>
                </a:solidFill>
                <a:latin typeface="Arial"/>
              </a:rPr>
              <a:t>“Thiên Chúa là tình yêu</a:t>
            </a:r>
            <a:r>
              <a:rPr b="1" lang="fr-FR" sz="5400" spc="-1" strike="noStrike">
                <a:solidFill>
                  <a:srgbClr val="ff00ff"/>
                </a:solidFill>
                <a:latin typeface="Arial"/>
              </a:rPr>
              <a:t>”.</a:t>
            </a: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 Mọi thụ tạo được           tạo dựng do tình yêu của           Thiên Chúa và đều     phản ánh tình yêu ấy trong bản chất của chún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550360" y="274680"/>
            <a:ext cx="4086000" cy="6751080"/>
            <a:chOff x="8550360" y="274680"/>
            <a:chExt cx="4086000" cy="6751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550360" y="884160"/>
              <a:ext cx="4086000" cy="61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9388440" y="274680"/>
              <a:ext cx="2010960" cy="188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318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5. H.- Bác ái       quan trọng thế nào trong đời sống      Kitô hữu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20" y="0"/>
            <a:ext cx="128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T.- Bác ái rất quan trọng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568920" y="4008600"/>
            <a:ext cx="6248520" cy="2209680"/>
            <a:chOff x="6568920" y="4008600"/>
            <a:chExt cx="6248520" cy="2209680"/>
          </a:xfrm>
        </p:grpSpPr>
        <p:sp>
          <p:nvSpPr>
            <p:cNvPr id="63" name=""/>
            <p:cNvSpPr/>
            <p:nvPr/>
          </p:nvSpPr>
          <p:spPr>
            <a:xfrm>
              <a:off x="6645240" y="4541760"/>
              <a:ext cx="594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</a:rPr>
                <a:t>dấu hiệu để nhận biết      ai là môn đệ của Đức Kitô.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68920" y="4008600"/>
              <a:ext cx="6248520" cy="2209680"/>
            </a:xfrm>
            <a:custGeom>
              <a:avLst/>
              <a:gdLst>
                <a:gd name="textAreaLeft" fmla="*/ 0 w 6248520"/>
                <a:gd name="textAreaRight" fmla="*/ 6248880 w 6248520"/>
                <a:gd name="textAreaTop" fmla="*/ 286200 h 2209680"/>
                <a:gd name="textAreaBottom" fmla="*/ 19234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8120" y="4008600"/>
            <a:ext cx="6248520" cy="2209680"/>
            <a:chOff x="168120" y="4008600"/>
            <a:chExt cx="6248520" cy="2209680"/>
          </a:xfrm>
        </p:grpSpPr>
        <p:sp>
          <p:nvSpPr>
            <p:cNvPr id="66" name=""/>
            <p:cNvSpPr/>
            <p:nvPr/>
          </p:nvSpPr>
          <p:spPr>
            <a:xfrm>
              <a:off x="549360" y="4465800"/>
              <a:ext cx="518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</a:rPr>
                <a:t>giới răn mới,           tóm kết toàn bộ lề luật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8120" y="4008600"/>
              <a:ext cx="6248520" cy="2209680"/>
            </a:xfrm>
            <a:custGeom>
              <a:avLst/>
              <a:gdLst>
                <a:gd name="textAreaLeft" fmla="*/ 0 w 6248520"/>
                <a:gd name="textAreaRight" fmla="*/ 6248880 w 6248520"/>
                <a:gd name="textAreaTop" fmla="*/ 286200 h 2209680"/>
                <a:gd name="textAreaBottom" fmla="*/ 19234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368520" y="1798560"/>
            <a:ext cx="6816600" cy="2313000"/>
            <a:chOff x="3368520" y="1798560"/>
            <a:chExt cx="6816600" cy="2313000"/>
          </a:xfrm>
        </p:grpSpPr>
        <p:sp>
          <p:nvSpPr>
            <p:cNvPr id="69" name=""/>
            <p:cNvSpPr txBox="1"/>
            <p:nvPr/>
          </p:nvSpPr>
          <p:spPr>
            <a:xfrm>
              <a:off x="3368520" y="1798560"/>
              <a:ext cx="4953240" cy="14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Vì  bác  ái  là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674000">
              <a:off x="8854560" y="2179440"/>
              <a:ext cx="914400" cy="182880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320040 h 1828800"/>
                <a:gd name="textAreaBottom" fmla="*/ 13258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34136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6. H.- Bác ái    hướng tới những   đối tượng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06760" y="0"/>
            <a:ext cx="95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Bác ái hướng tớ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82520" y="1874880"/>
            <a:ext cx="3886200" cy="2362320"/>
            <a:chOff x="1082520" y="1874880"/>
            <a:chExt cx="3886200" cy="2362320"/>
          </a:xfrm>
        </p:grpSpPr>
        <p:sp>
          <p:nvSpPr>
            <p:cNvPr id="74" name=""/>
            <p:cNvSpPr/>
            <p:nvPr/>
          </p:nvSpPr>
          <p:spPr>
            <a:xfrm>
              <a:off x="1082520" y="1874880"/>
              <a:ext cx="3886200" cy="236232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2520" y="2484360"/>
              <a:ext cx="359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bản thâ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054320" y="3398760"/>
            <a:ext cx="3886200" cy="2361960"/>
            <a:chOff x="4054320" y="3398760"/>
            <a:chExt cx="3886200" cy="2361960"/>
          </a:xfrm>
        </p:grpSpPr>
        <p:sp>
          <p:nvSpPr>
            <p:cNvPr id="77" name=""/>
            <p:cNvSpPr/>
            <p:nvPr/>
          </p:nvSpPr>
          <p:spPr>
            <a:xfrm>
              <a:off x="4054320" y="3398760"/>
              <a:ext cx="3886200" cy="23619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06960" y="3931920"/>
              <a:ext cx="3521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tha</a:t>
              </a:r>
              <a:r>
                <a:rPr b="1" lang="fr-FR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nhâ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873840" y="5045040"/>
            <a:ext cx="3886200" cy="2362320"/>
            <a:chOff x="6873840" y="5045040"/>
            <a:chExt cx="3886200" cy="2362320"/>
          </a:xfrm>
        </p:grpSpPr>
        <p:sp>
          <p:nvSpPr>
            <p:cNvPr id="80" name=""/>
            <p:cNvSpPr/>
            <p:nvPr/>
          </p:nvSpPr>
          <p:spPr>
            <a:xfrm>
              <a:off x="6873840" y="5045040"/>
              <a:ext cx="3886200" cy="236232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02440" y="5121360"/>
              <a:ext cx="3354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các thụ tạo khác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916400">
            <a:off x="5273280" y="2941200"/>
            <a:ext cx="4052880" cy="609840"/>
          </a:xfrm>
          <a:custGeom>
            <a:avLst/>
            <a:gdLst>
              <a:gd name="textAreaLeft" fmla="*/ 633240 w 4052880"/>
              <a:gd name="textAreaRight" fmla="*/ 3546360 w 40528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1890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7. H.- Vì sao         phải bác ái với     chính bản thân mình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8:34:00Z</dcterms:modified>
  <cp:revision>41</cp:revision>
  <dc:subject/>
  <dc:title>Slide 1</dc:title>
</cp:coreProperties>
</file>