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985750" cy="7408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3720" y="685440"/>
            <a:ext cx="60105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52A0-703C-4DDB-AD8C-3473EAC15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423720" y="685800"/>
            <a:ext cx="601056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EA9B-BD3A-44DB-AF0B-BE3749C350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433-6C45-468D-9A12-5FD494EB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83E-18BC-414F-9799-747B8848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0B7-7DD0-4FF2-829C-049F441F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0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5108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9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0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5108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EC5-9C98-48F1-8692-FDAA572A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3D3-5987-43C9-AFC1-7D5B6357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E0C1-F606-4EDD-A06B-815C33C2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71F-5989-446C-8752-2E937052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4E77-71AB-49E2-B6FB-F72884A9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9440" y="297000"/>
            <a:ext cx="1168560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F91-5763-4795-9DD2-85F7F221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0ADA-F5F1-4B6A-B665-FE8F5CEF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AB13-231A-4627-B8F1-5DE02798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2E6-3019-4194-9BCC-D061C32A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70040" indent="-29520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184400" indent="-23652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3652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4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5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6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9440" y="6744960"/>
            <a:ext cx="303048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8A4C-77A2-4988-8FE0-6384EEA19082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35200" y="6744960"/>
            <a:ext cx="411300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03840" y="6744960"/>
            <a:ext cx="303084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042E-D2F7-4FDE-B5CA-1FC8F7C6FCEA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301840" y="884160"/>
            <a:ext cx="7315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ÀI 8 / 1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ỐNG BÁC ÁI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380200"/>
            <a:ext cx="1298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fr-FR" sz="3600" spc="-1" strike="noStrike">
                <a:solidFill>
                  <a:srgbClr val="ffffff"/>
                </a:solidFill>
                <a:latin typeface="Arial"/>
              </a:rPr>
              <a:t>Chúng ta đừng yêu thương  nơi đầu môi chót lưỡi,  nhưng phải yêu thương  cách chân thật và bằng việc làm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1G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3,18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189080"/>
            <a:ext cx="1298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64. H.- Công việc   bác ái nhằm phục vụ những ai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98360"/>
            <a:ext cx="1298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Arial"/>
              </a:rPr>
              <a:t>T.- Công việc bác ái</a:t>
            </a:r>
            <a:r>
              <a:rPr b="1" i="1" lang="fr-FR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6000" spc="-1" strike="noStrike">
                <a:solidFill>
                  <a:srgbClr val="ffffff"/>
                </a:solidFill>
                <a:latin typeface="Arial"/>
              </a:rPr>
              <a:t>nhằm phục vụ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54720" y="2027160"/>
            <a:ext cx="3733920" cy="1371600"/>
            <a:chOff x="7254720" y="2027160"/>
            <a:chExt cx="3733920" cy="1371600"/>
          </a:xfrm>
        </p:grpSpPr>
        <p:sp>
          <p:nvSpPr>
            <p:cNvPr id="106" name=""/>
            <p:cNvSpPr/>
            <p:nvPr/>
          </p:nvSpPr>
          <p:spPr>
            <a:xfrm>
              <a:off x="7254720" y="2027160"/>
              <a:ext cx="3733920" cy="1371600"/>
            </a:xfrm>
            <a:prstGeom prst="flowChartTerminator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31040" y="2027160"/>
              <a:ext cx="3581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ffffff"/>
                  </a:solidFill>
                  <a:latin typeface="Arial"/>
                </a:rPr>
                <a:t>nhất là           người nghèo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463760" y="2027160"/>
            <a:ext cx="3733560" cy="1371600"/>
            <a:chOff x="1463760" y="2027160"/>
            <a:chExt cx="3733560" cy="1371600"/>
          </a:xfrm>
        </p:grpSpPr>
        <p:sp>
          <p:nvSpPr>
            <p:cNvPr id="109" name=""/>
            <p:cNvSpPr/>
            <p:nvPr/>
          </p:nvSpPr>
          <p:spPr>
            <a:xfrm>
              <a:off x="1463760" y="2027160"/>
              <a:ext cx="3733560" cy="1371600"/>
            </a:xfrm>
            <a:prstGeom prst="flowChartTerminator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44640" y="2027160"/>
              <a:ext cx="3047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ffffff"/>
                  </a:solidFill>
                  <a:latin typeface="Arial"/>
                </a:rPr>
                <a:t>tất cả     mọi người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968720" y="3398760"/>
            <a:ext cx="3048120" cy="2438640"/>
            <a:chOff x="4968720" y="3398760"/>
            <a:chExt cx="3048120" cy="2438640"/>
          </a:xfrm>
        </p:grpSpPr>
        <p:sp>
          <p:nvSpPr>
            <p:cNvPr id="112" name=""/>
            <p:cNvSpPr txBox="1"/>
            <p:nvPr/>
          </p:nvSpPr>
          <p:spPr>
            <a:xfrm>
              <a:off x="4968720" y="3398760"/>
              <a:ext cx="3048120" cy="14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Verdana"/>
                </a:rPr>
                <a:t>về </a:t>
              </a:r>
              <a:endPara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  <a:ea typeface="Verdana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044680" y="4770360"/>
              <a:ext cx="1066680" cy="106704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11720" y="4770360"/>
              <a:ext cx="1219320" cy="106704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387440" y="5608800"/>
            <a:ext cx="9524880" cy="1371600"/>
            <a:chOff x="1387440" y="5608800"/>
            <a:chExt cx="9524880" cy="1371600"/>
          </a:xfrm>
        </p:grpSpPr>
        <p:grpSp>
          <p:nvGrpSpPr>
            <p:cNvPr id="116" name=""/>
            <p:cNvGrpSpPr/>
            <p:nvPr/>
          </p:nvGrpSpPr>
          <p:grpSpPr>
            <a:xfrm>
              <a:off x="7178760" y="5608800"/>
              <a:ext cx="3733560" cy="1371600"/>
              <a:chOff x="7178760" y="5608800"/>
              <a:chExt cx="3733560" cy="1371600"/>
            </a:xfrm>
          </p:grpSpPr>
          <p:sp>
            <p:nvSpPr>
              <p:cNvPr id="117" name=""/>
              <p:cNvSpPr/>
              <p:nvPr/>
            </p:nvSpPr>
            <p:spPr>
              <a:xfrm>
                <a:off x="7178760" y="5608800"/>
                <a:ext cx="3733560" cy="1371600"/>
              </a:xfrm>
              <a:prstGeom prst="flowChartTerminator">
                <a:avLst/>
              </a:prstGeom>
              <a:solidFill>
                <a:srgbClr val="0033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483320" y="5761440"/>
                <a:ext cx="3292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6000" spc="-1" strike="noStrike">
                    <a:solidFill>
                      <a:srgbClr val="ffffff"/>
                    </a:solidFill>
                    <a:latin typeface="Arial"/>
                  </a:rPr>
                  <a:t>vật chất</a:t>
                </a:r>
                <a:r>
                  <a:rPr b="1" lang="fr-FR" sz="4000" spc="-1" strike="noStrike">
                    <a:solidFill>
                      <a:srgbClr val="ffffff"/>
                    </a:solidFill>
                    <a:latin typeface="Arial"/>
                  </a:rPr>
                  <a:t>.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387440" y="5608800"/>
              <a:ext cx="3826080" cy="1371600"/>
              <a:chOff x="1387440" y="5608800"/>
              <a:chExt cx="3826080" cy="1371600"/>
            </a:xfrm>
          </p:grpSpPr>
          <p:sp>
            <p:nvSpPr>
              <p:cNvPr id="120" name=""/>
              <p:cNvSpPr/>
              <p:nvPr/>
            </p:nvSpPr>
            <p:spPr>
              <a:xfrm>
                <a:off x="1463760" y="5608800"/>
                <a:ext cx="3733920" cy="1371600"/>
              </a:xfrm>
              <a:prstGeom prst="flowChartTerminator">
                <a:avLst/>
              </a:prstGeom>
              <a:solidFill>
                <a:srgbClr val="0033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387440" y="5837400"/>
                <a:ext cx="38260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6000" spc="-1" strike="noStrike">
                    <a:solidFill>
                      <a:srgbClr val="ffffff"/>
                    </a:solidFill>
                    <a:latin typeface="Arial"/>
                  </a:rPr>
                  <a:t>tinh thần</a:t>
                </a: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 txBox="1"/>
            <p:nvPr/>
          </p:nvSpPr>
          <p:spPr>
            <a:xfrm>
              <a:off x="5654520" y="5913360"/>
              <a:ext cx="11052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&amp;</a:t>
              </a:r>
              <a:endPara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036800"/>
            <a:ext cx="1298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65. H.- Phải quan tâm thế nào đến        người nghèo khổ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549360" y="198360"/>
            <a:ext cx="11963160" cy="1905120"/>
            <a:chOff x="549360" y="198360"/>
            <a:chExt cx="11963160" cy="1905120"/>
          </a:xfrm>
        </p:grpSpPr>
        <p:sp>
          <p:nvSpPr>
            <p:cNvPr id="125" name=""/>
            <p:cNvSpPr/>
            <p:nvPr/>
          </p:nvSpPr>
          <p:spPr>
            <a:xfrm>
              <a:off x="549360" y="198360"/>
              <a:ext cx="11810880" cy="190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7575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9360" y="274680"/>
              <a:ext cx="11963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fr-FR" sz="5400" spc="-1" strike="noStrike">
                  <a:solidFill>
                    <a:srgbClr val="000000"/>
                  </a:solidFill>
                  <a:latin typeface="Arial"/>
                </a:rPr>
                <a:t>.- Phải quan tâm đến người nghèo khổ bằng tấm lòng của Chúa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435560" y="4084560"/>
            <a:ext cx="3987720" cy="1067040"/>
            <a:chOff x="4435560" y="4084560"/>
            <a:chExt cx="3987720" cy="1067040"/>
          </a:xfrm>
        </p:grpSpPr>
        <p:sp>
          <p:nvSpPr>
            <p:cNvPr id="128" name=""/>
            <p:cNvSpPr/>
            <p:nvPr/>
          </p:nvSpPr>
          <p:spPr>
            <a:xfrm>
              <a:off x="4435560" y="4084560"/>
              <a:ext cx="3962160" cy="106704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ff00ff"/>
                </a:gs>
                <a:gs pos="100000">
                  <a:srgbClr val="750075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37080" y="4084560"/>
              <a:ext cx="388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cảm thông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"/>
          <p:cNvSpPr txBox="1"/>
          <p:nvPr/>
        </p:nvSpPr>
        <p:spPr>
          <a:xfrm>
            <a:off x="4206960" y="2332080"/>
            <a:ext cx="449568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qua việc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474040" y="4084560"/>
            <a:ext cx="4370400" cy="1067040"/>
            <a:chOff x="8474040" y="4084560"/>
            <a:chExt cx="4370400" cy="1067040"/>
          </a:xfrm>
        </p:grpSpPr>
        <p:sp>
          <p:nvSpPr>
            <p:cNvPr id="132" name=""/>
            <p:cNvSpPr/>
            <p:nvPr/>
          </p:nvSpPr>
          <p:spPr>
            <a:xfrm>
              <a:off x="8474040" y="4084560"/>
              <a:ext cx="4343400" cy="106704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ff00ff"/>
                </a:gs>
                <a:gs pos="100000">
                  <a:srgbClr val="750075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89960" y="4097160"/>
              <a:ext cx="4254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yêu thương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68120" y="5684760"/>
            <a:ext cx="12192120" cy="916920"/>
            <a:chOff x="168120" y="5684760"/>
            <a:chExt cx="12192120" cy="916920"/>
          </a:xfrm>
        </p:grpSpPr>
        <p:sp>
          <p:nvSpPr>
            <p:cNvPr id="135" name=""/>
            <p:cNvSpPr/>
            <p:nvPr/>
          </p:nvSpPr>
          <p:spPr>
            <a:xfrm>
              <a:off x="168120" y="5684760"/>
              <a:ext cx="12192120" cy="91440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ff00ff"/>
                </a:gs>
                <a:gs pos="100000">
                  <a:srgbClr val="750075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6720" y="5684760"/>
              <a:ext cx="1173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sẵn lòng chia sẻ những gì mình có.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0" y="4084560"/>
            <a:ext cx="4359240" cy="1067040"/>
            <a:chOff x="0" y="4084560"/>
            <a:chExt cx="4359240" cy="1067040"/>
          </a:xfrm>
        </p:grpSpPr>
        <p:sp>
          <p:nvSpPr>
            <p:cNvPr id="138" name=""/>
            <p:cNvSpPr/>
            <p:nvPr/>
          </p:nvSpPr>
          <p:spPr>
            <a:xfrm>
              <a:off x="0" y="4084560"/>
              <a:ext cx="4343400" cy="106704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ff00ff"/>
                </a:gs>
                <a:gs pos="100000">
                  <a:srgbClr val="750075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8120" y="4084560"/>
              <a:ext cx="4191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cầu nguyện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265400"/>
            <a:ext cx="1298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66. H- Người tín hữu cần làm gì để giúp đỡ anh chị em di dân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03280"/>
            <a:ext cx="870264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ffff"/>
                </a:solidFill>
                <a:latin typeface="Arial"/>
              </a:rPr>
              <a:t>T.- Người tín hữu cần</a:t>
            </a:r>
            <a:r>
              <a:rPr b="1" i="1" lang="fr-FR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6600" spc="-1" strike="noStrike">
                <a:solidFill>
                  <a:srgbClr val="ffffff"/>
                </a:solidFill>
                <a:latin typeface="Arial"/>
              </a:rPr>
              <a:t>giúp họ về     </a:t>
            </a:r>
            <a:r>
              <a:rPr b="1" lang="fr-FR" sz="6600" spc="-1" strike="noStrike">
                <a:solidFill>
                  <a:srgbClr val="ff00ff"/>
                </a:solidFill>
                <a:latin typeface="Arial"/>
              </a:rPr>
              <a:t>tinh thần và vật chất</a:t>
            </a:r>
            <a:r>
              <a:rPr b="1" lang="fr-FR" sz="6600" spc="-1" strike="noStrike">
                <a:solidFill>
                  <a:srgbClr val="ffffff"/>
                </a:solidFill>
                <a:latin typeface="Arial"/>
              </a:rPr>
              <a:t> để họ mau chóng ổn định cuộc sống trong môi trường mới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564400" y="731880"/>
            <a:ext cx="4419720" cy="6405480"/>
            <a:chOff x="8564400" y="731880"/>
            <a:chExt cx="4419720" cy="64054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8564400" y="731880"/>
              <a:ext cx="4419720" cy="301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8626320" y="4008600"/>
              <a:ext cx="4151520" cy="31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1298268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4440" y="1494000"/>
            <a:ext cx="12496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60. H.-                         Sống bác ái  là gì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1298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Arial"/>
              </a:rPr>
              <a:t>T.- Sống bác ái là thực thi lệnh truyền của Chúa Kitô trong ba tác v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1951200"/>
            <a:ext cx="4140360" cy="5153400"/>
            <a:chOff x="0" y="1951200"/>
            <a:chExt cx="4140360" cy="5153400"/>
          </a:xfrm>
        </p:grpSpPr>
        <p:sp>
          <p:nvSpPr>
            <p:cNvPr id="53" name=""/>
            <p:cNvSpPr/>
            <p:nvPr/>
          </p:nvSpPr>
          <p:spPr>
            <a:xfrm>
              <a:off x="0" y="6523200"/>
              <a:ext cx="397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rao giảng Lời Chú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244440" y="1951200"/>
              <a:ext cx="3895920" cy="457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"/>
          <p:cNvGrpSpPr/>
          <p:nvPr/>
        </p:nvGrpSpPr>
        <p:grpSpPr>
          <a:xfrm>
            <a:off x="8931240" y="3246480"/>
            <a:ext cx="3673440" cy="3705840"/>
            <a:chOff x="8931240" y="3246480"/>
            <a:chExt cx="3673440" cy="3705840"/>
          </a:xfrm>
        </p:grpSpPr>
        <p:sp>
          <p:nvSpPr>
            <p:cNvPr id="56" name=""/>
            <p:cNvSpPr/>
            <p:nvPr/>
          </p:nvSpPr>
          <p:spPr>
            <a:xfrm>
              <a:off x="8931240" y="6370920"/>
              <a:ext cx="367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phục vụ tha nhâ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9236160" y="3246480"/>
              <a:ext cx="2882880" cy="252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4282920" y="2941560"/>
            <a:ext cx="4200840" cy="4086720"/>
            <a:chOff x="4282920" y="2941560"/>
            <a:chExt cx="4200840" cy="4086720"/>
          </a:xfrm>
        </p:grpSpPr>
        <p:sp>
          <p:nvSpPr>
            <p:cNvPr id="59" name=""/>
            <p:cNvSpPr/>
            <p:nvPr/>
          </p:nvSpPr>
          <p:spPr>
            <a:xfrm>
              <a:off x="4892760" y="6446880"/>
              <a:ext cx="321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cử hành Bí tíc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4282920" y="2941560"/>
              <a:ext cx="4200840" cy="279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51000"/>
            <a:ext cx="12984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61. H.- Đâu là con đường người tín hữu cần bước đi để thi hành việc bác ái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53920" y="1494000"/>
            <a:ext cx="61722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fr-FR" sz="7200" spc="-1" strike="noStrike">
                <a:solidFill>
                  <a:srgbClr val="ff00ff"/>
                </a:solidFill>
                <a:latin typeface="Arial"/>
              </a:rPr>
              <a:t>* yêu thương</a:t>
            </a: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940520" y="1569960"/>
            <a:ext cx="4797360" cy="3840120"/>
            <a:chOff x="7940520" y="1569960"/>
            <a:chExt cx="4797360" cy="384012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7940520" y="1569960"/>
              <a:ext cx="4797360" cy="384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8321400" y="4237200"/>
              <a:ext cx="4191120" cy="1038600"/>
              <a:chOff x="8321400" y="4237200"/>
              <a:chExt cx="4191120" cy="1038600"/>
            </a:xfrm>
          </p:grpSpPr>
          <p:sp>
            <p:nvSpPr>
              <p:cNvPr id="66" name=""/>
              <p:cNvSpPr/>
              <p:nvPr/>
            </p:nvSpPr>
            <p:spPr>
              <a:xfrm>
                <a:off x="8321400" y="4694400"/>
                <a:ext cx="2133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Khiêm hạ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0607400" y="469440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Vô vị lợi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159480" y="4237200"/>
                <a:ext cx="2590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Yêu thương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0" y="0"/>
            <a:ext cx="1082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T.- Đó là con đường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82720" y="423720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0e500"/>
                </a:solidFill>
                <a:latin typeface="Arial"/>
              </a:rPr>
              <a:t>* vô vị lợ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68320" y="28656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ff00"/>
                </a:solidFill>
                <a:latin typeface="Arial"/>
              </a:rPr>
              <a:t>* khiêm h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08720" y="1825200"/>
            <a:ext cx="10055880" cy="5355720"/>
            <a:chOff x="108720" y="1825200"/>
            <a:chExt cx="10055880" cy="5355720"/>
          </a:xfrm>
        </p:grpSpPr>
        <p:sp>
          <p:nvSpPr>
            <p:cNvPr id="73" name=""/>
            <p:cNvSpPr/>
            <p:nvPr/>
          </p:nvSpPr>
          <p:spPr>
            <a:xfrm>
              <a:off x="3749760" y="5989680"/>
              <a:ext cx="641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200" spc="-1" strike="noStrike">
                  <a:solidFill>
                    <a:srgbClr val="ffffff"/>
                  </a:solidFill>
                  <a:latin typeface="Arial"/>
                </a:rPr>
                <a:t>của Đức Kitô.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3320400">
              <a:off x="-745920" y="3931920"/>
              <a:ext cx="5562720" cy="838080"/>
            </a:xfrm>
            <a:custGeom>
              <a:avLst/>
              <a:gdLst>
                <a:gd name="textAreaLeft" fmla="*/ 869040 w 5562720"/>
                <a:gd name="textAreaRight" fmla="*/ 4867560 w 556272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73040" y="426960"/>
            <a:ext cx="12115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62. H.- Người         tín hữu cần xác tín điều gì khi thi hành bác ái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0" y="0"/>
            <a:ext cx="12984120" cy="3932280"/>
            <a:chOff x="0" y="0"/>
            <a:chExt cx="12984120" cy="3932280"/>
          </a:xfrm>
        </p:grpSpPr>
        <p:sp>
          <p:nvSpPr>
            <p:cNvPr id="77" name=""/>
            <p:cNvSpPr/>
            <p:nvPr/>
          </p:nvSpPr>
          <p:spPr>
            <a:xfrm>
              <a:off x="0" y="0"/>
              <a:ext cx="129841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200" spc="-1" strike="noStrike">
                  <a:solidFill>
                    <a:srgbClr val="ffffff"/>
                  </a:solidFill>
                  <a:latin typeface="Arial"/>
                </a:rPr>
                <a:t>T.- Người tín hữu               cần xác tín 2 điều này: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02240" y="2789280"/>
              <a:ext cx="2286000" cy="1143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-76320" y="2789280"/>
            <a:ext cx="6705720" cy="4299120"/>
            <a:chOff x="-76320" y="2789280"/>
            <a:chExt cx="6705720" cy="4299120"/>
          </a:xfrm>
        </p:grpSpPr>
        <p:grpSp>
          <p:nvGrpSpPr>
            <p:cNvPr id="80" name=""/>
            <p:cNvGrpSpPr/>
            <p:nvPr/>
          </p:nvGrpSpPr>
          <p:grpSpPr>
            <a:xfrm>
              <a:off x="-76320" y="2789280"/>
              <a:ext cx="6705720" cy="4299120"/>
              <a:chOff x="-76320" y="2789280"/>
              <a:chExt cx="6705720" cy="4299120"/>
            </a:xfrm>
          </p:grpSpPr>
          <p:sp>
            <p:nvSpPr>
              <p:cNvPr id="81" name=""/>
              <p:cNvSpPr/>
              <p:nvPr/>
            </p:nvSpPr>
            <p:spPr>
              <a:xfrm>
                <a:off x="-76320" y="4313160"/>
                <a:ext cx="6705720" cy="277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ffff"/>
                    </a:solidFill>
                    <a:latin typeface="Arial"/>
                  </a:rPr>
                  <a:t>tình yêu mình thể hiện  đối với đồng loại và với vạn vật chính là lời đáp trả tình yêu Chúa ban.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2682720" y="2789280"/>
                <a:ext cx="1295280" cy="1295280"/>
                <a:chOff x="2682720" y="2789280"/>
                <a:chExt cx="1295280" cy="1295280"/>
              </a:xfrm>
            </p:grpSpPr>
            <p:sp>
              <p:nvSpPr>
                <p:cNvPr id="83" name=""/>
                <p:cNvSpPr txBox="1"/>
                <p:nvPr/>
              </p:nvSpPr>
              <p:spPr>
                <a:xfrm>
                  <a:off x="2987280" y="2941560"/>
                  <a:ext cx="470160" cy="8740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CascadeUp">
                    <a:avLst>
                      <a:gd name="adj" fmla="val 1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7632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ffe701"/>
                          </a:gs>
                          <a:gs pos="100000">
                            <a:srgbClr val="fe3e02"/>
                          </a:gs>
                        </a:gsLst>
                        <a:lin ang="5400000"/>
                      </a:gradFill>
                      <a:latin typeface="Impact"/>
                    </a:rPr>
                    <a:t>1</a:t>
                  </a:r>
                  <a:endParaRPr b="0" lang="en-US" sz="1800" spc="1" strike="noStrike">
                    <a:ln w="76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5400000"/>
                    </a:gradFill>
                    <a:latin typeface="Impact"/>
                    <a:ea typeface="Impact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682720" y="2789280"/>
                  <a:ext cx="1295280" cy="1295280"/>
                </a:xfrm>
                <a:prstGeom prst="ellipse">
                  <a:avLst/>
                </a:prstGeom>
                <a:noFill/>
                <a:ln w="7632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" name=""/>
            <p:cNvSpPr/>
            <p:nvPr/>
          </p:nvSpPr>
          <p:spPr>
            <a:xfrm>
              <a:off x="0" y="4389480"/>
              <a:ext cx="6553080" cy="2620800"/>
            </a:xfrm>
            <a:prstGeom prst="flowChartAlternateProcess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645240" y="2789280"/>
            <a:ext cx="6338880" cy="4299120"/>
            <a:chOff x="6645240" y="2789280"/>
            <a:chExt cx="6338880" cy="4299120"/>
          </a:xfrm>
        </p:grpSpPr>
        <p:sp>
          <p:nvSpPr>
            <p:cNvPr id="87" name=""/>
            <p:cNvSpPr/>
            <p:nvPr/>
          </p:nvSpPr>
          <p:spPr>
            <a:xfrm>
              <a:off x="6645240" y="4313160"/>
              <a:ext cx="633888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ffffff"/>
                  </a:solidFill>
                  <a:latin typeface="Arial"/>
                </a:rPr>
                <a:t>bản thân mình là      khí cụ Chúa dùng để thông ban tình yêu của Người cho tha nhân.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8931240" y="2789280"/>
              <a:ext cx="1295280" cy="1295280"/>
              <a:chOff x="8931240" y="2789280"/>
              <a:chExt cx="1295280" cy="1295280"/>
            </a:xfrm>
          </p:grpSpPr>
          <p:sp>
            <p:nvSpPr>
              <p:cNvPr id="89" name=""/>
              <p:cNvSpPr txBox="1"/>
              <p:nvPr/>
            </p:nvSpPr>
            <p:spPr>
              <a:xfrm>
                <a:off x="9312120" y="2941560"/>
                <a:ext cx="469800" cy="874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1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76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5400000"/>
                    </a:gradFill>
                    <a:latin typeface="Impact"/>
                  </a:rPr>
                  <a:t>2</a:t>
                </a:r>
                <a:endParaRPr b="0" lang="en-US" sz="1800" spc="1" strike="noStrike">
                  <a:ln w="76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931240" y="2789280"/>
                <a:ext cx="1295280" cy="1295280"/>
              </a:xfrm>
              <a:prstGeom prst="ellipse">
                <a:avLst/>
              </a:prstGeom>
              <a:noFill/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645240" y="4389480"/>
              <a:ext cx="6338880" cy="2620800"/>
            </a:xfrm>
            <a:prstGeom prst="flowChartAlternateProcess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731880"/>
            <a:ext cx="12984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63. H.- Người tín hữu cần làm gì để        nuôi dưỡng hai      xác tín trên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68120" y="2116080"/>
            <a:ext cx="5334120" cy="5291280"/>
            <a:chOff x="168120" y="2116080"/>
            <a:chExt cx="5334120" cy="52912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168120" y="2116080"/>
              <a:ext cx="5334120" cy="52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082520" y="3246480"/>
              <a:ext cx="342900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ffffff"/>
                  </a:solidFill>
                  <a:latin typeface="Arial"/>
                </a:rPr>
                <a:t>chuyên       chăm              cầu nguyện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7178760" y="2116080"/>
            <a:ext cx="5333760" cy="5291280"/>
            <a:chOff x="7178760" y="2116080"/>
            <a:chExt cx="5333760" cy="5291280"/>
          </a:xfrm>
        </p:grpSpPr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7178760" y="2116080"/>
              <a:ext cx="5333760" cy="52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8093160" y="3398760"/>
              <a:ext cx="3521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cử hành Phụng vụ.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0" y="0"/>
            <a:ext cx="12984120" cy="3627360"/>
            <a:chOff x="0" y="0"/>
            <a:chExt cx="12984120" cy="3627360"/>
          </a:xfrm>
        </p:grpSpPr>
        <p:sp>
          <p:nvSpPr>
            <p:cNvPr id="100" name=""/>
            <p:cNvSpPr/>
            <p:nvPr/>
          </p:nvSpPr>
          <p:spPr>
            <a:xfrm>
              <a:off x="0" y="0"/>
              <a:ext cx="1298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200" spc="-1" strike="noStrike">
                  <a:solidFill>
                    <a:srgbClr val="ffffff"/>
                  </a:solidFill>
                  <a:latin typeface="Arial"/>
                </a:rPr>
                <a:t>T.- Cần kết hợp với Chúa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4359240" y="1189080"/>
              <a:ext cx="38098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qua việc</a:t>
              </a:r>
              <a:endPara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0840" y="2484360"/>
              <a:ext cx="1295280" cy="1143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0:16:05Z</dcterms:created>
  <dc:creator>NguyenMinh</dc:creator>
  <dc:description/>
  <dc:language>en-US</dc:language>
  <cp:lastModifiedBy>Nguyen Minh</cp:lastModifiedBy>
  <dcterms:modified xsi:type="dcterms:W3CDTF">2013-02-20T09:27:44Z</dcterms:modified>
  <cp:revision>47</cp:revision>
  <dc:subject/>
  <dc:title>Slide 1</dc:title>
</cp:coreProperties>
</file>