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3720" y="685440"/>
            <a:ext cx="6010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361-3932-41E9-B025-11F723A3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90B-30EA-4C3F-9924-F770ED66B4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2F75-4717-488B-9F56-4E73473AF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95A5-538F-40B8-83E1-3B090E6F7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423720" y="685800"/>
            <a:ext cx="601056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47C7-79AD-4F50-A084-869235A2D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830-EAD0-4CA9-BD74-9589A8ED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FEF-955B-4355-BEE5-07E73D08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910-569C-4909-B4C1-8CADD85F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44A-954C-451F-B987-F0AC7A9D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FC8-D4B4-4776-BAB9-8D69FDBE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CD9-FD71-4BBD-94A2-A2863511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EC3-9C83-487D-92A0-69ADF00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92D-2560-4A0A-98EE-50F0AD3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115-24F9-4AC3-BCD5-7FA1AC5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5D4-92BC-4791-9558-E5939C2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DC4-075A-469B-9790-33D1312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C4D-DD69-4380-80F4-4523BAB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7AA5-8616-402A-9112-C316B166C989}" type="datetime">
              <a:rPr b="0" lang="en-US" sz="15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0EA-A047-4668-A44A-5297DC24C8AF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73040" y="503280"/>
            <a:ext cx="12115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I 2 / 1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ÁC VĂN KIỆN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ÔNG ĐỒNG VATICANÔ II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À SÁCH GIÁO LÝ HỘI THÁNH CÔNG GIÁO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3920" y="5989680"/>
            <a:ext cx="113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Tin Mừng và đức tin của Giáo Hội đã được diễn đạt chói lọi trong các văn kiện Công đồng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6720" y="0"/>
            <a:ext cx="122842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1. H.- Trước tình hình đức tin của các tín hữu bị xâm hại như vậy, các Nghị phụ đã làm gì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298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00ff"/>
                </a:solidFill>
                <a:latin typeface="Arial"/>
              </a:rPr>
              <a:t>T.- Các Nghị phụ đã 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083520" y="1494000"/>
            <a:ext cx="1371600" cy="1676160"/>
            <a:chOff x="9083520" y="1494000"/>
            <a:chExt cx="1371600" cy="1676160"/>
          </a:xfrm>
        </p:grpSpPr>
        <p:sp>
          <p:nvSpPr>
            <p:cNvPr id="82" name=""/>
            <p:cNvSpPr txBox="1"/>
            <p:nvPr/>
          </p:nvSpPr>
          <p:spPr>
            <a:xfrm>
              <a:off x="9236160" y="1798560"/>
              <a:ext cx="920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83520" y="1494000"/>
              <a:ext cx="1371600" cy="1676160"/>
            </a:xfrm>
            <a:prstGeom prst="ellipse">
              <a:avLst/>
            </a:prstGeom>
            <a:noFill/>
            <a:ln w="76320">
              <a:solidFill>
                <a:srgbClr val="f0e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0760" y="1798560"/>
            <a:ext cx="12663360" cy="5608800"/>
            <a:chOff x="320760" y="1798560"/>
            <a:chExt cx="12663360" cy="5608800"/>
          </a:xfrm>
        </p:grpSpPr>
        <p:sp>
          <p:nvSpPr>
            <p:cNvPr id="85" name=""/>
            <p:cNvSpPr/>
            <p:nvPr/>
          </p:nvSpPr>
          <p:spPr>
            <a:xfrm rot="10800000">
              <a:off x="320760" y="1798200"/>
              <a:ext cx="12344400" cy="5608800"/>
            </a:xfrm>
            <a:custGeom>
              <a:avLst/>
              <a:gdLst>
                <a:gd name="textAreaLeft" fmla="*/ 0 w 12344400"/>
                <a:gd name="textAreaRight" fmla="*/ 12344760 w 12344400"/>
                <a:gd name="textAreaTop" fmla="*/ 726840 h 5608800"/>
                <a:gd name="textAreaBottom" fmla="*/ 4881960 h 56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0760" y="2255760"/>
              <a:ext cx="5578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Chú tâm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30440" y="3627360"/>
              <a:ext cx="952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củng cố nội bộ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21200" y="522756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Giáo Hội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59840" y="198360"/>
            <a:ext cx="1371600" cy="1676520"/>
            <a:chOff x="9159840" y="198360"/>
            <a:chExt cx="1371600" cy="1676520"/>
          </a:xfrm>
        </p:grpSpPr>
        <p:sp>
          <p:nvSpPr>
            <p:cNvPr id="90" name=""/>
            <p:cNvSpPr txBox="1"/>
            <p:nvPr/>
          </p:nvSpPr>
          <p:spPr>
            <a:xfrm>
              <a:off x="9388440" y="426960"/>
              <a:ext cx="920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59840" y="198360"/>
              <a:ext cx="1371600" cy="1676520"/>
            </a:xfrm>
            <a:prstGeom prst="ellipse">
              <a:avLst/>
            </a:prstGeom>
            <a:noFill/>
            <a:ln w="76320">
              <a:solidFill>
                <a:srgbClr val="f0e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351000"/>
            <a:ext cx="12727080" cy="6858000"/>
            <a:chOff x="0" y="351000"/>
            <a:chExt cx="12727080" cy="6858000"/>
          </a:xfrm>
        </p:grpSpPr>
        <p:sp>
          <p:nvSpPr>
            <p:cNvPr id="93" name=""/>
            <p:cNvSpPr/>
            <p:nvPr/>
          </p:nvSpPr>
          <p:spPr>
            <a:xfrm>
              <a:off x="168120" y="351000"/>
              <a:ext cx="12344400" cy="6858000"/>
            </a:xfrm>
            <a:custGeom>
              <a:avLst/>
              <a:gdLst>
                <a:gd name="textAreaLeft" fmla="*/ 0 w 12344400"/>
                <a:gd name="textAreaRight" fmla="*/ 12344760 w 12344400"/>
                <a:gd name="textAreaTop" fmla="*/ 888840 h 6858000"/>
                <a:gd name="textAreaBottom" fmla="*/ 5969160 h 68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760" y="2027160"/>
              <a:ext cx="122680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kiến thức giáo lý</a:t>
              </a:r>
              <a:r>
                <a:rPr b="0" lang="fr-FR" sz="9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nền tảng cho suy tư,    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55560"/>
              <a:ext cx="670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Trình bày</a:t>
              </a:r>
              <a:r>
                <a:rPr b="0" lang="fr-FR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9440" y="5075280"/>
              <a:ext cx="6767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hành động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44440" y="733320"/>
            <a:ext cx="12496680" cy="6170760"/>
            <a:chOff x="244440" y="733320"/>
            <a:chExt cx="12496680" cy="6170760"/>
          </a:xfrm>
        </p:grpSpPr>
        <p:sp>
          <p:nvSpPr>
            <p:cNvPr id="98" name=""/>
            <p:cNvSpPr/>
            <p:nvPr/>
          </p:nvSpPr>
          <p:spPr>
            <a:xfrm>
              <a:off x="244440" y="733320"/>
              <a:ext cx="12496680" cy="6170760"/>
            </a:xfrm>
            <a:custGeom>
              <a:avLst/>
              <a:gdLst>
                <a:gd name="textAreaLeft" fmla="*/ 0 w 12496680"/>
                <a:gd name="textAreaRight" fmla="*/ 12497040 w 12496680"/>
                <a:gd name="textAreaTop" fmla="*/ 799920 h 6170760"/>
                <a:gd name="textAreaBottom" fmla="*/ 5370840 h 617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760" y="1036800"/>
              <a:ext cx="5943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Xây dựng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720" y="2484360"/>
              <a:ext cx="12192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tương quan tốt với các tôn giáo khác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159840" y="503280"/>
            <a:ext cx="1371600" cy="1676520"/>
            <a:chOff x="9159840" y="503280"/>
            <a:chExt cx="1371600" cy="1676520"/>
          </a:xfrm>
        </p:grpSpPr>
        <p:sp>
          <p:nvSpPr>
            <p:cNvPr id="102" name=""/>
            <p:cNvSpPr txBox="1"/>
            <p:nvPr/>
          </p:nvSpPr>
          <p:spPr>
            <a:xfrm>
              <a:off x="9388440" y="731880"/>
              <a:ext cx="920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59840" y="503280"/>
              <a:ext cx="1371600" cy="1676520"/>
            </a:xfrm>
            <a:prstGeom prst="ellipse">
              <a:avLst/>
            </a:prstGeom>
            <a:noFill/>
            <a:ln w="76320">
              <a:solidFill>
                <a:srgbClr val="f0e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503280"/>
            <a:ext cx="12817440" cy="6737760"/>
            <a:chOff x="0" y="503280"/>
            <a:chExt cx="12817440" cy="6737760"/>
          </a:xfrm>
        </p:grpSpPr>
        <p:sp>
          <p:nvSpPr>
            <p:cNvPr id="105" name=""/>
            <p:cNvSpPr/>
            <p:nvPr/>
          </p:nvSpPr>
          <p:spPr>
            <a:xfrm>
              <a:off x="168120" y="503280"/>
              <a:ext cx="12649320" cy="6629400"/>
            </a:xfrm>
            <a:custGeom>
              <a:avLst/>
              <a:gdLst>
                <a:gd name="textAreaLeft" fmla="*/ 0 w 12649320"/>
                <a:gd name="textAreaRight" fmla="*/ 12649680 w 12649320"/>
                <a:gd name="textAreaTop" fmla="*/ 859320 h 6629400"/>
                <a:gd name="textAreaBottom" fmla="*/ 5770080 h 662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5320" y="655560"/>
              <a:ext cx="48006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800" spc="-1" strike="noStrike">
                  <a:solidFill>
                    <a:srgbClr val="000000"/>
                  </a:solidFill>
                  <a:latin typeface="Arial"/>
                </a:rPr>
                <a:t>Nêu rõ</a:t>
              </a:r>
              <a:r>
                <a:rPr b="0" lang="fr-FR" sz="96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30640" y="4465800"/>
              <a:ext cx="853452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800" spc="-1" strike="noStrike">
                  <a:solidFill>
                    <a:srgbClr val="000000"/>
                  </a:solidFill>
                  <a:latin typeface="Arial"/>
                </a:rPr>
                <a:t>đại</a:t>
              </a:r>
              <a:r>
                <a:rPr b="0" lang="fr-FR" sz="8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8800" spc="-1" strike="noStrike">
                  <a:solidFill>
                    <a:srgbClr val="000000"/>
                  </a:solidFill>
                  <a:latin typeface="Arial"/>
                </a:rPr>
                <a:t>và môi sinh    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27160"/>
              <a:ext cx="1274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0" spc="-1" strike="noStrike">
                  <a:solidFill>
                    <a:srgbClr val="000000"/>
                  </a:solidFill>
                  <a:latin typeface="Arial"/>
                </a:rPr>
                <a:t>lập trường về các</a:t>
              </a:r>
              <a:r>
                <a:rPr b="0" lang="fr-FR" sz="8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8000" spc="-1" strike="noStrike">
                  <a:solidFill>
                    <a:srgbClr val="000000"/>
                  </a:solidFill>
                  <a:latin typeface="Arial"/>
                </a:rPr>
                <a:t>vấn đề của con người thời đại</a:t>
              </a:r>
              <a:r>
                <a:rPr b="1" lang="fr-FR" sz="8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159840" y="503280"/>
            <a:ext cx="1371600" cy="1676520"/>
            <a:chOff x="9159840" y="503280"/>
            <a:chExt cx="1371600" cy="1676520"/>
          </a:xfrm>
        </p:grpSpPr>
        <p:sp>
          <p:nvSpPr>
            <p:cNvPr id="110" name=""/>
            <p:cNvSpPr txBox="1"/>
            <p:nvPr/>
          </p:nvSpPr>
          <p:spPr>
            <a:xfrm>
              <a:off x="9388440" y="731880"/>
              <a:ext cx="920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59840" y="503280"/>
              <a:ext cx="1371600" cy="1676520"/>
            </a:xfrm>
            <a:prstGeom prst="ellipse">
              <a:avLst/>
            </a:prstGeom>
            <a:noFill/>
            <a:ln w="76320">
              <a:solidFill>
                <a:srgbClr val="f0e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12984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2. H.- Những cố gắng của Công đồng Vaticanô II đã đem lại những thành quả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16040" y="1036800"/>
            <a:ext cx="96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 đã đem lại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578560" y="2789280"/>
            <a:ext cx="156348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008600"/>
            <a:ext cx="969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hành quả này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16200000">
            <a:off x="2852640" y="-2620440"/>
            <a:ext cx="7407360" cy="12648960"/>
          </a:xfrm>
          <a:prstGeom prst="flowChartAlternateProcess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760" y="1874880"/>
            <a:ext cx="1226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0066"/>
                </a:solidFill>
                <a:latin typeface="Arial"/>
              </a:rPr>
              <a:t>Chúa Thánh Thầ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25520" y="0"/>
            <a:ext cx="8244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Tạo môi trường             thuận lợi đ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3322800"/>
            <a:ext cx="12817440" cy="1191240"/>
            <a:chOff x="0" y="3322800"/>
            <a:chExt cx="12817440" cy="1191240"/>
          </a:xfrm>
        </p:grpSpPr>
        <p:sp>
          <p:nvSpPr>
            <p:cNvPr id="120" name=""/>
            <p:cNvSpPr/>
            <p:nvPr/>
          </p:nvSpPr>
          <p:spPr>
            <a:xfrm>
              <a:off x="0" y="3322800"/>
              <a:ext cx="1281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000000"/>
                  </a:solidFill>
                  <a:latin typeface="Arial"/>
                </a:rPr>
                <a:t>làm tươi trẻ Giáo Hội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396720" y="3474720"/>
              <a:ext cx="8384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*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6680" y="4389480"/>
            <a:ext cx="12817440" cy="3165840"/>
            <a:chOff x="166680" y="4389480"/>
            <a:chExt cx="12817440" cy="3165840"/>
          </a:xfrm>
        </p:grpSpPr>
        <p:sp>
          <p:nvSpPr>
            <p:cNvPr id="123" name=""/>
            <p:cNvSpPr/>
            <p:nvPr/>
          </p:nvSpPr>
          <p:spPr>
            <a:xfrm>
              <a:off x="166680" y="4389480"/>
              <a:ext cx="1281744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200" spc="-1" strike="noStrike">
                  <a:solidFill>
                    <a:srgbClr val="000000"/>
                  </a:solidFill>
                  <a:latin typeface="Arial"/>
                </a:rPr>
                <a:t>giúp Giáo Hội phản ánh gương mặt thánh thiện của Đức Kitô</a:t>
              </a:r>
              <a:r>
                <a:rPr b="1" lang="fr-FR" sz="8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96720" y="4571640"/>
              <a:ext cx="8384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*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5000" y="76320"/>
            <a:ext cx="1371600" cy="1371600"/>
            <a:chOff x="765000" y="76320"/>
            <a:chExt cx="1371600" cy="1371600"/>
          </a:xfrm>
        </p:grpSpPr>
        <p:sp>
          <p:nvSpPr>
            <p:cNvPr id="126" name=""/>
            <p:cNvSpPr txBox="1"/>
            <p:nvPr/>
          </p:nvSpPr>
          <p:spPr>
            <a:xfrm>
              <a:off x="904680" y="312840"/>
              <a:ext cx="91440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5000" y="76320"/>
              <a:ext cx="1371600" cy="1371600"/>
            </a:xfrm>
            <a:prstGeom prst="ellipse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5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5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550"/>
                            </p:stCondLst>
                            <p:childTnLst>
                              <p:par>
                                <p:cTn id="2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550"/>
                            </p:stCondLst>
                            <p:childTnLst>
                              <p:par>
                                <p:cTn id="2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1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855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155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16200000">
            <a:off x="2949480" y="-2506320"/>
            <a:ext cx="7010640" cy="12420720"/>
          </a:xfrm>
          <a:prstGeom prst="flowChartAlternateProcess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0760" y="503280"/>
            <a:ext cx="12344400" cy="6600960"/>
            <a:chOff x="320760" y="503280"/>
            <a:chExt cx="12344400" cy="6600960"/>
          </a:xfrm>
        </p:grpSpPr>
        <p:sp>
          <p:nvSpPr>
            <p:cNvPr id="130" name=""/>
            <p:cNvSpPr/>
            <p:nvPr/>
          </p:nvSpPr>
          <p:spPr>
            <a:xfrm>
              <a:off x="320760" y="503280"/>
              <a:ext cx="1234440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Khơi bùng lên phong trào canh tân khắp nơi trong   Giáo Hội.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20760" y="4770360"/>
              <a:ext cx="3495600" cy="23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159840" y="4694400"/>
              <a:ext cx="3495600" cy="23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320760" y="503280"/>
            <a:ext cx="1752480" cy="1752480"/>
            <a:chOff x="320760" y="503280"/>
            <a:chExt cx="1752480" cy="1752480"/>
          </a:xfrm>
        </p:grpSpPr>
        <p:sp>
          <p:nvSpPr>
            <p:cNvPr id="134" name=""/>
            <p:cNvSpPr txBox="1"/>
            <p:nvPr/>
          </p:nvSpPr>
          <p:spPr>
            <a:xfrm>
              <a:off x="625320" y="731880"/>
              <a:ext cx="1143000" cy="11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760" y="503280"/>
              <a:ext cx="1752480" cy="1752480"/>
            </a:xfrm>
            <a:prstGeom prst="ellipse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4440" y="198360"/>
            <a:ext cx="12420720" cy="7209000"/>
          </a:xfrm>
          <a:prstGeom prst="flowChartAlternateProcess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720" y="808200"/>
            <a:ext cx="12192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Để lại cho           Giáo Hội kho báu đồ sộ gồm 16 văn kiện và nhiều sứ điệp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9360" y="426960"/>
            <a:ext cx="1752480" cy="1752480"/>
            <a:chOff x="549360" y="426960"/>
            <a:chExt cx="1752480" cy="1752480"/>
          </a:xfrm>
        </p:grpSpPr>
        <p:sp>
          <p:nvSpPr>
            <p:cNvPr id="139" name=""/>
            <p:cNvSpPr txBox="1"/>
            <p:nvPr/>
          </p:nvSpPr>
          <p:spPr>
            <a:xfrm>
              <a:off x="853920" y="655560"/>
              <a:ext cx="1143000" cy="11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360" y="426960"/>
              <a:ext cx="1752480" cy="1752480"/>
            </a:xfrm>
            <a:prstGeom prst="ellipse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90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9. H.- Công đồng Vaticanô II là Công đồng nào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79600"/>
            <a:ext cx="12984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3. H.-  Những văn kiện nào của Công đồng Vaticanô II là quan trọng hơn cả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8120" y="351000"/>
            <a:ext cx="1257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- Bốn văn kiện sau đây được coi là cột trụ nâng đỡ tòa nhà Giáo Hội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150"/>
                            </p:stCondLst>
                            <p:childTnLst>
                              <p:par>
                                <p:cTn id="33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340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341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2924280"/>
            <a:ext cx="12984120" cy="4483080"/>
            <a:chOff x="0" y="2924280"/>
            <a:chExt cx="12984120" cy="4483080"/>
          </a:xfrm>
        </p:grpSpPr>
        <p:sp>
          <p:nvSpPr>
            <p:cNvPr id="146" name=""/>
            <p:cNvSpPr/>
            <p:nvPr/>
          </p:nvSpPr>
          <p:spPr>
            <a:xfrm>
              <a:off x="168120" y="3076560"/>
              <a:ext cx="12649320" cy="41911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924280"/>
              <a:ext cx="1298412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về Lời Chúa, xác định cội nguồn và nền tảng đức tin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996920" y="0"/>
            <a:ext cx="8305920" cy="2087640"/>
            <a:chOff x="1996920" y="0"/>
            <a:chExt cx="8305920" cy="2087640"/>
          </a:xfrm>
        </p:grpSpPr>
        <p:sp>
          <p:nvSpPr>
            <p:cNvPr id="149" name=""/>
            <p:cNvSpPr/>
            <p:nvPr/>
          </p:nvSpPr>
          <p:spPr>
            <a:xfrm>
              <a:off x="1996920" y="0"/>
              <a:ext cx="8305920" cy="2087640"/>
            </a:xfrm>
            <a:custGeom>
              <a:avLst/>
              <a:gdLst>
                <a:gd name="textAreaLeft" fmla="*/ 2076480 w 8305920"/>
                <a:gd name="textAreaRight" fmla="*/ 6229440 w 8305920"/>
                <a:gd name="textAreaTop" fmla="*/ 0 h 2087640"/>
                <a:gd name="textAreaBottom" fmla="*/ 17672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1186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458"/>
                  </a:lnTo>
                  <a:lnTo>
                    <a:pt x="0" y="3315"/>
                  </a:lnTo>
                  <a:lnTo>
                    <a:pt x="5400" y="3315"/>
                  </a:lnTo>
                  <a:lnTo>
                    <a:pt x="5400" y="829"/>
                  </a:lnTo>
                  <a:cubicBezTo>
                    <a:pt x="5400" y="414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414"/>
                    <a:pt x="16200" y="829"/>
                  </a:cubicBezTo>
                  <a:lnTo>
                    <a:pt x="16200" y="3315"/>
                  </a:lnTo>
                  <a:lnTo>
                    <a:pt x="21600" y="3315"/>
                  </a:lnTo>
                  <a:lnTo>
                    <a:pt x="18850" y="12458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186"/>
                    <a:pt x="13500" y="20771"/>
                  </a:cubicBezTo>
                  <a:lnTo>
                    <a:pt x="13500" y="18285"/>
                  </a:lnTo>
                  <a:close/>
                </a:path>
                <a:path fill="darkenLess"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0357"/>
                    <a:pt x="7680" y="19943"/>
                    <a:pt x="7260" y="19943"/>
                  </a:cubicBezTo>
                  <a:lnTo>
                    <a:pt x="6240" y="19943"/>
                  </a:lnTo>
                  <a:cubicBezTo>
                    <a:pt x="5820" y="19943"/>
                    <a:pt x="5400" y="19528"/>
                    <a:pt x="5400" y="19114"/>
                  </a:cubicBezTo>
                  <a:cubicBezTo>
                    <a:pt x="5400" y="18699"/>
                    <a:pt x="5820" y="18285"/>
                    <a:pt x="6240" y="18285"/>
                  </a:cubicBezTo>
                  <a:close/>
                </a:path>
                <a:path fill="darkenLess" w="21600" h="21600">
                  <a:moveTo>
                    <a:pt x="13500" y="18285"/>
                  </a:moveTo>
                  <a:lnTo>
                    <a:pt x="13500" y="20771"/>
                  </a:lnTo>
                  <a:cubicBezTo>
                    <a:pt x="13500" y="20357"/>
                    <a:pt x="13920" y="19943"/>
                    <a:pt x="14340" y="19943"/>
                  </a:cubicBezTo>
                  <a:lnTo>
                    <a:pt x="15360" y="19943"/>
                  </a:lnTo>
                  <a:cubicBezTo>
                    <a:pt x="15780" y="19943"/>
                    <a:pt x="16200" y="19528"/>
                    <a:pt x="16200" y="19114"/>
                  </a:cubicBezTo>
                  <a:cubicBezTo>
                    <a:pt x="16200" y="18699"/>
                    <a:pt x="15780" y="18285"/>
                    <a:pt x="15360" y="18285"/>
                  </a:cubicBezTo>
                  <a:close/>
                </a:path>
                <a:path fill="darkenLess" w="21600" h="21600">
                  <a:moveTo>
                    <a:pt x="5400" y="19114"/>
                  </a:moveTo>
                  <a:lnTo>
                    <a:pt x="5400" y="3315"/>
                  </a:lnTo>
                </a:path>
                <a:path fill="darkenLess" w="21600" h="21600">
                  <a:moveTo>
                    <a:pt x="16200" y="19114"/>
                  </a:moveTo>
                  <a:lnTo>
                    <a:pt x="16200" y="3315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0640" y="38160"/>
              <a:ext cx="4038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Hiến chế “</a:t>
              </a:r>
              <a:r>
                <a:rPr b="1" i="1" lang="fr-FR" sz="5400" spc="-1" strike="noStrike">
                  <a:solidFill>
                    <a:srgbClr val="ffffff"/>
                  </a:solidFill>
                  <a:latin typeface="Arial"/>
                </a:rPr>
                <a:t>Mạc Khải</a:t>
              </a: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 txBox="1"/>
          <p:nvPr/>
        </p:nvSpPr>
        <p:spPr>
          <a:xfrm>
            <a:off x="4206960" y="225576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1640" y="3627360"/>
            <a:ext cx="11582280" cy="3475080"/>
            <a:chOff x="701640" y="3627360"/>
            <a:chExt cx="11582280" cy="3475080"/>
          </a:xfrm>
        </p:grpSpPr>
        <p:sp>
          <p:nvSpPr>
            <p:cNvPr id="154" name=""/>
            <p:cNvSpPr/>
            <p:nvPr/>
          </p:nvSpPr>
          <p:spPr>
            <a:xfrm>
              <a:off x="701640" y="3627360"/>
              <a:ext cx="11582280" cy="347508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0240" y="3855960"/>
              <a:ext cx="11049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canh tân phụng vụ trong Giáo Hội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96920" y="274680"/>
            <a:ext cx="8305920" cy="2087640"/>
            <a:chOff x="1996920" y="274680"/>
            <a:chExt cx="8305920" cy="2087640"/>
          </a:xfrm>
        </p:grpSpPr>
        <p:sp>
          <p:nvSpPr>
            <p:cNvPr id="157" name=""/>
            <p:cNvSpPr/>
            <p:nvPr/>
          </p:nvSpPr>
          <p:spPr>
            <a:xfrm>
              <a:off x="1996920" y="274680"/>
              <a:ext cx="8305920" cy="2087640"/>
            </a:xfrm>
            <a:custGeom>
              <a:avLst/>
              <a:gdLst>
                <a:gd name="textAreaLeft" fmla="*/ 2076480 w 8305920"/>
                <a:gd name="textAreaRight" fmla="*/ 6229440 w 8305920"/>
                <a:gd name="textAreaTop" fmla="*/ 0 h 2087640"/>
                <a:gd name="textAreaBottom" fmla="*/ 17672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1186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458"/>
                  </a:lnTo>
                  <a:lnTo>
                    <a:pt x="0" y="3315"/>
                  </a:lnTo>
                  <a:lnTo>
                    <a:pt x="5400" y="3315"/>
                  </a:lnTo>
                  <a:lnTo>
                    <a:pt x="5400" y="829"/>
                  </a:lnTo>
                  <a:cubicBezTo>
                    <a:pt x="5400" y="414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414"/>
                    <a:pt x="16200" y="829"/>
                  </a:cubicBezTo>
                  <a:lnTo>
                    <a:pt x="16200" y="3315"/>
                  </a:lnTo>
                  <a:lnTo>
                    <a:pt x="21600" y="3315"/>
                  </a:lnTo>
                  <a:lnTo>
                    <a:pt x="18850" y="12458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186"/>
                    <a:pt x="13500" y="20771"/>
                  </a:cubicBezTo>
                  <a:lnTo>
                    <a:pt x="13500" y="18285"/>
                  </a:lnTo>
                  <a:close/>
                </a:path>
                <a:path fill="darkenLess"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0357"/>
                    <a:pt x="7680" y="19943"/>
                    <a:pt x="7260" y="19943"/>
                  </a:cubicBezTo>
                  <a:lnTo>
                    <a:pt x="6240" y="19943"/>
                  </a:lnTo>
                  <a:cubicBezTo>
                    <a:pt x="5820" y="19943"/>
                    <a:pt x="5400" y="19528"/>
                    <a:pt x="5400" y="19114"/>
                  </a:cubicBezTo>
                  <a:cubicBezTo>
                    <a:pt x="5400" y="18699"/>
                    <a:pt x="5820" y="18285"/>
                    <a:pt x="6240" y="18285"/>
                  </a:cubicBezTo>
                  <a:close/>
                </a:path>
                <a:path fill="darkenLess" w="21600" h="21600">
                  <a:moveTo>
                    <a:pt x="13500" y="18285"/>
                  </a:moveTo>
                  <a:lnTo>
                    <a:pt x="13500" y="20771"/>
                  </a:lnTo>
                  <a:cubicBezTo>
                    <a:pt x="13500" y="20357"/>
                    <a:pt x="13920" y="19943"/>
                    <a:pt x="14340" y="19943"/>
                  </a:cubicBezTo>
                  <a:lnTo>
                    <a:pt x="15360" y="19943"/>
                  </a:lnTo>
                  <a:cubicBezTo>
                    <a:pt x="15780" y="19943"/>
                    <a:pt x="16200" y="19528"/>
                    <a:pt x="16200" y="19114"/>
                  </a:cubicBezTo>
                  <a:cubicBezTo>
                    <a:pt x="16200" y="18699"/>
                    <a:pt x="15780" y="18285"/>
                    <a:pt x="15360" y="18285"/>
                  </a:cubicBezTo>
                  <a:close/>
                </a:path>
                <a:path fill="darkenLess" w="21600" h="21600">
                  <a:moveTo>
                    <a:pt x="5400" y="19114"/>
                  </a:moveTo>
                  <a:lnTo>
                    <a:pt x="5400" y="3315"/>
                  </a:lnTo>
                </a:path>
                <a:path fill="darkenLess" w="21600" h="21600">
                  <a:moveTo>
                    <a:pt x="16200" y="19114"/>
                  </a:moveTo>
                  <a:lnTo>
                    <a:pt x="16200" y="3315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54320" y="274680"/>
              <a:ext cx="4267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Hiến chế “</a:t>
              </a:r>
              <a:r>
                <a:rPr b="1" i="1" lang="fr-FR" sz="5400" spc="-1" strike="noStrike">
                  <a:solidFill>
                    <a:srgbClr val="ffffff"/>
                  </a:solidFill>
                  <a:latin typeface="Arial"/>
                </a:rPr>
                <a:t>Phụng Vụ</a:t>
              </a: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206960" y="271296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996920" y="0"/>
            <a:ext cx="8305920" cy="2636640"/>
            <a:chOff x="1996920" y="0"/>
            <a:chExt cx="8305920" cy="2636640"/>
          </a:xfrm>
        </p:grpSpPr>
        <p:sp>
          <p:nvSpPr>
            <p:cNvPr id="161" name=""/>
            <p:cNvSpPr/>
            <p:nvPr/>
          </p:nvSpPr>
          <p:spPr>
            <a:xfrm>
              <a:off x="1996920" y="192240"/>
              <a:ext cx="8305920" cy="2444400"/>
            </a:xfrm>
            <a:custGeom>
              <a:avLst/>
              <a:gdLst>
                <a:gd name="textAreaLeft" fmla="*/ 2076480 w 8305920"/>
                <a:gd name="textAreaRight" fmla="*/ 6229440 w 8305920"/>
                <a:gd name="textAreaTop" fmla="*/ 0 h 2444400"/>
                <a:gd name="textAreaBottom" fmla="*/ 2069280 h 24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1186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458"/>
                  </a:lnTo>
                  <a:lnTo>
                    <a:pt x="0" y="3315"/>
                  </a:lnTo>
                  <a:lnTo>
                    <a:pt x="5400" y="3315"/>
                  </a:lnTo>
                  <a:lnTo>
                    <a:pt x="5400" y="829"/>
                  </a:lnTo>
                  <a:cubicBezTo>
                    <a:pt x="5400" y="414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414"/>
                    <a:pt x="16200" y="829"/>
                  </a:cubicBezTo>
                  <a:lnTo>
                    <a:pt x="16200" y="3315"/>
                  </a:lnTo>
                  <a:lnTo>
                    <a:pt x="21600" y="3315"/>
                  </a:lnTo>
                  <a:lnTo>
                    <a:pt x="18850" y="12458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186"/>
                    <a:pt x="13500" y="20771"/>
                  </a:cubicBezTo>
                  <a:lnTo>
                    <a:pt x="13500" y="18285"/>
                  </a:lnTo>
                  <a:close/>
                </a:path>
                <a:path fill="darkenLess"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0357"/>
                    <a:pt x="7680" y="19943"/>
                    <a:pt x="7260" y="19943"/>
                  </a:cubicBezTo>
                  <a:lnTo>
                    <a:pt x="6240" y="19943"/>
                  </a:lnTo>
                  <a:cubicBezTo>
                    <a:pt x="5820" y="19943"/>
                    <a:pt x="5400" y="19528"/>
                    <a:pt x="5400" y="19114"/>
                  </a:cubicBezTo>
                  <a:cubicBezTo>
                    <a:pt x="5400" y="18699"/>
                    <a:pt x="5820" y="18285"/>
                    <a:pt x="6240" y="18285"/>
                  </a:cubicBezTo>
                  <a:close/>
                </a:path>
                <a:path fill="darkenLess" w="21600" h="21600">
                  <a:moveTo>
                    <a:pt x="13500" y="18285"/>
                  </a:moveTo>
                  <a:lnTo>
                    <a:pt x="13500" y="20771"/>
                  </a:lnTo>
                  <a:cubicBezTo>
                    <a:pt x="13500" y="20357"/>
                    <a:pt x="13920" y="19943"/>
                    <a:pt x="14340" y="19943"/>
                  </a:cubicBezTo>
                  <a:lnTo>
                    <a:pt x="15360" y="19943"/>
                  </a:lnTo>
                  <a:cubicBezTo>
                    <a:pt x="15780" y="19943"/>
                    <a:pt x="16200" y="19528"/>
                    <a:pt x="16200" y="19114"/>
                  </a:cubicBezTo>
                  <a:cubicBezTo>
                    <a:pt x="16200" y="18699"/>
                    <a:pt x="15780" y="18285"/>
                    <a:pt x="15360" y="18285"/>
                  </a:cubicBezTo>
                  <a:close/>
                </a:path>
                <a:path fill="darkenLess" w="21600" h="21600">
                  <a:moveTo>
                    <a:pt x="5400" y="19114"/>
                  </a:moveTo>
                  <a:lnTo>
                    <a:pt x="5400" y="3315"/>
                  </a:lnTo>
                </a:path>
                <a:path fill="darkenLess" w="21600" h="21600">
                  <a:moveTo>
                    <a:pt x="16200" y="19114"/>
                  </a:moveTo>
                  <a:lnTo>
                    <a:pt x="16200" y="3315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67280" y="0"/>
              <a:ext cx="426708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ffffff"/>
                  </a:solidFill>
                  <a:latin typeface="Arial"/>
                </a:rPr>
                <a:t>Hiến chế</a:t>
              </a: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       « </a:t>
              </a:r>
              <a:r>
                <a:rPr b="1" i="1" lang="fr-FR" sz="4000" spc="-1" strike="noStrike">
                  <a:solidFill>
                    <a:srgbClr val="ffffff"/>
                  </a:solidFill>
                  <a:latin typeface="Arial"/>
                </a:rPr>
                <a:t>Ánh Sáng          muôn dân 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360" y="3703680"/>
            <a:ext cx="11963160" cy="3551040"/>
            <a:chOff x="549360" y="3703680"/>
            <a:chExt cx="11963160" cy="3551040"/>
          </a:xfrm>
        </p:grpSpPr>
        <p:sp>
          <p:nvSpPr>
            <p:cNvPr id="165" name=""/>
            <p:cNvSpPr/>
            <p:nvPr/>
          </p:nvSpPr>
          <p:spPr>
            <a:xfrm>
              <a:off x="549360" y="3703680"/>
              <a:ext cx="11963160" cy="355104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5320" y="3855960"/>
              <a:ext cx="118112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về bản chất và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sứ vụ Giáo Hội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4206960" y="28656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996920" y="0"/>
            <a:ext cx="8305920" cy="2636640"/>
            <a:chOff x="1996920" y="0"/>
            <a:chExt cx="8305920" cy="2636640"/>
          </a:xfrm>
        </p:grpSpPr>
        <p:sp>
          <p:nvSpPr>
            <p:cNvPr id="169" name=""/>
            <p:cNvSpPr/>
            <p:nvPr/>
          </p:nvSpPr>
          <p:spPr>
            <a:xfrm>
              <a:off x="1996920" y="192240"/>
              <a:ext cx="8305920" cy="2444400"/>
            </a:xfrm>
            <a:custGeom>
              <a:avLst/>
              <a:gdLst>
                <a:gd name="textAreaLeft" fmla="*/ 2076480 w 8305920"/>
                <a:gd name="textAreaRight" fmla="*/ 6229440 w 8305920"/>
                <a:gd name="textAreaTop" fmla="*/ 0 h 2444400"/>
                <a:gd name="textAreaBottom" fmla="*/ 2069280 h 24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1186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458"/>
                  </a:lnTo>
                  <a:lnTo>
                    <a:pt x="0" y="3315"/>
                  </a:lnTo>
                  <a:lnTo>
                    <a:pt x="5400" y="3315"/>
                  </a:lnTo>
                  <a:lnTo>
                    <a:pt x="5400" y="829"/>
                  </a:lnTo>
                  <a:cubicBezTo>
                    <a:pt x="5400" y="414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414"/>
                    <a:pt x="16200" y="829"/>
                  </a:cubicBezTo>
                  <a:lnTo>
                    <a:pt x="16200" y="3315"/>
                  </a:lnTo>
                  <a:lnTo>
                    <a:pt x="21600" y="3315"/>
                  </a:lnTo>
                  <a:lnTo>
                    <a:pt x="18850" y="12458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186"/>
                    <a:pt x="13500" y="20771"/>
                  </a:cubicBezTo>
                  <a:lnTo>
                    <a:pt x="13500" y="18285"/>
                  </a:lnTo>
                  <a:close/>
                </a:path>
                <a:path fill="darkenLess" w="21600" h="21600">
                  <a:moveTo>
                    <a:pt x="8100" y="18285"/>
                  </a:moveTo>
                  <a:lnTo>
                    <a:pt x="8100" y="20771"/>
                  </a:lnTo>
                  <a:cubicBezTo>
                    <a:pt x="8100" y="20357"/>
                    <a:pt x="7680" y="19943"/>
                    <a:pt x="7260" y="19943"/>
                  </a:cubicBezTo>
                  <a:lnTo>
                    <a:pt x="6240" y="19943"/>
                  </a:lnTo>
                  <a:cubicBezTo>
                    <a:pt x="5820" y="19943"/>
                    <a:pt x="5400" y="19528"/>
                    <a:pt x="5400" y="19114"/>
                  </a:cubicBezTo>
                  <a:cubicBezTo>
                    <a:pt x="5400" y="18699"/>
                    <a:pt x="5820" y="18285"/>
                    <a:pt x="6240" y="18285"/>
                  </a:cubicBezTo>
                  <a:close/>
                </a:path>
                <a:path fill="darkenLess" w="21600" h="21600">
                  <a:moveTo>
                    <a:pt x="13500" y="18285"/>
                  </a:moveTo>
                  <a:lnTo>
                    <a:pt x="13500" y="20771"/>
                  </a:lnTo>
                  <a:cubicBezTo>
                    <a:pt x="13500" y="20357"/>
                    <a:pt x="13920" y="19943"/>
                    <a:pt x="14340" y="19943"/>
                  </a:cubicBezTo>
                  <a:lnTo>
                    <a:pt x="15360" y="19943"/>
                  </a:lnTo>
                  <a:cubicBezTo>
                    <a:pt x="15780" y="19943"/>
                    <a:pt x="16200" y="19528"/>
                    <a:pt x="16200" y="19114"/>
                  </a:cubicBezTo>
                  <a:cubicBezTo>
                    <a:pt x="16200" y="18699"/>
                    <a:pt x="15780" y="18285"/>
                    <a:pt x="15360" y="18285"/>
                  </a:cubicBezTo>
                  <a:close/>
                </a:path>
                <a:path fill="darkenLess" w="21600" h="21600">
                  <a:moveTo>
                    <a:pt x="5400" y="19114"/>
                  </a:moveTo>
                  <a:lnTo>
                    <a:pt x="5400" y="3315"/>
                  </a:lnTo>
                </a:path>
                <a:path fill="darkenLess" w="21600" h="21600">
                  <a:moveTo>
                    <a:pt x="16200" y="19114"/>
                  </a:moveTo>
                  <a:lnTo>
                    <a:pt x="16200" y="3315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7280" y="0"/>
              <a:ext cx="426708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ffffff"/>
                  </a:solidFill>
                  <a:latin typeface="Arial"/>
                </a:rPr>
                <a:t>Hiến chế</a:t>
              </a:r>
              <a:r>
                <a:rPr b="1" lang="fr-FR" sz="5400" spc="-1" strike="noStrike">
                  <a:solidFill>
                    <a:srgbClr val="ffffff"/>
                  </a:solidFill>
                  <a:latin typeface="Arial"/>
                </a:rPr>
                <a:t>       « </a:t>
              </a:r>
              <a:r>
                <a:rPr b="1" i="1" lang="fr-FR" sz="4000" spc="-1" strike="noStrike">
                  <a:solidFill>
                    <a:srgbClr val="ffffff"/>
                  </a:solidFill>
                  <a:latin typeface="Arial"/>
                </a:rPr>
                <a:t>Vui Mừng          &amp; Hy vọng 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9360" y="3703680"/>
            <a:ext cx="11963160" cy="3551040"/>
            <a:chOff x="549360" y="3703680"/>
            <a:chExt cx="11963160" cy="3551040"/>
          </a:xfrm>
        </p:grpSpPr>
        <p:sp>
          <p:nvSpPr>
            <p:cNvPr id="173" name=""/>
            <p:cNvSpPr/>
            <p:nvPr/>
          </p:nvSpPr>
          <p:spPr>
            <a:xfrm>
              <a:off x="549360" y="3703680"/>
              <a:ext cx="11963160" cy="355104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320" y="3855960"/>
              <a:ext cx="118112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000000"/>
                  </a:solidFill>
                  <a:latin typeface="Arial"/>
                </a:rPr>
                <a:t>về Giáo Hội trong thế giới ngày nay.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4206960" y="28656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à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4160" y="41608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98268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0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44440" y="1189080"/>
            <a:ext cx="5181120" cy="3580920"/>
            <a:chOff x="244440" y="1189080"/>
            <a:chExt cx="5181120" cy="3580920"/>
          </a:xfrm>
        </p:grpSpPr>
        <p:sp>
          <p:nvSpPr>
            <p:cNvPr id="52" name=""/>
            <p:cNvSpPr/>
            <p:nvPr/>
          </p:nvSpPr>
          <p:spPr>
            <a:xfrm>
              <a:off x="244440" y="1189080"/>
              <a:ext cx="5181120" cy="3580920"/>
            </a:xfrm>
            <a:custGeom>
              <a:avLst/>
              <a:gdLst>
                <a:gd name="textAreaLeft" fmla="*/ 0 w 5181120"/>
                <a:gd name="textAreaRight" fmla="*/ 5181120 w 5181120"/>
                <a:gd name="textAreaTop" fmla="*/ 464040 h 3580920"/>
                <a:gd name="textAreaBottom" fmla="*/ 3116880 h 35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650880" y="2183760"/>
              <a:ext cx="4469760" cy="13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Vaticanô II = 21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730840" y="274680"/>
            <a:ext cx="72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ông đồng Vaticanô II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là Công đồng thứ 21 của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Giáo Hội Công Giáo,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8550360" y="0"/>
            <a:ext cx="3276360" cy="3918240"/>
            <a:chOff x="8550360" y="0"/>
            <a:chExt cx="3276360" cy="39182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8729640" y="0"/>
              <a:ext cx="309672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550360" y="2361960"/>
              <a:ext cx="327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do Chân phước Gioan XXIII triệu tập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58840" y="351000"/>
            <a:ext cx="5334120" cy="314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780000"/>
            <a:ext cx="1298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ông đồng đã quy tụ hơn </a:t>
            </a:r>
            <a:r>
              <a:rPr b="1" lang="fr-FR" sz="7200" spc="-1" strike="noStrike">
                <a:solidFill>
                  <a:srgbClr val="ff00ff"/>
                </a:solidFill>
                <a:latin typeface="Arial"/>
              </a:rPr>
              <a:t>2400 Nghị phụ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làm việc trong 4 kỳ họp từ 1962-1965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31880"/>
            <a:ext cx="1298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10. H.- Công đồng Vaticanô II diễn ra </a:t>
            </a:r>
            <a:r>
              <a:rPr b="1" i="1" lang="fr-FR" sz="8800" spc="-1" strike="noStrike">
                <a:solidFill>
                  <a:srgbClr val="f0e500"/>
                </a:solidFill>
                <a:latin typeface="Arial"/>
              </a:rPr>
              <a:t>trong hoàn cảnh nào</a:t>
            </a:r>
            <a:r>
              <a:rPr b="1" i="1" lang="fr-FR" sz="9600" spc="-1" strike="noStrike">
                <a:solidFill>
                  <a:srgbClr val="f0e500"/>
                </a:solidFill>
                <a:latin typeface="Arial"/>
              </a:rPr>
              <a:t>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5320" y="1112760"/>
            <a:ext cx="1158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T.- Công đồng Vaticanô II diễn ra trong hoàn cảnh 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054320" y="274680"/>
            <a:ext cx="4953240" cy="2362320"/>
            <a:chOff x="4054320" y="274680"/>
            <a:chExt cx="4953240" cy="2362320"/>
          </a:xfrm>
        </p:grpSpPr>
        <p:sp>
          <p:nvSpPr>
            <p:cNvPr id="63" name=""/>
            <p:cNvSpPr/>
            <p:nvPr/>
          </p:nvSpPr>
          <p:spPr>
            <a:xfrm>
              <a:off x="4054320" y="274680"/>
              <a:ext cx="4953240" cy="2362320"/>
            </a:xfrm>
            <a:prstGeom prst="flowChartAlternateProcess">
              <a:avLst/>
            </a:prstGeom>
            <a:gradFill rotWithShape="0">
              <a:gsLst>
                <a:gs pos="0">
                  <a:srgbClr val="f0e500"/>
                </a:gs>
                <a:gs pos="100000">
                  <a:srgbClr val="6e6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35560" y="503280"/>
              <a:ext cx="4343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Arial"/>
                </a:rPr>
                <a:t>Nội bộ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49360" y="2865600"/>
            <a:ext cx="11810880" cy="4190760"/>
            <a:chOff x="549360" y="2865600"/>
            <a:chExt cx="11810880" cy="4190760"/>
          </a:xfrm>
        </p:grpSpPr>
        <p:sp>
          <p:nvSpPr>
            <p:cNvPr id="66" name=""/>
            <p:cNvSpPr/>
            <p:nvPr/>
          </p:nvSpPr>
          <p:spPr>
            <a:xfrm>
              <a:off x="549360" y="2865600"/>
              <a:ext cx="11810880" cy="41907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4640" y="3322800"/>
              <a:ext cx="94489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600" spc="-1" strike="noStrike">
                  <a:solidFill>
                    <a:srgbClr val="f0e500"/>
                  </a:solidFill>
                  <a:latin typeface="Arial"/>
                </a:rPr>
                <a:t>Giáo Hội tương đối yên ổn.</a:t>
              </a:r>
              <a:r>
                <a:rPr b="0" lang="fr-FR" sz="9600" spc="-1" strike="noStrike">
                  <a:solidFill>
                    <a:srgbClr val="f0e5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959440" y="0"/>
            <a:ext cx="5334120" cy="1951200"/>
            <a:chOff x="5959440" y="0"/>
            <a:chExt cx="5334120" cy="1951200"/>
          </a:xfrm>
        </p:grpSpPr>
        <p:sp>
          <p:nvSpPr>
            <p:cNvPr id="69" name=""/>
            <p:cNvSpPr/>
            <p:nvPr/>
          </p:nvSpPr>
          <p:spPr>
            <a:xfrm>
              <a:off x="5959440" y="0"/>
              <a:ext cx="5334120" cy="1951200"/>
            </a:xfrm>
            <a:prstGeom prst="flowChartAlternateProcess">
              <a:avLst/>
            </a:prstGeom>
            <a:gradFill rotWithShape="0">
              <a:gsLst>
                <a:gs pos="0">
                  <a:srgbClr val="f0e500"/>
                </a:gs>
                <a:gs pos="100000">
                  <a:srgbClr val="6e6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35760" y="274680"/>
              <a:ext cx="518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Bên ngoài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5400000">
            <a:off x="11178720" y="5646960"/>
            <a:ext cx="1219320" cy="1904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760" y="17226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* tục hóa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17016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Arial"/>
              </a:rPr>
              <a:t>* thực dụng 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4440" y="4694400"/>
            <a:ext cx="1158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 tin tưởng vào các thành tựu khoa học kỹ thuật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5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311120" y="0"/>
            <a:ext cx="11673000" cy="7407360"/>
            <a:chOff x="1311120" y="0"/>
            <a:chExt cx="11673000" cy="7407360"/>
          </a:xfrm>
        </p:grpSpPr>
        <p:sp>
          <p:nvSpPr>
            <p:cNvPr id="76" name=""/>
            <p:cNvSpPr/>
            <p:nvPr/>
          </p:nvSpPr>
          <p:spPr>
            <a:xfrm rot="16200000">
              <a:off x="3443760" y="-2132640"/>
              <a:ext cx="7407360" cy="11673000"/>
            </a:xfrm>
            <a:prstGeom prst="verticalScroll">
              <a:avLst>
                <a:gd name="adj" fmla="val 12500"/>
              </a:avLst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01840" y="1036800"/>
              <a:ext cx="10515600" cy="54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800" spc="-1" strike="noStrike">
                  <a:solidFill>
                    <a:srgbClr val="ffffff"/>
                  </a:solidFill>
                  <a:latin typeface="Arial"/>
                </a:rPr>
                <a:t>sóng ngầm xâm hại nặng nề đến đời sống đức tin của các tín hữu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8120" y="2637000"/>
            <a:ext cx="1067040" cy="1904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Nguyen Minh</cp:lastModifiedBy>
  <dcterms:modified xsi:type="dcterms:W3CDTF">2013-02-20T02:15:42Z</dcterms:modified>
  <cp:revision>50</cp:revision>
  <dc:subject/>
  <dc:title>Slide 1</dc:title>
</cp:coreProperties>
</file>