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985750" cy="7408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3720" y="685440"/>
            <a:ext cx="60105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69F4-D40D-468C-B36B-F2116E7C8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423720" y="685800"/>
            <a:ext cx="601056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837A-B003-4B3A-A81A-CF92389C48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32EA-A1F6-40B1-81F7-50C4213B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DD9-1574-4DE2-B449-CD0366CB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B1AD-AF72-41CE-80C0-EA0D3254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0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5108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9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0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5108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6F7E-CEE4-4B64-B247-CA137C52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D740-D74B-4F45-9970-2FE575B7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9D6A-ADE0-467C-8534-C5EE9F74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157-9764-4896-93B5-E3517234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D6BA-3BD7-49E3-91C2-79B40A21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9440" y="297000"/>
            <a:ext cx="1168560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CFE6-4F9B-4BDC-866E-1D404D49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C63-A2D8-4F47-9160-4EAFADDF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1D9-F02E-4F7E-9549-81A97FAC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8042-3818-4C97-A560-9CE5598B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70040" indent="-29520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2" marL="1184400" indent="-23652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3" marL="1658880" indent="-23652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4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5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6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9440" y="6744960"/>
            <a:ext cx="303048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BDE5-844B-4EFC-BA2F-065441482AED}" type="datetime">
              <a:rPr b="0" lang="en-US" sz="15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35200" y="6744960"/>
            <a:ext cx="411300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03840" y="6744960"/>
            <a:ext cx="303084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5845-AD86-4DE6-8AE3-71EF5A891175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073240" y="808200"/>
            <a:ext cx="8534520" cy="55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ÀI 5 / 1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IÁO LÝ VỀ HIỆP THÔNG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440" y="5075280"/>
            <a:ext cx="1249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Cầu chúc toàn thể anh chị em được đầy tràn ân sủng của                Chúa Giêsu Kitô, đầy tình thương của Thiên Chúa và ơn hiệp thông   của Thánh Thần. Amen”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2Cr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13,13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 rot="1071000">
            <a:off x="2530080" y="1646280"/>
            <a:ext cx="1013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T.- Được biểu lộ qua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54160" y="1353960"/>
            <a:ext cx="3657600" cy="2590560"/>
            <a:chOff x="254160" y="1353960"/>
            <a:chExt cx="3657600" cy="2590560"/>
          </a:xfrm>
        </p:grpSpPr>
        <p:sp>
          <p:nvSpPr>
            <p:cNvPr id="128" name=""/>
            <p:cNvSpPr/>
            <p:nvPr/>
          </p:nvSpPr>
          <p:spPr>
            <a:xfrm>
              <a:off x="254160" y="1353960"/>
              <a:ext cx="3657600" cy="25905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6440" y="1734840"/>
              <a:ext cx="33530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việc các tín hữu lắng nghe    giáo huấn các Tông đồ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292560" y="3094200"/>
            <a:ext cx="3886200" cy="2133360"/>
            <a:chOff x="3292560" y="3094200"/>
            <a:chExt cx="3886200" cy="2133360"/>
          </a:xfrm>
        </p:grpSpPr>
        <p:sp>
          <p:nvSpPr>
            <p:cNvPr id="131" name=""/>
            <p:cNvSpPr/>
            <p:nvPr/>
          </p:nvSpPr>
          <p:spPr>
            <a:xfrm>
              <a:off x="3292560" y="3094200"/>
              <a:ext cx="3886200" cy="21333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54320" y="3475080"/>
              <a:ext cx="2438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tham dự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Thánh Thể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746760" y="4440240"/>
            <a:ext cx="3352680" cy="1752480"/>
            <a:chOff x="6746760" y="4440240"/>
            <a:chExt cx="3352680" cy="1752480"/>
          </a:xfrm>
        </p:grpSpPr>
        <p:sp>
          <p:nvSpPr>
            <p:cNvPr id="134" name=""/>
            <p:cNvSpPr/>
            <p:nvPr/>
          </p:nvSpPr>
          <p:spPr>
            <a:xfrm>
              <a:off x="6746760" y="4440240"/>
              <a:ext cx="3352680" cy="175248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27640" y="4745160"/>
              <a:ext cx="2590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chuyên cần cầu nguyệ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9769320" y="5456160"/>
            <a:ext cx="2895840" cy="1524240"/>
            <a:chOff x="9769320" y="5456160"/>
            <a:chExt cx="2895840" cy="1524240"/>
          </a:xfrm>
        </p:grpSpPr>
        <p:sp>
          <p:nvSpPr>
            <p:cNvPr id="137" name=""/>
            <p:cNvSpPr/>
            <p:nvPr/>
          </p:nvSpPr>
          <p:spPr>
            <a:xfrm>
              <a:off x="9769320" y="5456160"/>
              <a:ext cx="2895840" cy="152424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074240" y="5595840"/>
              <a:ext cx="2362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chia sẻ huynh đệ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982680" cy="74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87440" y="1569960"/>
            <a:ext cx="12496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34. H. 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Hiệp thông là gì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8120" y="-182520"/>
            <a:ext cx="1264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f00ff"/>
                </a:solidFill>
                <a:latin typeface="Arial"/>
              </a:rPr>
              <a:t>T.- Hiệp thông là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740120" y="1722600"/>
            <a:ext cx="3429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ông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892760" y="2865600"/>
            <a:ext cx="2971800" cy="4541760"/>
            <a:chOff x="4892760" y="2865600"/>
            <a:chExt cx="2971800" cy="4541760"/>
          </a:xfrm>
        </p:grpSpPr>
        <p:grpSp>
          <p:nvGrpSpPr>
            <p:cNvPr id="54" name=""/>
            <p:cNvGrpSpPr/>
            <p:nvPr/>
          </p:nvGrpSpPr>
          <p:grpSpPr>
            <a:xfrm>
              <a:off x="4892760" y="4435560"/>
              <a:ext cx="2971800" cy="2971800"/>
              <a:chOff x="4892760" y="4435560"/>
              <a:chExt cx="2971800" cy="2971800"/>
            </a:xfrm>
          </p:grpSpPr>
          <p:sp>
            <p:nvSpPr>
              <p:cNvPr id="55" name=""/>
              <p:cNvSpPr/>
              <p:nvPr/>
            </p:nvSpPr>
            <p:spPr>
              <a:xfrm>
                <a:off x="4892760" y="4435560"/>
                <a:ext cx="2971800" cy="29718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500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045040" y="4969080"/>
                <a:ext cx="25909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600" spc="-1" strike="noStrike">
                    <a:solidFill>
                      <a:srgbClr val="ffffff"/>
                    </a:solidFill>
                    <a:latin typeface="Arial"/>
                  </a:rPr>
                  <a:t>dự các thực tại thánh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 rot="5400000">
              <a:off x="5578200" y="3170160"/>
              <a:ext cx="1523880" cy="914400"/>
            </a:xfrm>
            <a:custGeom>
              <a:avLst/>
              <a:gdLst>
                <a:gd name="textAreaLeft" fmla="*/ 190440 w 1523880"/>
                <a:gd name="textAreaRight" fmla="*/ 1333440 w 1523880"/>
                <a:gd name="textAreaTop" fmla="*/ 228600 h 914400"/>
                <a:gd name="textAreaBottom" fmla="*/ 6858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974280" y="1692360"/>
            <a:ext cx="5781240" cy="5715000"/>
            <a:chOff x="6974280" y="1692360"/>
            <a:chExt cx="5781240" cy="5715000"/>
          </a:xfrm>
        </p:grpSpPr>
        <p:grpSp>
          <p:nvGrpSpPr>
            <p:cNvPr id="59" name=""/>
            <p:cNvGrpSpPr/>
            <p:nvPr/>
          </p:nvGrpSpPr>
          <p:grpSpPr>
            <a:xfrm>
              <a:off x="9312120" y="4435560"/>
              <a:ext cx="2971800" cy="2971800"/>
              <a:chOff x="9312120" y="4435560"/>
              <a:chExt cx="2971800" cy="2971800"/>
            </a:xfrm>
          </p:grpSpPr>
          <p:sp>
            <p:nvSpPr>
              <p:cNvPr id="60" name=""/>
              <p:cNvSpPr/>
              <p:nvPr/>
            </p:nvSpPr>
            <p:spPr>
              <a:xfrm>
                <a:off x="9312120" y="4435560"/>
                <a:ext cx="2971800" cy="29718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500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540720" y="5197680"/>
                <a:ext cx="2590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600" spc="-1" strike="noStrike">
                    <a:solidFill>
                      <a:srgbClr val="ffffff"/>
                    </a:solidFill>
                    <a:latin typeface="Arial"/>
                  </a:rPr>
                  <a:t>công giữa các thánh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 rot="1984200">
              <a:off x="7026120" y="3902400"/>
              <a:ext cx="2438640" cy="914400"/>
            </a:xfrm>
            <a:custGeom>
              <a:avLst/>
              <a:gdLst>
                <a:gd name="textAreaLeft" fmla="*/ 304560 w 2438640"/>
                <a:gd name="textAreaRight" fmla="*/ 2134080 w 2438640"/>
                <a:gd name="textAreaTop" fmla="*/ 228600 h 914400"/>
                <a:gd name="textAreaBottom" fmla="*/ 6858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8931240" y="1692360"/>
              <a:ext cx="3824280" cy="216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"/>
          <p:cNvGrpSpPr/>
          <p:nvPr/>
        </p:nvGrpSpPr>
        <p:grpSpPr>
          <a:xfrm>
            <a:off x="625320" y="1844640"/>
            <a:ext cx="5034240" cy="5562360"/>
            <a:chOff x="625320" y="1844640"/>
            <a:chExt cx="5034240" cy="5562360"/>
          </a:xfrm>
        </p:grpSpPr>
        <p:grpSp>
          <p:nvGrpSpPr>
            <p:cNvPr id="65" name=""/>
            <p:cNvGrpSpPr/>
            <p:nvPr/>
          </p:nvGrpSpPr>
          <p:grpSpPr>
            <a:xfrm>
              <a:off x="625320" y="4435200"/>
              <a:ext cx="2987640" cy="2971800"/>
              <a:chOff x="625320" y="4435200"/>
              <a:chExt cx="2987640" cy="2971800"/>
            </a:xfrm>
          </p:grpSpPr>
          <p:sp>
            <p:nvSpPr>
              <p:cNvPr id="66" name=""/>
              <p:cNvSpPr/>
              <p:nvPr/>
            </p:nvSpPr>
            <p:spPr>
              <a:xfrm>
                <a:off x="625320" y="4435200"/>
                <a:ext cx="2971800" cy="29718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500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25320" y="4968720"/>
                <a:ext cx="29876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600" spc="-1" strike="noStrike">
                    <a:solidFill>
                      <a:srgbClr val="ffffff"/>
                    </a:solidFill>
                    <a:latin typeface="Arial"/>
                  </a:rPr>
                  <a:t>phần cùng một     Thánh Thần 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 rot="9382800">
              <a:off x="3139560" y="3825720"/>
              <a:ext cx="2438640" cy="914400"/>
            </a:xfrm>
            <a:custGeom>
              <a:avLst/>
              <a:gdLst>
                <a:gd name="textAreaLeft" fmla="*/ 304560 w 2438640"/>
                <a:gd name="textAreaRight" fmla="*/ 2134080 w 2438640"/>
                <a:gd name="textAreaTop" fmla="*/ 228600 h 914400"/>
                <a:gd name="textAreaBottom" fmla="*/ 6858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625320" y="1844640"/>
              <a:ext cx="2882880" cy="2047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417680"/>
            <a:ext cx="1298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35. H.- Sự hiệp thông trong Giáo Hội        bắt nguồn từ đâu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129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ff"/>
                </a:solidFill>
                <a:latin typeface="Arial"/>
              </a:rPr>
              <a:t>T.- Sự hiệp thông trong Giáo Hội bắt nguồn từ Chúa Ba Ngô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1020600"/>
            <a:ext cx="12984120" cy="6387840"/>
            <a:chOff x="0" y="1020600"/>
            <a:chExt cx="12984120" cy="6387840"/>
          </a:xfrm>
        </p:grpSpPr>
        <p:sp>
          <p:nvSpPr>
            <p:cNvPr id="73" name=""/>
            <p:cNvSpPr/>
            <p:nvPr/>
          </p:nvSpPr>
          <p:spPr>
            <a:xfrm>
              <a:off x="0" y="6583320"/>
              <a:ext cx="12984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ffffff"/>
                  </a:solidFill>
                  <a:latin typeface="Arial"/>
                </a:rPr>
                <a:t>các thụ tạo theo những cấp độ khác nhau</a:t>
              </a: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4740120" y="5973840"/>
              <a:ext cx="32767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cho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30440" y="4068720"/>
              <a:ext cx="7696080" cy="1828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11320" y="4221000"/>
              <a:ext cx="69343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000000"/>
                  </a:solidFill>
                  <a:latin typeface="Arial"/>
                </a:rPr>
                <a:t>sự sống tự nhiên và siêu nhiên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4892760" y="1020600"/>
              <a:ext cx="321300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 txBox="1"/>
            <p:nvPr/>
          </p:nvSpPr>
          <p:spPr>
            <a:xfrm>
              <a:off x="4892760" y="3382920"/>
              <a:ext cx="33526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ban</a:t>
              </a:r>
              <a:endPara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0" y="655560"/>
            <a:ext cx="12984120" cy="7467840"/>
            <a:chOff x="0" y="655560"/>
            <a:chExt cx="12984120" cy="7467840"/>
          </a:xfrm>
        </p:grpSpPr>
        <p:sp>
          <p:nvSpPr>
            <p:cNvPr id="80" name=""/>
            <p:cNvSpPr txBox="1"/>
            <p:nvPr/>
          </p:nvSpPr>
          <p:spPr>
            <a:xfrm>
              <a:off x="2454120" y="655560"/>
              <a:ext cx="8001000" cy="74678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386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Times New Roman"/>
                </a:rPr>
                <a:t>Khi tạo dựng, cứu độ và thánh hóa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5400000">
              <a:off x="-780840" y="2884320"/>
              <a:ext cx="3924360" cy="2362320"/>
            </a:xfrm>
            <a:custGeom>
              <a:avLst/>
              <a:gdLst>
                <a:gd name="textAreaLeft" fmla="*/ 613080 w 3924360"/>
                <a:gd name="textAreaRight" fmla="*/ 3434040 w 3924360"/>
                <a:gd name="textAreaTop" fmla="*/ 590400 h 2362320"/>
                <a:gd name="textAreaBottom" fmla="*/ 177192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5400000">
              <a:off x="9840600" y="2655720"/>
              <a:ext cx="3924360" cy="2362320"/>
            </a:xfrm>
            <a:custGeom>
              <a:avLst/>
              <a:gdLst>
                <a:gd name="textAreaLeft" fmla="*/ 613080 w 3924360"/>
                <a:gd name="textAreaRight" fmla="*/ 3434040 w 3924360"/>
                <a:gd name="textAreaTop" fmla="*/ 590400 h 2362320"/>
                <a:gd name="textAreaBottom" fmla="*/ 177192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731880"/>
            <a:ext cx="12984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36. H.- Sự hiệp thông trong Giáo Hội    được thể hiện trên bình diện nào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-182520"/>
            <a:ext cx="1319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fr-FR" sz="6600" spc="-1" strike="noStrike">
                <a:solidFill>
                  <a:srgbClr val="ffffff"/>
                </a:solidFill>
                <a:latin typeface="Arial"/>
              </a:rPr>
              <a:t>.- Sự hiệp thông trong Giáo Hội được thể hiện trên hai bình diện</a:t>
            </a:r>
            <a:r>
              <a:rPr b="1" lang="fr-FR" sz="6600" spc="-1" strike="noStrike">
                <a:solidFill>
                  <a:srgbClr val="f0e5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740120" y="1798560"/>
            <a:ext cx="3504960" cy="3657240"/>
            <a:chOff x="4740120" y="1798560"/>
            <a:chExt cx="3504960" cy="3657240"/>
          </a:xfrm>
        </p:grpSpPr>
        <p:sp>
          <p:nvSpPr>
            <p:cNvPr id="86" name=""/>
            <p:cNvSpPr/>
            <p:nvPr/>
          </p:nvSpPr>
          <p:spPr>
            <a:xfrm>
              <a:off x="4740120" y="1798560"/>
              <a:ext cx="3504960" cy="3657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5178240" y="2484360"/>
              <a:ext cx="2847240" cy="209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ff9999"/>
                      </a:gs>
                    </a:gsLst>
                    <a:lin ang="5400000"/>
                  </a:gradFill>
                  <a:latin typeface="Times New Roman"/>
                </a:rPr>
                <a:t>Hiệp 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ff9999"/>
                      </a:gs>
                    </a:gsLst>
                    <a:lin ang="5400000"/>
                  </a:gradFill>
                  <a:latin typeface="Times New Roman"/>
                </a:rPr>
                <a:t>thông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20760" y="2255760"/>
            <a:ext cx="4647960" cy="5151600"/>
            <a:chOff x="320760" y="2255760"/>
            <a:chExt cx="4647960" cy="5151600"/>
          </a:xfrm>
        </p:grpSpPr>
        <p:sp>
          <p:nvSpPr>
            <p:cNvPr id="89" name=""/>
            <p:cNvSpPr/>
            <p:nvPr/>
          </p:nvSpPr>
          <p:spPr>
            <a:xfrm>
              <a:off x="320760" y="3322800"/>
              <a:ext cx="4647960" cy="40845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320760" y="2255760"/>
              <a:ext cx="4572000" cy="4558320"/>
              <a:chOff x="320760" y="2255760"/>
              <a:chExt cx="4572000" cy="4558320"/>
            </a:xfrm>
          </p:grpSpPr>
          <p:sp>
            <p:nvSpPr>
              <p:cNvPr id="91" name=""/>
              <p:cNvSpPr/>
              <p:nvPr/>
            </p:nvSpPr>
            <p:spPr>
              <a:xfrm>
                <a:off x="320760" y="3703680"/>
                <a:ext cx="4572000" cy="311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ffff"/>
                    </a:solidFill>
                    <a:latin typeface="Arial"/>
                  </a:rPr>
                  <a:t>với    Thiên Chúa</a:t>
                </a:r>
                <a:endParaRPr b="0" lang="en-US" sz="6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5400000">
                <a:off x="2739960" y="1284120"/>
                <a:ext cx="876240" cy="2819520"/>
              </a:xfrm>
              <a:custGeom>
                <a:avLst/>
                <a:gdLst>
                  <a:gd name="textAreaLeft" fmla="*/ 0 w 876240"/>
                  <a:gd name="textAreaRight" fmla="*/ 876600 w 876240"/>
                  <a:gd name="textAreaTop" fmla="*/ 360 h 2819520"/>
                  <a:gd name="textAreaBottom" fmla="*/ 2820240 h 2819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8016840" y="2255760"/>
            <a:ext cx="4647960" cy="5151600"/>
            <a:chOff x="8016840" y="2255760"/>
            <a:chExt cx="4647960" cy="5151600"/>
          </a:xfrm>
        </p:grpSpPr>
        <p:sp>
          <p:nvSpPr>
            <p:cNvPr id="94" name=""/>
            <p:cNvSpPr/>
            <p:nvPr/>
          </p:nvSpPr>
          <p:spPr>
            <a:xfrm>
              <a:off x="8016840" y="3322800"/>
              <a:ext cx="4647960" cy="4084560"/>
            </a:xfrm>
            <a:prstGeom prst="octagon">
              <a:avLst>
                <a:gd name="adj" fmla="val 29287"/>
              </a:avLst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21400" y="3703680"/>
              <a:ext cx="403884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Arial"/>
                </a:rPr>
                <a:t>giữa các tín hữu với nhau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 rot="16200000">
              <a:off x="9407520" y="1093680"/>
              <a:ext cx="876240" cy="3200400"/>
            </a:xfrm>
            <a:custGeom>
              <a:avLst/>
              <a:gdLst>
                <a:gd name="textAreaLeft" fmla="*/ 360 w 876240"/>
                <a:gd name="textAreaRight" fmla="*/ 876960 w 876240"/>
                <a:gd name="textAreaTop" fmla="*/ 360 h 3200400"/>
                <a:gd name="textAreaBottom" fmla="*/ 320112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2643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600" spc="-1" strike="noStrike">
                <a:solidFill>
                  <a:srgbClr val="f0e500"/>
                </a:solidFill>
                <a:latin typeface="Arial"/>
              </a:rPr>
              <a:t>37. H.- Hai mối hiệp thông này liên hệ          với nhau như     thế nào 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759040" y="0"/>
            <a:ext cx="10225080" cy="7407360"/>
            <a:chOff x="2759040" y="0"/>
            <a:chExt cx="10225080" cy="7407360"/>
          </a:xfrm>
        </p:grpSpPr>
        <p:grpSp>
          <p:nvGrpSpPr>
            <p:cNvPr id="99" name=""/>
            <p:cNvGrpSpPr/>
            <p:nvPr/>
          </p:nvGrpSpPr>
          <p:grpSpPr>
            <a:xfrm>
              <a:off x="7167600" y="0"/>
              <a:ext cx="5816520" cy="7407360"/>
              <a:chOff x="7167600" y="0"/>
              <a:chExt cx="5816520" cy="7407360"/>
            </a:xfrm>
          </p:grpSpPr>
          <p:pic>
            <p:nvPicPr>
              <p:cNvPr id="10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167600" y="0"/>
                <a:ext cx="4840200" cy="740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543800" y="795240"/>
                <a:ext cx="334800" cy="381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" name=""/>
              <p:cNvGrpSpPr/>
              <p:nvPr/>
            </p:nvGrpSpPr>
            <p:grpSpPr>
              <a:xfrm>
                <a:off x="10850400" y="4834080"/>
                <a:ext cx="2133720" cy="2057400"/>
                <a:chOff x="10850400" y="4834080"/>
                <a:chExt cx="2133720" cy="2057400"/>
              </a:xfrm>
            </p:grpSpPr>
            <p:pic>
              <p:nvPicPr>
                <p:cNvPr id="10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850400" y="4834080"/>
                  <a:ext cx="2133720" cy="205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" name=""/>
                <p:cNvSpPr/>
                <p:nvPr/>
              </p:nvSpPr>
              <p:spPr>
                <a:xfrm>
                  <a:off x="10850400" y="5380560"/>
                  <a:ext cx="212436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800" spc="-1" strike="noStrike">
                      <a:solidFill>
                        <a:srgbClr val="ffffff"/>
                      </a:solidFill>
                      <a:latin typeface="Arial"/>
                    </a:rPr>
                    <a:t>hiệp thông giữa các      Kitô hữu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10926720" y="3614760"/>
                <a:ext cx="1143000" cy="1258920"/>
                <a:chOff x="10926720" y="3614760"/>
                <a:chExt cx="1143000" cy="1258920"/>
              </a:xfrm>
            </p:grpSpPr>
            <p:pic>
              <p:nvPicPr>
                <p:cNvPr id="10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926720" y="3614760"/>
                  <a:ext cx="1143000" cy="125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>
                  <a:off x="10926720" y="3948120"/>
                  <a:ext cx="113976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ffffff"/>
                      </a:solidFill>
                      <a:latin typeface="Arial"/>
                    </a:rPr>
                    <a:t>hiệp thông giữa các      Kitô hữu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7269120" y="4148280"/>
                <a:ext cx="1600200" cy="1627200"/>
                <a:chOff x="7269120" y="4148280"/>
                <a:chExt cx="1600200" cy="1627200"/>
              </a:xfrm>
            </p:grpSpPr>
            <p:pic>
              <p:nvPicPr>
                <p:cNvPr id="10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69120" y="4148280"/>
                  <a:ext cx="1600200" cy="1627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>
                  <a:off x="7269120" y="4580280"/>
                  <a:ext cx="159336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ffffff"/>
                      </a:solidFill>
                      <a:latin typeface="Arial"/>
                    </a:rPr>
                    <a:t>hiệp thông giữa các      Kitô hữu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107200" y="1862280"/>
                <a:ext cx="447840" cy="44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88640" y="719280"/>
                <a:ext cx="334800" cy="380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3" name=""/>
              <p:cNvGrpSpPr/>
              <p:nvPr/>
            </p:nvGrpSpPr>
            <p:grpSpPr>
              <a:xfrm>
                <a:off x="7726320" y="2700360"/>
                <a:ext cx="838080" cy="831600"/>
                <a:chOff x="7726320" y="2700360"/>
                <a:chExt cx="838080" cy="831600"/>
              </a:xfrm>
            </p:grpSpPr>
            <p:pic>
              <p:nvPicPr>
                <p:cNvPr id="11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726320" y="2700360"/>
                  <a:ext cx="838080" cy="83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" name=""/>
                <p:cNvSpPr/>
                <p:nvPr/>
              </p:nvSpPr>
              <p:spPr>
                <a:xfrm>
                  <a:off x="7726320" y="2928960"/>
                  <a:ext cx="8380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ffffff"/>
                      </a:solidFill>
                      <a:latin typeface="Arial"/>
                    </a:rPr>
                    <a:t>hiệp thông giữa các      Kitô hữu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317240" y="1862280"/>
                <a:ext cx="761760" cy="669960"/>
                <a:chOff x="10317240" y="1862280"/>
                <a:chExt cx="761760" cy="669960"/>
              </a:xfrm>
            </p:grpSpPr>
            <p:pic>
              <p:nvPicPr>
                <p:cNvPr id="11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393200" y="1862280"/>
                  <a:ext cx="676080" cy="669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"/>
                <p:cNvSpPr/>
                <p:nvPr/>
              </p:nvSpPr>
              <p:spPr>
                <a:xfrm>
                  <a:off x="10317240" y="2014920"/>
                  <a:ext cx="7617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800" spc="-1" strike="noStrike">
                      <a:solidFill>
                        <a:srgbClr val="ffffff"/>
                      </a:solidFill>
                      <a:latin typeface="Arial"/>
                    </a:rPr>
                    <a:t>hiệp thông giữa các      Kitô hữu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" name=""/>
            <p:cNvGrpSpPr/>
            <p:nvPr/>
          </p:nvGrpSpPr>
          <p:grpSpPr>
            <a:xfrm>
              <a:off x="8702640" y="5273640"/>
              <a:ext cx="2514600" cy="2133720"/>
              <a:chOff x="8702640" y="5273640"/>
              <a:chExt cx="2514600" cy="2133720"/>
            </a:xfrm>
          </p:grpSpPr>
          <p:sp>
            <p:nvSpPr>
              <p:cNvPr id="120" name=""/>
              <p:cNvSpPr/>
              <p:nvPr/>
            </p:nvSpPr>
            <p:spPr>
              <a:xfrm>
                <a:off x="9007560" y="5273640"/>
                <a:ext cx="1143000" cy="457200"/>
              </a:xfrm>
              <a:prstGeom prst="flowChartAlternateProcess">
                <a:avLst/>
              </a:prstGeom>
              <a:solidFill>
                <a:srgbClr val="0033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Hiệp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9299520" y="5756400"/>
                <a:ext cx="1295280" cy="533160"/>
              </a:xfrm>
              <a:prstGeom prst="flowChartAlternateProcess">
                <a:avLst/>
              </a:prstGeom>
              <a:solidFill>
                <a:srgbClr val="0033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thông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540720" y="6289560"/>
                <a:ext cx="762120" cy="533520"/>
              </a:xfrm>
              <a:prstGeom prst="flowChartAlternateProcess">
                <a:avLst/>
              </a:prstGeom>
              <a:solidFill>
                <a:srgbClr val="0033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với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02640" y="6873840"/>
                <a:ext cx="2514600" cy="533520"/>
              </a:xfrm>
              <a:prstGeom prst="flowChartAlternateProcess">
                <a:avLst/>
              </a:prstGeom>
              <a:solidFill>
                <a:srgbClr val="0033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Thiên Chúa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 flipV="1">
              <a:off x="2759040" y="5150880"/>
              <a:ext cx="2209680" cy="1981080"/>
            </a:xfrm>
            <a:custGeom>
              <a:avLst/>
              <a:gdLst>
                <a:gd name="textAreaLeft" fmla="*/ 0 w 2209680"/>
                <a:gd name="textAreaRight" fmla="*/ 2210040 w 2209680"/>
                <a:gd name="textAreaTop" fmla="*/ -360 h 1981080"/>
                <a:gd name="textAreaBottom" fmla="*/ 198108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75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131983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38. H.- Sự hiệp thông trong Giáo Hội     được biểu lộ           qua những hình thức nào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0:16:05Z</dcterms:created>
  <dc:creator>NguyenMinh</dc:creator>
  <dc:description/>
  <dc:language>en-US</dc:language>
  <cp:lastModifiedBy>Nguyen Minh</cp:lastModifiedBy>
  <dcterms:modified xsi:type="dcterms:W3CDTF">2013-02-20T02:14:56Z</dcterms:modified>
  <cp:revision>42</cp:revision>
  <dc:subject/>
  <dc:title>Slide 1</dc:title>
</cp:coreProperties>
</file>