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0E8-D420-4B27-9621-EBD79441E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355-0357-4AD4-911B-E1140805B1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FDF-9E38-4A9C-BA3C-7C08F1DC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DBC-419E-4C14-990E-A588FDF9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A31-6934-4CC6-85B0-364BFC9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B1E-1390-44EA-9B2A-4A9DDE98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6D6-475E-463A-B1FB-69A94F71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649-5EBA-45F8-83D3-B39FD342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616-E288-42A3-9DAA-F11A595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739-5610-445F-AA8D-58EED572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1C2-9E1C-4960-8BCE-2B963742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B90-7E36-4EB7-8E00-E5CD74E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4FA-D81F-466B-B3E9-64D1943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C43-B496-4A15-A3A8-0F93718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DC6-815C-4D15-8700-0B416915E67F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723-0B1A-4F1F-BA2B-E084DCF7EA28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8120" y="5761080"/>
            <a:ext cx="1298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4400" spc="-1" strike="noStrike">
                <a:solidFill>
                  <a:srgbClr val="ffffff"/>
                </a:solidFill>
                <a:latin typeface="Arial"/>
              </a:rPr>
              <a:t>Đức tin không có việc làm là đức tin chết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G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2,1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58840" y="351000"/>
            <a:ext cx="10363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4 / 1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ỐNG ĐỨC TIN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9. H.-                         Trong Năm Đức Tin, Đức Thánh Cha  muốn cử hành      sám hối để làm gì?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02040" y="198360"/>
            <a:ext cx="464832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để: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4440" y="1646280"/>
            <a:ext cx="12573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tạo dịp cho người tín hữu tự vấn và khiêm tốn xin lỗi Chúa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054320" y="378000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ề: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1720" y="5608800"/>
            <a:ext cx="7024680" cy="1801800"/>
            <a:chOff x="6111720" y="5608800"/>
            <a:chExt cx="7024680" cy="1801800"/>
          </a:xfrm>
        </p:grpSpPr>
        <p:sp>
          <p:nvSpPr>
            <p:cNvPr id="94" name=""/>
            <p:cNvSpPr/>
            <p:nvPr/>
          </p:nvSpPr>
          <p:spPr>
            <a:xfrm>
              <a:off x="6111720" y="5670720"/>
              <a:ext cx="7024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tội không dám làm chứng đức tin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92600" y="5608800"/>
              <a:ext cx="6324840" cy="179856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5608800"/>
            <a:ext cx="6324480" cy="1801800"/>
            <a:chOff x="0" y="5608800"/>
            <a:chExt cx="6324480" cy="1801800"/>
          </a:xfrm>
        </p:grpSpPr>
        <p:sp>
          <p:nvSpPr>
            <p:cNvPr id="97" name=""/>
            <p:cNvSpPr/>
            <p:nvPr/>
          </p:nvSpPr>
          <p:spPr>
            <a:xfrm>
              <a:off x="396720" y="5670720"/>
              <a:ext cx="534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tội chống lại đức tin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608800"/>
              <a:ext cx="6324480" cy="179856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720" y="1569960"/>
            <a:ext cx="1203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6. H.-                  Sống đức tin là gì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294600"/>
            <a:ext cx="1298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4800" spc="-1" strike="noStrike">
                <a:solidFill>
                  <a:srgbClr val="ffffff"/>
                </a:solidFill>
                <a:latin typeface="Arial"/>
              </a:rPr>
              <a:t>Đức tin không có việc làm là đức tin chết</a:t>
            </a: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6720" y="579600"/>
            <a:ext cx="46483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ống đức ti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21160" y="4237200"/>
            <a:ext cx="9144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ực hiện điều mình tin.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63800" y="655560"/>
            <a:ext cx="7010640" cy="3810240"/>
            <a:chOff x="4663800" y="655560"/>
            <a:chExt cx="7010640" cy="381024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7178760" y="655560"/>
              <a:ext cx="44956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 rot="5400000">
              <a:off x="4301640" y="3532320"/>
              <a:ext cx="12956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=</a:t>
              </a:r>
              <a:endPara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7. H.-                    Tính năng động của đức tin đòi hỏi   người tín hữu      sống thế nào?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604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.- Tính năng động của đức tin đòi hỏi người tín hữu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12984120" cy="6491880"/>
            <a:chOff x="0" y="0"/>
            <a:chExt cx="12984120" cy="6491880"/>
          </a:xfrm>
        </p:grpSpPr>
        <p:sp>
          <p:nvSpPr>
            <p:cNvPr id="60" name=""/>
            <p:cNvSpPr/>
            <p:nvPr/>
          </p:nvSpPr>
          <p:spPr>
            <a:xfrm>
              <a:off x="0" y="3471840"/>
              <a:ext cx="12984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Phó thác bản thân và đời mình cho Chúa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368520" y="0"/>
              <a:ext cx="5562720" cy="41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082520" y="731880"/>
            <a:ext cx="1752840" cy="1752480"/>
            <a:chOff x="1082520" y="731880"/>
            <a:chExt cx="1752840" cy="1752480"/>
          </a:xfrm>
        </p:grpSpPr>
        <p:sp>
          <p:nvSpPr>
            <p:cNvPr id="63" name=""/>
            <p:cNvSpPr txBox="1"/>
            <p:nvPr/>
          </p:nvSpPr>
          <p:spPr>
            <a:xfrm>
              <a:off x="1539720" y="103680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82520" y="731880"/>
              <a:ext cx="1752840" cy="1752480"/>
            </a:xfrm>
            <a:prstGeom prst="ellipse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44440" y="198360"/>
            <a:ext cx="12739680" cy="7209000"/>
            <a:chOff x="244440" y="198360"/>
            <a:chExt cx="12739680" cy="7209000"/>
          </a:xfrm>
        </p:grpSpPr>
        <p:sp>
          <p:nvSpPr>
            <p:cNvPr id="66" name=""/>
            <p:cNvSpPr/>
            <p:nvPr/>
          </p:nvSpPr>
          <p:spPr>
            <a:xfrm>
              <a:off x="244440" y="2924280"/>
              <a:ext cx="127396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Làm mọi cách để đức tin được tăng trưởng và đâm bông kết trái.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21160" y="198360"/>
              <a:ext cx="6553080" cy="2648160"/>
              <a:chOff x="3521160" y="198360"/>
              <a:chExt cx="6553080" cy="2648160"/>
            </a:xfrm>
          </p:grpSpPr>
          <p:pic>
            <p:nvPicPr>
              <p:cNvPr id="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160" y="198360"/>
                <a:ext cx="3267000" cy="244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21560" y="198360"/>
                <a:ext cx="3352680" cy="264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" name=""/>
          <p:cNvGrpSpPr/>
          <p:nvPr/>
        </p:nvGrpSpPr>
        <p:grpSpPr>
          <a:xfrm>
            <a:off x="1082520" y="731880"/>
            <a:ext cx="1752840" cy="1752480"/>
            <a:chOff x="1082520" y="731880"/>
            <a:chExt cx="1752840" cy="1752480"/>
          </a:xfrm>
        </p:grpSpPr>
        <p:sp>
          <p:nvSpPr>
            <p:cNvPr id="71" name=""/>
            <p:cNvSpPr txBox="1"/>
            <p:nvPr/>
          </p:nvSpPr>
          <p:spPr>
            <a:xfrm>
              <a:off x="1616040" y="103680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2520" y="731880"/>
              <a:ext cx="1752840" cy="1752480"/>
            </a:xfrm>
            <a:prstGeom prst="ellipse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2984120" cy="73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800" spc="-1" strike="noStrike">
                <a:solidFill>
                  <a:srgbClr val="f0e500"/>
                </a:solidFill>
                <a:latin typeface="Arial"/>
              </a:rPr>
              <a:t>28. H.-                     Trong Năm Đức Tin,         Đức Thánh Cha mời gọi người tín hữu duyệt lại lịch sử đức tin             để làm gì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28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Đức Thánh Cha mời gọ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44840" y="1189080"/>
            <a:ext cx="591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uyệt lại lịch sử đức t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39720" y="2179800"/>
            <a:ext cx="9906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để thấy mầu nhiệm khôn lường giữa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354720" y="3627360"/>
            <a:ext cx="6629400" cy="3352680"/>
            <a:chOff x="6354720" y="3627360"/>
            <a:chExt cx="6629400" cy="3352680"/>
          </a:xfrm>
        </p:grpSpPr>
        <p:grpSp>
          <p:nvGrpSpPr>
            <p:cNvPr id="78" name=""/>
            <p:cNvGrpSpPr/>
            <p:nvPr/>
          </p:nvGrpSpPr>
          <p:grpSpPr>
            <a:xfrm>
              <a:off x="6354720" y="5227560"/>
              <a:ext cx="6629400" cy="1752480"/>
              <a:chOff x="6354720" y="5227560"/>
              <a:chExt cx="6629400" cy="1752480"/>
            </a:xfrm>
          </p:grpSpPr>
          <p:sp>
            <p:nvSpPr>
              <p:cNvPr id="79" name=""/>
              <p:cNvSpPr/>
              <p:nvPr/>
            </p:nvSpPr>
            <p:spPr>
              <a:xfrm>
                <a:off x="6416640" y="5227560"/>
                <a:ext cx="6400800" cy="17524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54720" y="5227560"/>
                <a:ext cx="662940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mời gọi ta hoán cải chân thành và trường kỳ hầu cảm nghiệm được </a:t>
                </a:r>
                <a:r>
                  <a:rPr b="1" lang="fr-FR" sz="3200" spc="-1" strike="noStrike">
                    <a:solidFill>
                      <a:srgbClr val="ff00ff"/>
                    </a:solidFill>
                    <a:latin typeface="Arial"/>
                  </a:rPr>
                  <a:t>lòng thương xót của Chúa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.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 txBox="1"/>
            <p:nvPr/>
          </p:nvSpPr>
          <p:spPr>
            <a:xfrm>
              <a:off x="7040520" y="3855960"/>
              <a:ext cx="57132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&amp;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8030880" y="3627360"/>
              <a:ext cx="136224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Arial"/>
                </a:rPr>
                <a:t>tội lỗi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10126080" y="3970440"/>
              <a:ext cx="1143000" cy="1219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3855960"/>
            <a:ext cx="7102440" cy="3124440"/>
            <a:chOff x="0" y="3855960"/>
            <a:chExt cx="7102440" cy="3124440"/>
          </a:xfrm>
        </p:grpSpPr>
        <p:sp>
          <p:nvSpPr>
            <p:cNvPr id="85" name=""/>
            <p:cNvSpPr/>
            <p:nvPr/>
          </p:nvSpPr>
          <p:spPr>
            <a:xfrm>
              <a:off x="0" y="5227560"/>
              <a:ext cx="6400800" cy="1752840"/>
            </a:xfrm>
            <a:prstGeom prst="flowChartAlternateProcess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227560"/>
              <a:ext cx="6324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đóng góp lớn lao của nhiều người, giúp phát triển Giáo Hội </a:t>
              </a:r>
              <a:r>
                <a:rPr b="1" lang="fr-FR" sz="3200" spc="-1" strike="noStrike">
                  <a:solidFill>
                    <a:srgbClr val="ff00ff"/>
                  </a:solidFill>
                  <a:latin typeface="Arial"/>
                </a:rPr>
                <a:t>bằng chứng tá cuộc sống.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282920" y="3855960"/>
              <a:ext cx="281952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thánh thiện 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6200000">
              <a:off x="2643480" y="4046400"/>
              <a:ext cx="1067040" cy="1143000"/>
            </a:xfrm>
            <a:custGeom>
              <a:avLst/>
              <a:gdLst>
                <a:gd name="textAreaLeft" fmla="*/ 360 w 1067040"/>
                <a:gd name="textAreaRight" fmla="*/ 1067760 w 106704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7:06Z</dcterms:modified>
  <cp:revision>42</cp:revision>
  <dc:subject/>
  <dc:title>Slide 1</dc:title>
</cp:coreProperties>
</file>