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12985750" cy="74088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423720" y="685440"/>
            <a:ext cx="601056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6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816E2-118B-4547-8E69-1BDB4E6D36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423720" y="685800"/>
            <a:ext cx="601056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115CF-4852-40EC-A39A-D1EA041E83C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3163E-9BBA-4B08-B4C3-35E23B43B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49440" y="297000"/>
            <a:ext cx="11685600" cy="12348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49440" y="1728720"/>
            <a:ext cx="11685600" cy="2331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49440" y="4281840"/>
            <a:ext cx="11685600" cy="2331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E6671-9E55-40AA-B3B0-0EDAA8E49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49440" y="297000"/>
            <a:ext cx="11685600" cy="12348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49440" y="1728720"/>
            <a:ext cx="5702400" cy="2331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637320" y="1728720"/>
            <a:ext cx="5702400" cy="2331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49440" y="4281840"/>
            <a:ext cx="5702400" cy="2331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637320" y="4281840"/>
            <a:ext cx="5702400" cy="2331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45C4E-B6D3-4971-A672-37CB62A75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49440" y="297000"/>
            <a:ext cx="11685600" cy="12348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49440" y="1728720"/>
            <a:ext cx="3762360" cy="2331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00440" y="1728720"/>
            <a:ext cx="3762360" cy="2331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551080" y="1728720"/>
            <a:ext cx="3762360" cy="2331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49440" y="4281840"/>
            <a:ext cx="3762360" cy="2331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600440" y="4281840"/>
            <a:ext cx="3762360" cy="2331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551080" y="4281840"/>
            <a:ext cx="3762360" cy="2331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CEF07-14F3-46B9-98B4-0EAD28AF4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49440" y="297000"/>
            <a:ext cx="11685600" cy="12348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49440" y="1728720"/>
            <a:ext cx="1168560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75888-3D7C-42D3-9A18-7D68A636D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49440" y="297000"/>
            <a:ext cx="11685600" cy="12348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49440" y="1728720"/>
            <a:ext cx="11685600" cy="48880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378DB-9090-4A07-AC01-FDFEE5DDF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49440" y="297000"/>
            <a:ext cx="11685600" cy="12348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49440" y="1728720"/>
            <a:ext cx="5702400" cy="48880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637320" y="1728720"/>
            <a:ext cx="5702400" cy="48880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815DC-9101-4EFC-ACC0-016233FFF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49440" y="297000"/>
            <a:ext cx="11685600" cy="12348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8328A-D1AF-49C2-B909-2B7D073E4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49440" y="297000"/>
            <a:ext cx="11685600" cy="572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64216-2267-4466-AF5E-E7DD2FB4E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49440" y="297000"/>
            <a:ext cx="11685600" cy="12348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49440" y="1728720"/>
            <a:ext cx="5702400" cy="2331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637320" y="1728720"/>
            <a:ext cx="5702400" cy="48880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49440" y="4281840"/>
            <a:ext cx="5702400" cy="2331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4C072-D15A-4FF5-88D4-2AE32422C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49440" y="297000"/>
            <a:ext cx="11685600" cy="12348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49440" y="1728720"/>
            <a:ext cx="5702400" cy="48880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637320" y="1728720"/>
            <a:ext cx="5702400" cy="2331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637320" y="4281840"/>
            <a:ext cx="5702400" cy="2331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42DAD-B110-4DC9-993D-D4EFC634C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49440" y="297000"/>
            <a:ext cx="11685600" cy="12348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49440" y="1728720"/>
            <a:ext cx="5702400" cy="2331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637320" y="1728720"/>
            <a:ext cx="5702400" cy="2331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49440" y="4281840"/>
            <a:ext cx="11685600" cy="2331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1F2FD-7226-4A37-9FC1-AC7B392F9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49440" y="297000"/>
            <a:ext cx="11685600" cy="12348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49440" y="1728720"/>
            <a:ext cx="11685600" cy="48880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-355680">
              <a:spcBef>
                <a:spcPts val="8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lvl="1" marL="770040" indent="-295200">
              <a:spcBef>
                <a:spcPts val="825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lvl="2" marL="1184400" indent="-236520">
              <a:spcBef>
                <a:spcPts val="8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lvl="3" marL="1658880" indent="-236520">
              <a:spcBef>
                <a:spcPts val="825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lvl="4" marL="2133720" indent="-239760">
              <a:spcBef>
                <a:spcPts val="825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lvl="5" marL="2133720" indent="-239760">
              <a:spcBef>
                <a:spcPts val="825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lvl="6" marL="2133720" indent="-239760">
              <a:spcBef>
                <a:spcPts val="825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9440" y="6744960"/>
            <a:ext cx="3030480" cy="5144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C3F0C-4A50-4A43-96A7-A7E0E3E3984F}" type="datetime">
              <a:rPr b="0" lang="en-US" sz="1500" spc="-1" strike="noStrike">
                <a:solidFill>
                  <a:srgbClr val="ffffff"/>
                </a:solidFill>
                <a:latin typeface="Arial"/>
              </a:rPr>
              <a:t>07/30/26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435200" y="6744960"/>
            <a:ext cx="4113000" cy="5144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303840" y="6744960"/>
            <a:ext cx="3030840" cy="5144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22072-B414-4672-898A-1363E6A10D66}" type="slidenum">
              <a:rPr b="0" lang="en-US" sz="15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0240" y="5532480"/>
            <a:ext cx="129538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7632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i="1" lang="fr-FR" sz="3600" spc="-1" strike="noStrike">
                <a:solidFill>
                  <a:srgbClr val="ffffff"/>
                </a:solidFill>
                <a:latin typeface="Arial"/>
              </a:rPr>
              <a:t>Thầy mới có những lời ban sự sống đời đời”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i="1" lang="fr-FR" sz="1800" spc="-1" strike="noStrike">
                <a:solidFill>
                  <a:srgbClr val="ffffff"/>
                </a:solidFill>
                <a:latin typeface="Arial"/>
              </a:rPr>
              <a:t>Ga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6,68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2530440" y="503280"/>
            <a:ext cx="7620120" cy="4419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BÀI 3 / 2</a:t>
            </a:r>
            <a:endParaRPr b="1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GIÁO LÝ VỀ ĐỨC TIN</a:t>
            </a:r>
            <a:endParaRPr b="1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68a4b"/>
                                      </p:to>
                                    </p:animClr>
                                    <p:animClr clrSpc="rgb">
                                      <p:cBhvr>
                                        <p:cTn id="15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68a4b"/>
                                      </p:to>
                                    </p:animClr>
                                    <p:set>
                                      <p:cBhvr>
                                        <p:cTn id="16" dur="3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7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7000"/>
                            </p:stCondLst>
                            <p:childTnLst>
                              <p:par>
                                <p:cTn id="19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9000"/>
                            </p:stCondLst>
                            <p:childTnLst>
                              <p:par>
                                <p:cTn id="2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5" dur="2000" fill="hold"/>
                                        <p:tgtEl>
                                          <p:spTgt spid="4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1000"/>
                            </p:stCondLst>
                            <p:childTnLst>
                              <p:par>
                                <p:cTn id="27" nodeType="after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8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12984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ffffff"/>
                </a:solidFill>
                <a:latin typeface="Arial"/>
              </a:rPr>
              <a:t>T.- Giáo Hội có hai vai trò         chính yếu này: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68120" y="4295880"/>
            <a:ext cx="128160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ff00"/>
                </a:solidFill>
                <a:latin typeface="Arial"/>
              </a:rPr>
              <a:t>* thông ban</a:t>
            </a:r>
            <a:r>
              <a:rPr b="1" lang="fr-FR" sz="6600" spc="-1" strike="noStrike">
                <a:solidFill>
                  <a:srgbClr val="ffffff"/>
                </a:solidFill>
                <a:latin typeface="Arial"/>
              </a:rPr>
              <a:t> hồng ân đức tin                  của Thiên Chúa cho loài người </a:t>
            </a:r>
            <a:r>
              <a:rPr b="1" lang="fr-FR" sz="6600" spc="-1" strike="noStrike">
                <a:solidFill>
                  <a:srgbClr val="00ff00"/>
                </a:solidFill>
                <a:latin typeface="Arial"/>
              </a:rPr>
              <a:t>&amp; nuôi dưỡng</a:t>
            </a:r>
            <a:r>
              <a:rPr b="1" lang="fr-FR" sz="6600" spc="-1" strike="noStrike">
                <a:solidFill>
                  <a:srgbClr val="ffffff"/>
                </a:solidFill>
                <a:latin typeface="Arial"/>
              </a:rPr>
              <a:t> đức tin đó.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1920960" y="1341360"/>
            <a:ext cx="5483160" cy="1600200"/>
            <a:chOff x="1920960" y="1341360"/>
            <a:chExt cx="5483160" cy="1600200"/>
          </a:xfrm>
        </p:grpSpPr>
        <p:sp>
          <p:nvSpPr>
            <p:cNvPr id="85" name=""/>
            <p:cNvSpPr txBox="1"/>
            <p:nvPr/>
          </p:nvSpPr>
          <p:spPr>
            <a:xfrm>
              <a:off x="5425920" y="1951200"/>
              <a:ext cx="1978200" cy="990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ff00ff"/>
                    </a:solidFill>
                    <a:miter/>
                  </a:ln>
                  <a:solidFill>
                    <a:srgbClr val="ff0066"/>
                  </a:solidFill>
                  <a:latin typeface="comic"/>
                </a:rPr>
                <a:t>qua</a:t>
              </a:r>
              <a:endParaRPr b="0" lang="en-US" sz="18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ff0066"/>
                </a:solidFill>
                <a:latin typeface="comic"/>
                <a:ea typeface="comic"/>
              </a:endParaRPr>
            </a:p>
          </p:txBody>
        </p:sp>
        <p:grpSp>
          <p:nvGrpSpPr>
            <p:cNvPr id="86" name=""/>
            <p:cNvGrpSpPr/>
            <p:nvPr/>
          </p:nvGrpSpPr>
          <p:grpSpPr>
            <a:xfrm>
              <a:off x="1920960" y="1341360"/>
              <a:ext cx="1447560" cy="1447920"/>
              <a:chOff x="1920960" y="1341360"/>
              <a:chExt cx="1447560" cy="1447920"/>
            </a:xfrm>
          </p:grpSpPr>
          <p:sp>
            <p:nvSpPr>
              <p:cNvPr id="87" name=""/>
              <p:cNvSpPr txBox="1"/>
              <p:nvPr/>
            </p:nvSpPr>
            <p:spPr>
              <a:xfrm>
                <a:off x="2301480" y="1646280"/>
                <a:ext cx="685440" cy="8380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SlantUp">
                  <a:avLst>
                    <a:gd name="adj" fmla="val 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ff00ff"/>
                      </a:solidFill>
                      <a:miter/>
                    </a:ln>
                    <a:solidFill>
                      <a:srgbClr val="ff0066"/>
                    </a:solidFill>
                    <a:latin typeface="comic"/>
                  </a:rPr>
                  <a:t>1</a:t>
                </a:r>
                <a:endParaRPr b="0" lang="en-US" sz="1800" spc="1" strike="noStrike">
                  <a:ln w="9360">
                    <a:solidFill>
                      <a:srgbClr val="ff00ff"/>
                    </a:solidFill>
                    <a:miter/>
                  </a:ln>
                  <a:solidFill>
                    <a:srgbClr val="ff0066"/>
                  </a:solidFill>
                  <a:latin typeface="comic"/>
                  <a:ea typeface="comic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1920960" y="1341360"/>
                <a:ext cx="1447560" cy="1447920"/>
              </a:xfrm>
              <a:prstGeom prst="ellipse">
                <a:avLst/>
              </a:prstGeom>
              <a:noFill/>
              <a:ln w="76320">
                <a:solidFill>
                  <a:srgbClr val="f0e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89" name=""/>
          <p:cNvSpPr/>
          <p:nvPr/>
        </p:nvSpPr>
        <p:spPr>
          <a:xfrm>
            <a:off x="15484320" y="2179800"/>
            <a:ext cx="289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ời giảng dạ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6492960" y="2941560"/>
            <a:ext cx="5486400" cy="1219320"/>
            <a:chOff x="6492960" y="2941560"/>
            <a:chExt cx="5486400" cy="1219320"/>
          </a:xfrm>
        </p:grpSpPr>
        <p:sp>
          <p:nvSpPr>
            <p:cNvPr id="91" name=""/>
            <p:cNvSpPr/>
            <p:nvPr/>
          </p:nvSpPr>
          <p:spPr>
            <a:xfrm>
              <a:off x="6950160" y="3017880"/>
              <a:ext cx="48006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Arial"/>
                </a:rPr>
                <a:t>Lời giảng dạy</a:t>
              </a:r>
              <a:endParaRPr b="0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492960" y="2941560"/>
              <a:ext cx="5486400" cy="1219320"/>
            </a:xfrm>
            <a:prstGeom prst="ellipse">
              <a:avLst/>
            </a:prstGeom>
            <a:noFill/>
            <a:ln w="572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625320" y="2941560"/>
            <a:ext cx="5486400" cy="1219320"/>
            <a:chOff x="625320" y="2941560"/>
            <a:chExt cx="5486400" cy="1219320"/>
          </a:xfrm>
        </p:grpSpPr>
        <p:sp>
          <p:nvSpPr>
            <p:cNvPr id="94" name=""/>
            <p:cNvSpPr/>
            <p:nvPr/>
          </p:nvSpPr>
          <p:spPr>
            <a:xfrm>
              <a:off x="1463760" y="3017880"/>
              <a:ext cx="40384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Arial"/>
                </a:rPr>
                <a:t>Ban Bí Tích</a:t>
              </a:r>
              <a:endParaRPr b="0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25320" y="2941560"/>
              <a:ext cx="5486400" cy="1219320"/>
            </a:xfrm>
            <a:prstGeom prst="ellipse">
              <a:avLst/>
            </a:prstGeom>
            <a:noFill/>
            <a:ln w="572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2000"/>
                            </p:stCondLst>
                            <p:childTnLst>
                              <p:par>
                                <p:cTn id="194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3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3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5000"/>
                            </p:stCondLst>
                            <p:childTnLst>
                              <p:par>
                                <p:cTn id="1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3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3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8000"/>
                            </p:stCondLst>
                            <p:childTnLst>
                              <p:par>
                                <p:cTn id="20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3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3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11000"/>
                            </p:stCondLst>
                            <p:childTnLst>
                              <p:par>
                                <p:cTn id="209" nodeType="after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3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3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4000"/>
                            </p:stCondLst>
                            <p:childTnLst>
                              <p:par>
                                <p:cTn id="214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1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16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17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18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19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3368520" y="-182520"/>
            <a:ext cx="961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200" spc="-1" strike="noStrike">
                <a:solidFill>
                  <a:srgbClr val="00ff00"/>
                </a:solidFill>
                <a:latin typeface="Arial"/>
              </a:rPr>
              <a:t>* Giúp</a:t>
            </a:r>
            <a:r>
              <a:rPr b="1" lang="fr-FR" sz="7200" spc="-1" strike="noStrike">
                <a:solidFill>
                  <a:srgbClr val="ffffff"/>
                </a:solidFill>
                <a:latin typeface="Arial"/>
              </a:rPr>
              <a:t> người tín hữu hiểu được đức tin là đức tin của Giáo hội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978360" y="6066000"/>
            <a:ext cx="5181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200" spc="-1" strike="noStrike">
                <a:solidFill>
                  <a:srgbClr val="ffffff"/>
                </a:solidFill>
                <a:latin typeface="Arial"/>
              </a:rPr>
              <a:t>của đức tin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1539720" y="655560"/>
            <a:ext cx="1447920" cy="1447920"/>
            <a:chOff x="1539720" y="655560"/>
            <a:chExt cx="1447920" cy="1447920"/>
          </a:xfrm>
        </p:grpSpPr>
        <p:sp>
          <p:nvSpPr>
            <p:cNvPr id="99" name=""/>
            <p:cNvSpPr txBox="1"/>
            <p:nvPr/>
          </p:nvSpPr>
          <p:spPr>
            <a:xfrm>
              <a:off x="1920960" y="960480"/>
              <a:ext cx="6858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ff00ff"/>
                    </a:solidFill>
                    <a:miter/>
                  </a:ln>
                  <a:solidFill>
                    <a:srgbClr val="ff0066"/>
                  </a:solidFill>
                  <a:latin typeface="comic"/>
                </a:rPr>
                <a:t>2</a:t>
              </a:r>
              <a:endParaRPr b="0" lang="en-US" sz="18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ff0066"/>
                </a:solidFill>
                <a:latin typeface="comic"/>
                <a:ea typeface="comic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539720" y="655560"/>
              <a:ext cx="1447920" cy="1447920"/>
            </a:xfrm>
            <a:prstGeom prst="ellipse">
              <a:avLst/>
            </a:prstGeom>
            <a:noFill/>
            <a:ln w="76320">
              <a:solidFill>
                <a:srgbClr val="f0e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1" name=""/>
          <p:cNvSpPr/>
          <p:nvPr/>
        </p:nvSpPr>
        <p:spPr>
          <a:xfrm>
            <a:off x="0" y="3094200"/>
            <a:ext cx="129841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ff00ff"/>
                </a:solidFill>
                <a:latin typeface="Arial"/>
              </a:rPr>
              <a:t>Công thức</a:t>
            </a:r>
            <a:r>
              <a:rPr b="1" lang="fr-FR" sz="6600" spc="-1" strike="noStrike">
                <a:solidFill>
                  <a:srgbClr val="ff00ff"/>
                </a:solidFill>
                <a:latin typeface="Arial"/>
              </a:rPr>
              <a:t> “</a:t>
            </a:r>
            <a:r>
              <a:rPr b="1" i="1" lang="fr-FR" sz="6600" spc="-1" strike="noStrike">
                <a:solidFill>
                  <a:srgbClr val="ff00ff"/>
                </a:solidFill>
                <a:latin typeface="Arial"/>
              </a:rPr>
              <a:t>Tôi tin-chúng tôi tin</a:t>
            </a:r>
            <a:r>
              <a:rPr b="1" lang="fr-FR" sz="6600" spc="-1" strike="noStrike">
                <a:solidFill>
                  <a:srgbClr val="ff00ff"/>
                </a:solidFill>
                <a:latin typeface="Arial"/>
              </a:rPr>
              <a:t>” diễn tả chiều kích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1387440" y="5151600"/>
            <a:ext cx="10363320" cy="1008360"/>
            <a:chOff x="1387440" y="5151600"/>
            <a:chExt cx="10363320" cy="1008360"/>
          </a:xfrm>
        </p:grpSpPr>
        <p:sp>
          <p:nvSpPr>
            <p:cNvPr id="103" name=""/>
            <p:cNvSpPr/>
            <p:nvPr/>
          </p:nvSpPr>
          <p:spPr>
            <a:xfrm>
              <a:off x="6340320" y="5227560"/>
              <a:ext cx="5410440" cy="914040"/>
            </a:xfrm>
            <a:prstGeom prst="ellipse">
              <a:avLst/>
            </a:prstGeom>
            <a:noFill/>
            <a:ln w="572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950160" y="5151600"/>
              <a:ext cx="41907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6000" spc="-1" strike="noStrike">
                  <a:solidFill>
                    <a:srgbClr val="ffffff"/>
                  </a:solidFill>
                  <a:latin typeface="Arial"/>
                </a:rPr>
                <a:t>cộng đoàn</a:t>
              </a: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454120" y="5151600"/>
              <a:ext cx="32767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6000" spc="-1" strike="noStrike">
                  <a:solidFill>
                    <a:srgbClr val="ffffff"/>
                  </a:solidFill>
                  <a:latin typeface="Arial"/>
                </a:rPr>
                <a:t>cá nhân</a:t>
              </a: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387440" y="5227560"/>
              <a:ext cx="5410080" cy="914040"/>
            </a:xfrm>
            <a:prstGeom prst="ellipse">
              <a:avLst/>
            </a:prstGeom>
            <a:noFill/>
            <a:ln w="572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0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3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3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3000"/>
                            </p:stCondLst>
                            <p:childTnLst>
                              <p:par>
                                <p:cTn id="229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3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3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6000"/>
                            </p:stCondLst>
                            <p:childTnLst>
                              <p:par>
                                <p:cTn id="234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3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3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3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38" dur="25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39" dur="250" fill="hold">
                                          <p:stCondLst>
                                            <p:cond delay="75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11700"/>
                            </p:stCondLst>
                            <p:childTnLst>
                              <p:par>
                                <p:cTn id="2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3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3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14700"/>
                            </p:stCondLst>
                            <p:childTnLst>
                              <p:par>
                                <p:cTn id="2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3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3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7700"/>
                            </p:stCondLst>
                            <p:childTnLst>
                              <p:par>
                                <p:cTn id="2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3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3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884160"/>
            <a:ext cx="1298412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9600" spc="-1" strike="noStrike">
                <a:solidFill>
                  <a:srgbClr val="f0e500"/>
                </a:solidFill>
                <a:latin typeface="Arial"/>
              </a:rPr>
              <a:t>25. H.-                                 “Tôi tin-chúng tôi tin” hỗ trợ nhau thế nào?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3063960" y="884160"/>
            <a:ext cx="6858000" cy="133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“</a:t>
            </a: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Tôi tin”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53920" y="3017880"/>
            <a:ext cx="11125440" cy="3505320"/>
            <a:chOff x="853920" y="3017880"/>
            <a:chExt cx="11125440" cy="3505320"/>
          </a:xfrm>
        </p:grpSpPr>
        <p:sp>
          <p:nvSpPr>
            <p:cNvPr id="110" name=""/>
            <p:cNvSpPr/>
            <p:nvPr/>
          </p:nvSpPr>
          <p:spPr>
            <a:xfrm>
              <a:off x="853920" y="3094200"/>
              <a:ext cx="11125440" cy="33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200" spc="-1" strike="noStrike">
                  <a:solidFill>
                    <a:srgbClr val="ffffff"/>
                  </a:solidFill>
                  <a:latin typeface="Arial"/>
                </a:rPr>
                <a:t>góp phần làm cho đức tin của Giáo Hội được phong phú và sinh động.</a:t>
              </a:r>
              <a:endParaRPr b="0" lang="en-US" sz="7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30240" y="3017880"/>
              <a:ext cx="10972800" cy="3505320"/>
            </a:xfrm>
            <a:prstGeom prst="flowChartAlternateProcess">
              <a:avLst/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0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3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3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3000"/>
                            </p:stCondLst>
                            <p:childTnLst>
                              <p:par>
                                <p:cTn id="26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3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3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6000"/>
                            </p:stCondLst>
                            <p:childTnLst>
                              <p:par>
                                <p:cTn id="269" nodeType="after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1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68a4b"/>
                                      </p:to>
                                    </p:animClr>
                                    <p:animClr clrSpc="rgb">
                                      <p:cBhvr>
                                        <p:cTn id="271" dur="1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68a4b"/>
                                      </p:to>
                                    </p:animClr>
                                    <p:set>
                                      <p:cBhvr>
                                        <p:cTn id="272" dur="1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7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7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7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7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20760" y="2332080"/>
            <a:ext cx="12420360" cy="4483080"/>
            <a:chOff x="320760" y="2332080"/>
            <a:chExt cx="12420360" cy="4483080"/>
          </a:xfrm>
        </p:grpSpPr>
        <p:sp>
          <p:nvSpPr>
            <p:cNvPr id="113" name=""/>
            <p:cNvSpPr/>
            <p:nvPr/>
          </p:nvSpPr>
          <p:spPr>
            <a:xfrm>
              <a:off x="320760" y="2484360"/>
              <a:ext cx="12420360" cy="4191120"/>
            </a:xfrm>
            <a:prstGeom prst="flowChartAlternateProcess">
              <a:avLst/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73040" y="2332080"/>
              <a:ext cx="12115800" cy="448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200" spc="-1" strike="noStrike">
                  <a:solidFill>
                    <a:srgbClr val="ffffff"/>
                  </a:solidFill>
                  <a:latin typeface="Arial"/>
                </a:rPr>
                <a:t>nuôi dưỡng và làm cho đức tin nơi mỗi Kitô hữu được tiến triển và          sinh nhiều hoa trái. </a:t>
              </a:r>
              <a:endParaRPr b="0" lang="en-US" sz="7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"/>
          <p:cNvSpPr txBox="1"/>
          <p:nvPr/>
        </p:nvSpPr>
        <p:spPr>
          <a:xfrm>
            <a:off x="2530440" y="198360"/>
            <a:ext cx="784872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“</a:t>
            </a: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Chúng tôi tin”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0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3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3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000"/>
                            </p:stCondLst>
                            <p:childTnLst>
                              <p:par>
                                <p:cTn id="28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3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3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6000"/>
                            </p:stCondLst>
                            <p:childTnLst>
                              <p:par>
                                <p:cTn id="292" nodeType="after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3" dur="1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68a4b"/>
                                      </p:to>
                                    </p:animClr>
                                    <p:animClr clrSpc="rgb">
                                      <p:cBhvr>
                                        <p:cTn id="294" dur="1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68a4b"/>
                                      </p:to>
                                    </p:animClr>
                                    <p:set>
                                      <p:cBhvr>
                                        <p:cTn id="295" dur="1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9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9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9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9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0" y="0"/>
            <a:ext cx="12984120" cy="74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600" spc="-1" strike="noStrike">
                <a:solidFill>
                  <a:srgbClr val="ffffff"/>
                </a:solidFill>
                <a:latin typeface="Arial"/>
              </a:rPr>
              <a:t>Thực ra chỉ có một đức tin duy nhất được thể hiện nơi mỗi tín hữu và nơi cộng đoàn Giáo Hội.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0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after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31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312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13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14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315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3240"/>
            <a:ext cx="12982680" cy="740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3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3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27" dur="2000" fill="hold"/>
                                        <p:tgtEl>
                                          <p:spTgt spid="11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74880"/>
            <a:ext cx="129841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9600" spc="-1" strike="noStrike">
                <a:solidFill>
                  <a:srgbClr val="f0e500"/>
                </a:solidFill>
                <a:latin typeface="Arial"/>
              </a:rPr>
              <a:t>22. H.- Đức tin có   cần thiết không?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5761080"/>
            <a:ext cx="12984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ffff"/>
                </a:solidFill>
                <a:latin typeface="Arial"/>
              </a:rPr>
              <a:t>Chúa dạy: “</a:t>
            </a:r>
            <a:r>
              <a:rPr b="1" i="1" lang="fr-FR" sz="4400" spc="-1" strike="noStrike">
                <a:solidFill>
                  <a:srgbClr val="ffffff"/>
                </a:solidFill>
                <a:latin typeface="Arial"/>
              </a:rPr>
              <a:t>Ai tin và chịu phép rửa, sẽ được cứu độ; còn ai không tin, thì sẽ bị kết án</a:t>
            </a:r>
            <a:r>
              <a:rPr b="1" lang="fr-FR" sz="44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320760" y="426960"/>
            <a:ext cx="41148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T.- Đức tin</a:t>
            </a:r>
            <a:endParaRPr b="1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359240" y="1646280"/>
            <a:ext cx="6477120" cy="2060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0">
                  <a:noFill/>
                </a:ln>
                <a:solidFill>
                  <a:srgbClr val="ff0066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rất cần thiết</a:t>
            </a:r>
            <a:endParaRPr b="1" lang="en-US" sz="5400" spc="1" strike="noStrike">
              <a:ln w="0">
                <a:noFill/>
              </a:ln>
              <a:solidFill>
                <a:srgbClr val="ff0066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5349960" y="4084560"/>
            <a:ext cx="763416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để được sống đời đời</a:t>
            </a:r>
            <a:endParaRPr b="1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3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3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3000"/>
                            </p:stCondLst>
                            <p:childTnLst>
                              <p:par>
                                <p:cTn id="3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3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3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6000"/>
                            </p:stCondLst>
                            <p:childTnLst>
                              <p:par>
                                <p:cTn id="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3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3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9000"/>
                            </p:stCondLst>
                            <p:childTnLst>
                              <p:par>
                                <p:cTn id="49" nodeType="after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3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3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2000"/>
                            </p:stCondLst>
                            <p:childTnLst>
                              <p:par>
                                <p:cTn id="54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5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56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57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58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59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74880"/>
            <a:ext cx="129841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9600" spc="-1" strike="noStrike">
                <a:solidFill>
                  <a:srgbClr val="f0e500"/>
                </a:solidFill>
                <a:latin typeface="Arial"/>
              </a:rPr>
              <a:t>23. H.- Đức tin có những đặc tính nào?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0"/>
            <a:ext cx="12984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200" spc="-1" strike="noStrike">
                <a:solidFill>
                  <a:srgbClr val="ffffff"/>
                </a:solidFill>
                <a:latin typeface="Arial"/>
              </a:rPr>
              <a:t>T.- Đức tin có 4 đặc tính này: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711920" y="3398760"/>
            <a:ext cx="527220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0" spc="-1" strike="noStrike">
                <a:solidFill>
                  <a:srgbClr val="ffffff"/>
                </a:solidFill>
                <a:latin typeface="Arial"/>
              </a:rPr>
              <a:t>đặt nền 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0" spc="-1" strike="noStrike">
                <a:solidFill>
                  <a:srgbClr val="ffffff"/>
                </a:solidFill>
                <a:latin typeface="Arial"/>
              </a:rPr>
              <a:t>tảng trên       Lời Chúa.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0" y="3094200"/>
            <a:ext cx="4952880" cy="342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Chắc chắn</a:t>
            </a:r>
            <a:endParaRPr b="1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5807160" y="2865600"/>
            <a:ext cx="1523880" cy="419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vì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5273640" y="1189080"/>
            <a:ext cx="1828800" cy="1828800"/>
            <a:chOff x="5273640" y="1189080"/>
            <a:chExt cx="1828800" cy="1828800"/>
          </a:xfrm>
        </p:grpSpPr>
        <p:sp>
          <p:nvSpPr>
            <p:cNvPr id="61" name=""/>
            <p:cNvSpPr txBox="1"/>
            <p:nvPr/>
          </p:nvSpPr>
          <p:spPr>
            <a:xfrm>
              <a:off x="5654520" y="1569960"/>
              <a:ext cx="838440" cy="1143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blipFill rotWithShape="0">
                    <a:blip r:embed="rId3"/>
                    <a:srcRect/>
                    <a:stretch/>
                  </a:blip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Impact"/>
                </a:rPr>
                <a:t>1</a:t>
              </a:r>
              <a:endPara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273640" y="1189080"/>
              <a:ext cx="1828800" cy="1828800"/>
            </a:xfrm>
            <a:prstGeom prst="ellipse">
              <a:avLst/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5000"/>
                            </p:stCondLst>
                            <p:childTnLst>
                              <p:par>
                                <p:cTn id="69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5500"/>
                            </p:stCondLst>
                            <p:childTnLst>
                              <p:par>
                                <p:cTn id="7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3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3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8500"/>
                            </p:stCondLst>
                            <p:childTnLst>
                              <p:par>
                                <p:cTn id="7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3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3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1500"/>
                            </p:stCondLst>
                            <p:childTnLst>
                              <p:par>
                                <p:cTn id="84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2000"/>
                            </p:stCondLst>
                            <p:childTnLst>
                              <p:par>
                                <p:cTn id="89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9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91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92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93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94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7711920" y="1036800"/>
            <a:ext cx="5272200" cy="61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ffffff"/>
                </a:solidFill>
                <a:latin typeface="Arial"/>
              </a:rPr>
              <a:t>đòi hỏi được 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ffffff"/>
                </a:solidFill>
                <a:latin typeface="Arial"/>
              </a:rPr>
              <a:t>bày tỏ trong Phụng vụ  và trong cuộc sống.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396720" y="2560680"/>
            <a:ext cx="50292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Năng động </a:t>
            </a:r>
            <a:endParaRPr b="1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5807160" y="2103480"/>
            <a:ext cx="152388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vì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5273640" y="426960"/>
            <a:ext cx="1828800" cy="1828800"/>
            <a:chOff x="5273640" y="426960"/>
            <a:chExt cx="1828800" cy="1828800"/>
          </a:xfrm>
        </p:grpSpPr>
        <p:sp>
          <p:nvSpPr>
            <p:cNvPr id="67" name=""/>
            <p:cNvSpPr txBox="1"/>
            <p:nvPr/>
          </p:nvSpPr>
          <p:spPr>
            <a:xfrm>
              <a:off x="5730840" y="731880"/>
              <a:ext cx="838080" cy="1143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blipFill rotWithShape="0">
                    <a:blip r:embed="rId3"/>
                    <a:srcRect/>
                    <a:stretch/>
                  </a:blip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Impact"/>
                </a:rPr>
                <a:t>2</a:t>
              </a:r>
              <a:endPara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273640" y="426960"/>
              <a:ext cx="1828800" cy="1828800"/>
            </a:xfrm>
            <a:prstGeom prst="ellipse">
              <a:avLst/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3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3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3000"/>
                            </p:stCondLst>
                            <p:childTnLst>
                              <p:par>
                                <p:cTn id="10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3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3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6000"/>
                            </p:stCondLst>
                            <p:childTnLst>
                              <p:par>
                                <p:cTn id="10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3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3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9000"/>
                            </p:stCondLst>
                            <p:childTnLst>
                              <p:par>
                                <p:cTn id="1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500"/>
                            </p:stCondLst>
                            <p:childTnLst>
                              <p:par>
                                <p:cTn id="119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2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21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22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23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24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7483320" y="1722600"/>
            <a:ext cx="5500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200" spc="-1" strike="noStrike">
                <a:solidFill>
                  <a:srgbClr val="ffffff"/>
                </a:solidFill>
                <a:latin typeface="Arial"/>
              </a:rPr>
              <a:t>lắng nghe 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200" spc="-1" strike="noStrike">
                <a:solidFill>
                  <a:srgbClr val="ffffff"/>
                </a:solidFill>
                <a:latin typeface="Arial"/>
              </a:rPr>
              <a:t>Lời Chúa   </a:t>
            </a:r>
            <a:r>
              <a:rPr b="1" lang="fr-FR" sz="7200" spc="-1" strike="noStrike">
                <a:solidFill>
                  <a:srgbClr val="ff00ff"/>
                </a:solidFill>
                <a:latin typeface="Arial"/>
              </a:rPr>
              <a:t>&amp;</a:t>
            </a:r>
            <a:r>
              <a:rPr b="1" lang="fr-FR" sz="7200" spc="-1" strike="noStrike">
                <a:solidFill>
                  <a:srgbClr val="ffffff"/>
                </a:solidFill>
                <a:latin typeface="Arial"/>
              </a:rPr>
              <a:t>             cầu nguyện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5121360" y="2637000"/>
            <a:ext cx="289548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nhờ  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320760" y="2332080"/>
            <a:ext cx="419076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Tiến triển</a:t>
            </a:r>
            <a:endParaRPr b="1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5273640" y="426960"/>
            <a:ext cx="1828800" cy="1828800"/>
            <a:chOff x="5273640" y="426960"/>
            <a:chExt cx="1828800" cy="1828800"/>
          </a:xfrm>
        </p:grpSpPr>
        <p:sp>
          <p:nvSpPr>
            <p:cNvPr id="73" name=""/>
            <p:cNvSpPr txBox="1"/>
            <p:nvPr/>
          </p:nvSpPr>
          <p:spPr>
            <a:xfrm>
              <a:off x="5730840" y="731880"/>
              <a:ext cx="838080" cy="1143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blipFill rotWithShape="0">
                    <a:blip r:embed="rId3"/>
                    <a:srcRect/>
                    <a:stretch/>
                  </a:blip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Impact"/>
                </a:rPr>
                <a:t>3</a:t>
              </a:r>
              <a:endPara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273640" y="426960"/>
              <a:ext cx="1828800" cy="1828800"/>
            </a:xfrm>
            <a:prstGeom prst="ellipse">
              <a:avLst/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3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3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3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3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6000"/>
                            </p:stCondLst>
                            <p:childTnLst>
                              <p:par>
                                <p:cTn id="13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3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3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9000"/>
                            </p:stCondLst>
                            <p:childTnLst>
                              <p:par>
                                <p:cTn id="144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3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3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12000"/>
                            </p:stCondLst>
                            <p:childTnLst>
                              <p:par>
                                <p:cTn id="149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5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51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52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53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54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711920" y="2408400"/>
            <a:ext cx="52722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600" spc="-1" strike="noStrike">
                <a:solidFill>
                  <a:srgbClr val="ffffff"/>
                </a:solidFill>
                <a:latin typeface="Arial"/>
              </a:rPr>
              <a:t>niềm vui trên trời.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320760" y="2255760"/>
            <a:ext cx="4114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Tham dự</a:t>
            </a:r>
            <a:endParaRPr b="1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73640" y="426960"/>
            <a:ext cx="1828800" cy="1828800"/>
            <a:chOff x="5273640" y="426960"/>
            <a:chExt cx="1828800" cy="1828800"/>
          </a:xfrm>
        </p:grpSpPr>
        <p:sp>
          <p:nvSpPr>
            <p:cNvPr id="78" name=""/>
            <p:cNvSpPr txBox="1"/>
            <p:nvPr/>
          </p:nvSpPr>
          <p:spPr>
            <a:xfrm>
              <a:off x="5730840" y="731880"/>
              <a:ext cx="838080" cy="1143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blipFill rotWithShape="0">
                    <a:blip r:embed="rId3"/>
                    <a:srcRect/>
                    <a:stretch/>
                  </a:blip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Impact"/>
                </a:rPr>
                <a:t>4</a:t>
              </a:r>
              <a:endPara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273640" y="426960"/>
              <a:ext cx="1828800" cy="1828800"/>
            </a:xfrm>
            <a:prstGeom prst="ellipse">
              <a:avLst/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0" name=""/>
          <p:cNvSpPr txBox="1"/>
          <p:nvPr/>
        </p:nvSpPr>
        <p:spPr>
          <a:xfrm>
            <a:off x="5045040" y="2408400"/>
            <a:ext cx="2514600" cy="30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trước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3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3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3000"/>
                            </p:stCondLst>
                            <p:childTnLst>
                              <p:par>
                                <p:cTn id="16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3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3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6000"/>
                            </p:stCondLst>
                            <p:childTnLst>
                              <p:par>
                                <p:cTn id="16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3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3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9000"/>
                            </p:stCondLst>
                            <p:childTnLst>
                              <p:par>
                                <p:cTn id="174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3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3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2000"/>
                            </p:stCondLst>
                            <p:childTnLst>
                              <p:par>
                                <p:cTn id="179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8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81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82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83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84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79600"/>
            <a:ext cx="1298412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9600" spc="-1" strike="noStrike">
                <a:solidFill>
                  <a:srgbClr val="f0e500"/>
                </a:solidFill>
                <a:latin typeface="Arial"/>
              </a:rPr>
              <a:t>24. H.- Giáo Hội có  vai trò nào trong    đời sống đức tin của người tín hữu?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4T00:16:05Z</dcterms:created>
  <dc:creator>NguyenMinh</dc:creator>
  <dc:description/>
  <dc:language>en-US</dc:language>
  <cp:lastModifiedBy>Nguyen Minh</cp:lastModifiedBy>
  <dcterms:modified xsi:type="dcterms:W3CDTF">2013-02-20T02:16:40Z</dcterms:modified>
  <cp:revision>42</cp:revision>
  <dc:subject/>
  <dc:title>Slide 1</dc:title>
</cp:coreProperties>
</file>