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6C2B-F3A8-48AA-8085-2FC040B3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6643-6B72-45BC-916E-0150D921B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FB1-4218-400B-BA5B-BC26C1F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BEB-ECC1-4BF8-A89D-51FDDA8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046-6937-4B57-9480-16C5599C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33C-550A-4D29-B80A-5B23086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81F-BD7B-42B3-AFF3-6145F24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865-8E32-4BA0-A503-F35767E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FFA-CCFE-44A5-B4CD-15BB02D7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BFF-BD1F-4270-88C9-B04F6B50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B63-66DA-44BD-A09A-B801A91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50C-0CF2-4022-8290-17A0137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BB4-10FD-495F-9156-39CC7C8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FD0-6FD1-488C-9617-7A0096C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20D-7143-4285-B92C-C2ACAB565B7A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DBC-2227-4951-BD59-1B465BF166C0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240" y="5532480"/>
            <a:ext cx="1295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Thầy mới có những lời ban sự sống đời đời”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G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6,6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30440" y="5032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3 / 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IÁO LÝ VỀ ĐỨC TIN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30240" y="1189080"/>
            <a:ext cx="1098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1. H.- Con người cần đón nhận  đức tin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73640" y="1112760"/>
            <a:ext cx="75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Con người cần đón nhận đức tin với         lòng khiêm hạ, biết ơn,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760" y="579600"/>
            <a:ext cx="4576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8120" y="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Con người cần đón nhận đức tin vớ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8360"/>
            <a:ext cx="13496040" cy="7824240"/>
            <a:chOff x="0" y="198360"/>
            <a:chExt cx="13496040" cy="782424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873840" y="198360"/>
              <a:ext cx="360036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rot="17977800">
              <a:off x="8907840" y="3591360"/>
              <a:ext cx="4067280" cy="35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3322800"/>
              <a:ext cx="7102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tất cả khả năng 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ffffff"/>
                  </a:solidFill>
                  <a:latin typeface="Arial"/>
                </a:rPr>
                <a:t>lý trí, ý chí và tự do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95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60680"/>
            <a:ext cx="1298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8. H.- Đức tin là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6040" y="1494000"/>
            <a:ext cx="960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- Đức tin là ơn Thiên Chúa ba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4440" y="0"/>
            <a:ext cx="12573000" cy="720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446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3ebf1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giúp  ta  phó  thác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e3ebf1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3ebf1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bản  thân  và  đời  mình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e3ebf1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3ebf1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một  cách  tự  do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e3ebf1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e3ebf1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cho  Thiên  Chúa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e3ebf1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0760" y="503280"/>
            <a:ext cx="1249668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đón nhận và thực thi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tất cả những gì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Thiên Chúa đã phán dạy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mà Giáo hội truyền lại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1112760"/>
            <a:ext cx="908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9. H.- Đức tin đòi hỏi mấy chủ thể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8360"/>
            <a:ext cx="1274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Đức tin đòi hỏi 2 chủ thể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4440" y="1494000"/>
            <a:ext cx="5715000" cy="4735440"/>
            <a:chOff x="244440" y="1494000"/>
            <a:chExt cx="5715000" cy="47354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44440" y="2103480"/>
              <a:ext cx="5715000" cy="41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44440" y="1494000"/>
              <a:ext cx="548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ff00ff"/>
                  </a:solidFill>
                  <a:latin typeface="Arial"/>
                </a:rPr>
                <a:t>Thiên Chúa trao ban</a:t>
              </a:r>
              <a:r>
                <a:rPr b="1" lang="fr-FR" sz="3200" spc="-1" strike="noStrike">
                  <a:solidFill>
                    <a:srgbClr val="ff00ff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01640" y="6066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hiếu một trong hai thì không có đức ti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16640" y="3398760"/>
            <a:ext cx="5943600" cy="3751560"/>
            <a:chOff x="6416640" y="3398760"/>
            <a:chExt cx="5943600" cy="3751560"/>
          </a:xfrm>
        </p:grpSpPr>
        <p:sp>
          <p:nvSpPr>
            <p:cNvPr id="61" name=""/>
            <p:cNvSpPr/>
            <p:nvPr/>
          </p:nvSpPr>
          <p:spPr>
            <a:xfrm>
              <a:off x="6568920" y="6446880"/>
              <a:ext cx="579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ff00"/>
                  </a:solidFill>
                  <a:latin typeface="Arial"/>
                </a:rPr>
                <a:t>con người lãnh nhận</a:t>
              </a:r>
              <a:r>
                <a:rPr b="1" lang="fr-FR" sz="4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6416640" y="3398760"/>
              <a:ext cx="5576760" cy="308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20. H.- Vì sao đức tin là hồng ân        </a:t>
            </a:r>
            <a:r>
              <a:rPr b="1" i="1" lang="fr-FR" sz="9600" spc="-1" strike="noStrike">
                <a:solidFill>
                  <a:srgbClr val="ff00ff"/>
                </a:solidFill>
                <a:latin typeface="Arial"/>
              </a:rPr>
              <a:t>‘nhưng không’</a:t>
            </a: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       của Thiên Chúa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920960" y="1112760"/>
            <a:ext cx="9372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.- Vì đó là hồng ân Chúa tặng ba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120" y="2560680"/>
            <a:ext cx="12984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hoàn toàn d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lòng yêu thương rộng rãi của Người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44440" y="4998960"/>
            <a:ext cx="12534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hông ai có công trạng gì để đòi hỏi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úa ban đức tin cho mình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6:21Z</dcterms:modified>
  <cp:revision>44</cp:revision>
  <dc:subject/>
  <dc:title>Slide 1</dc:title>
</cp:coreProperties>
</file>