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2985750" cy="7408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3720" y="685440"/>
            <a:ext cx="60105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B79F-09CF-4921-ABBB-627AB13CF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423720" y="685800"/>
            <a:ext cx="601056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01B8-2E1C-491B-BCE3-81841D2478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E99B-23BC-478D-B280-CD43889F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9440" y="428184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F04A-ACB3-4969-BFC6-A8298474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3732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2370-E35B-4F22-B696-1053A01D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044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5108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944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044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5108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B1F7-9A31-44DD-9793-2A5E37C6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BBDE-2F02-48B2-8405-882FDD8F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DC37-E4C1-4C2D-8139-74D900ED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870F-BEFD-4315-B80E-258AA836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5A8C-4023-4B97-9F0E-73B8FE0F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9440" y="297000"/>
            <a:ext cx="1168560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00B6-78A9-4FE3-8FEC-993DAF58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C710-67D4-427D-A485-AA0AD238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3732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F13C-DC72-49A4-A6B2-3FDC016C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3FA2-74D1-4EE5-8469-57F11A57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70040" indent="-29520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2" marL="1184400" indent="-23652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3" marL="1658880" indent="-23652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4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5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6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9440" y="6744960"/>
            <a:ext cx="303048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E554-A6B9-4C6F-973C-303B5D1946E5}" type="datetime">
              <a:rPr b="0" lang="en-US" sz="15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35200" y="6744960"/>
            <a:ext cx="411300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03840" y="6744960"/>
            <a:ext cx="303084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D55A-0DAF-45A6-9D68-B7DE4DA00939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073240" y="808200"/>
            <a:ext cx="8534520" cy="55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ÀI 5 / 2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IÁO LÝ VỀ HIỆP THÔNG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440" y="5075280"/>
            <a:ext cx="1249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Cầu chúc toàn thể anh chị em được đầy tràn ân sủng của                Chúa Giêsu Kitô, đầy tình thương của Thiên Chúa và ơn hiệp thông   của Thánh Thần. Amen”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2Cr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13,13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808200"/>
            <a:ext cx="12984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43. H.- Sự hiệp thông trong Giáo Hội đem lại những lợi ích nào cho các Kitô hữu?</a:t>
            </a:r>
            <a:r>
              <a:rPr b="1" lang="fr-FR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1298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ffff"/>
                </a:solidFill>
                <a:latin typeface="Arial"/>
              </a:rPr>
              <a:t>T.- Đem lại những lợi ích này 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88040" y="1219320"/>
            <a:ext cx="6796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ffff"/>
                </a:solidFill>
                <a:latin typeface="Arial"/>
              </a:rPr>
              <a:t>nên         đồng hình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ffff"/>
                </a:solidFill>
                <a:latin typeface="Arial"/>
              </a:rPr>
              <a:t>đồng dạng với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ffff"/>
                </a:solidFill>
                <a:latin typeface="Arial"/>
              </a:rPr>
              <a:t>Đức Kitô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20760" y="1494000"/>
            <a:ext cx="6476760" cy="5562360"/>
            <a:chOff x="320760" y="1494000"/>
            <a:chExt cx="6476760" cy="5562360"/>
          </a:xfrm>
        </p:grpSpPr>
        <p:grpSp>
          <p:nvGrpSpPr>
            <p:cNvPr id="81" name=""/>
            <p:cNvGrpSpPr/>
            <p:nvPr/>
          </p:nvGrpSpPr>
          <p:grpSpPr>
            <a:xfrm>
              <a:off x="2606760" y="1494000"/>
              <a:ext cx="990360" cy="990360"/>
              <a:chOff x="2606760" y="1494000"/>
              <a:chExt cx="990360" cy="990360"/>
            </a:xfrm>
          </p:grpSpPr>
          <p:sp>
            <p:nvSpPr>
              <p:cNvPr id="82" name=""/>
              <p:cNvSpPr txBox="1"/>
              <p:nvPr/>
            </p:nvSpPr>
            <p:spPr>
              <a:xfrm>
                <a:off x="2759040" y="1569960"/>
                <a:ext cx="533520" cy="838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blipFill rotWithShape="0">
                      <a:blip r:embed="rId1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1</a:t>
                </a:r>
                <a:endParaRPr b="0" lang="en-US" sz="18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606760" y="1494000"/>
                <a:ext cx="990360" cy="99036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 txBox="1"/>
            <p:nvPr/>
          </p:nvSpPr>
          <p:spPr>
            <a:xfrm>
              <a:off x="320760" y="2712960"/>
              <a:ext cx="5410080" cy="281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được biến đổ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6035760" y="1569960"/>
              <a:ext cx="761760" cy="548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{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50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114" dur="50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115" dur="50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298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ffff"/>
                </a:solidFill>
                <a:latin typeface="Arial"/>
              </a:rPr>
              <a:t>T.- Đem lại những lợi ích này 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50160" y="1265400"/>
            <a:ext cx="60339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ffff"/>
                </a:solidFill>
                <a:latin typeface="Arial"/>
              </a:rPr>
              <a:t>bản thân ích kỷ để nên        phong phú nhờ đón nhận   những điều thiện hảo của tha nhân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77960" y="1417680"/>
            <a:ext cx="6019560" cy="5638680"/>
            <a:chOff x="777960" y="1417680"/>
            <a:chExt cx="6019560" cy="5638680"/>
          </a:xfrm>
        </p:grpSpPr>
        <p:grpSp>
          <p:nvGrpSpPr>
            <p:cNvPr id="89" name=""/>
            <p:cNvGrpSpPr/>
            <p:nvPr/>
          </p:nvGrpSpPr>
          <p:grpSpPr>
            <a:xfrm>
              <a:off x="2225520" y="1417680"/>
              <a:ext cx="990720" cy="990360"/>
              <a:chOff x="2225520" y="1417680"/>
              <a:chExt cx="990720" cy="990360"/>
            </a:xfrm>
          </p:grpSpPr>
          <p:sp>
            <p:nvSpPr>
              <p:cNvPr id="90" name=""/>
              <p:cNvSpPr txBox="1"/>
              <p:nvPr/>
            </p:nvSpPr>
            <p:spPr>
              <a:xfrm>
                <a:off x="2454120" y="1493640"/>
                <a:ext cx="533520" cy="838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blipFill rotWithShape="0">
                      <a:blip r:embed="rId1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2</a:t>
                </a:r>
                <a:endParaRPr b="0" lang="en-US" sz="18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225520" y="1417680"/>
                <a:ext cx="990720" cy="99036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 txBox="1"/>
            <p:nvPr/>
          </p:nvSpPr>
          <p:spPr>
            <a:xfrm>
              <a:off x="777960" y="2712960"/>
              <a:ext cx="4495680" cy="350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được kéo 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ra khỏi 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6035760" y="1569960"/>
              <a:ext cx="761760" cy="548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{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5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138" dur="5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139" dur="5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1298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ffff"/>
                </a:solidFill>
                <a:latin typeface="Arial"/>
              </a:rPr>
              <a:t>T.- Đem lại những lợi ích này 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16640" y="1276200"/>
            <a:ext cx="56386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ffff"/>
                </a:solidFill>
                <a:latin typeface="Arial"/>
              </a:rPr>
              <a:t>xây dựng       cộng đoàn      Giáo Hội         ngày một         hiệp nhất          yêu thương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49360" y="1569960"/>
            <a:ext cx="6248160" cy="5486400"/>
            <a:chOff x="549360" y="1569960"/>
            <a:chExt cx="6248160" cy="5486400"/>
          </a:xfrm>
        </p:grpSpPr>
        <p:grpSp>
          <p:nvGrpSpPr>
            <p:cNvPr id="97" name=""/>
            <p:cNvGrpSpPr/>
            <p:nvPr/>
          </p:nvGrpSpPr>
          <p:grpSpPr>
            <a:xfrm>
              <a:off x="2378160" y="1569960"/>
              <a:ext cx="990360" cy="990360"/>
              <a:chOff x="2378160" y="1569960"/>
              <a:chExt cx="990360" cy="990360"/>
            </a:xfrm>
          </p:grpSpPr>
          <p:sp>
            <p:nvSpPr>
              <p:cNvPr id="98" name=""/>
              <p:cNvSpPr txBox="1"/>
              <p:nvPr/>
            </p:nvSpPr>
            <p:spPr>
              <a:xfrm>
                <a:off x="2606400" y="1645920"/>
                <a:ext cx="533160" cy="838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blipFill rotWithShape="0">
                      <a:blip r:embed="rId1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3</a:t>
                </a:r>
                <a:endParaRPr b="0" lang="en-US" sz="18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378160" y="1569960"/>
                <a:ext cx="990360" cy="99036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 txBox="1"/>
            <p:nvPr/>
          </p:nvSpPr>
          <p:spPr>
            <a:xfrm>
              <a:off x="6035760" y="1569960"/>
              <a:ext cx="761760" cy="548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{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549360" y="2941560"/>
              <a:ext cx="4572000" cy="251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được 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góp phần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5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162" dur="5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163" dur="5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12982680" cy="74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25320" y="1265400"/>
            <a:ext cx="12039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39. H.- Đâu là       con đường dẫn tới hiệp thông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73840" y="579600"/>
            <a:ext cx="5848560" cy="659916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244440" y="884160"/>
            <a:ext cx="6294600" cy="6370560"/>
            <a:chOff x="244440" y="884160"/>
            <a:chExt cx="6294600" cy="6370560"/>
          </a:xfrm>
        </p:grpSpPr>
        <p:sp>
          <p:nvSpPr>
            <p:cNvPr id="53" name=""/>
            <p:cNvSpPr/>
            <p:nvPr/>
          </p:nvSpPr>
          <p:spPr>
            <a:xfrm>
              <a:off x="320760" y="1123560"/>
              <a:ext cx="6111720" cy="61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600" spc="-1" strike="noStrike">
                  <a:solidFill>
                    <a:srgbClr val="ffffff"/>
                  </a:solidFill>
                  <a:latin typeface="Arial"/>
                </a:rPr>
                <a:t>T.- Con đường dẫn tới      hiệp thông là </a:t>
              </a:r>
              <a:r>
                <a:rPr b="1" lang="fr-FR" sz="6600" spc="-1" strike="noStrike">
                  <a:solidFill>
                    <a:srgbClr val="ff00ff"/>
                  </a:solidFill>
                  <a:latin typeface="Arial"/>
                </a:rPr>
                <a:t>Đức Kitô  Nhập Thể  Cứu Độ.</a:t>
              </a:r>
              <a:r>
                <a:rPr b="1" lang="fr-FR" sz="6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6200000">
              <a:off x="206280" y="921960"/>
              <a:ext cx="6370560" cy="6294600"/>
            </a:xfrm>
            <a:prstGeom prst="wedgeRoundRectCallout">
              <a:avLst>
                <a:gd name="adj1" fmla="val -4754"/>
                <a:gd name="adj2" fmla="val 70055"/>
                <a:gd name="adj3" fmla="val 1666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129841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40. H.-                   Chúa Thánh Thần    có vai trò nào      trong mầu nhiệm   hiệp thông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63760" y="5151600"/>
            <a:ext cx="969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xây dựng mầu nhiệm hiệp thô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141960"/>
            <a:ext cx="131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giữa con người với </a:t>
            </a:r>
            <a:r>
              <a:rPr b="1" lang="fr-FR" sz="4800" spc="-1" strike="noStrike">
                <a:solidFill>
                  <a:srgbClr val="ff00ff"/>
                </a:solidFill>
                <a:latin typeface="Arial"/>
              </a:rPr>
              <a:t>Thiên Chúa</a:t>
            </a: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 và </a:t>
            </a:r>
            <a:r>
              <a:rPr b="1" lang="fr-FR" sz="4800" spc="-1" strike="noStrike">
                <a:solidFill>
                  <a:srgbClr val="ff00ff"/>
                </a:solidFill>
                <a:latin typeface="Arial"/>
              </a:rPr>
              <a:t>với nhau</a:t>
            </a: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444840" y="426960"/>
            <a:ext cx="5867280" cy="4341960"/>
            <a:chOff x="3444840" y="426960"/>
            <a:chExt cx="5867280" cy="434196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4054320" y="426960"/>
              <a:ext cx="48704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 txBox="1"/>
            <p:nvPr/>
          </p:nvSpPr>
          <p:spPr>
            <a:xfrm>
              <a:off x="3444840" y="2637000"/>
              <a:ext cx="5867280" cy="2131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cc3300"/>
                  </a:solidFill>
                  <a:latin typeface="Times New Roman"/>
                </a:rPr>
                <a:t>Chúa Thánh Thần</a:t>
              </a:r>
              <a:endParaRPr b="1" lang="en-US" sz="1800" spc="1" strike="noStrike">
                <a:ln w="0">
                  <a:noFill/>
                </a:ln>
                <a:solidFill>
                  <a:srgbClr val="cc3300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60480"/>
            <a:ext cx="1298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41. H.- Sự hiệp thông nơi người tín hữu khởi đi từ bí tích nào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1640" y="5761080"/>
            <a:ext cx="1166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Nhờ đó, con người được dẫn vào nguồn sống hiệp thông với Thiên Chúa và với Giáo Hội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20760" y="0"/>
            <a:ext cx="12283920" cy="5608800"/>
            <a:chOff x="320760" y="0"/>
            <a:chExt cx="12283920" cy="5608800"/>
          </a:xfrm>
        </p:grpSpPr>
        <p:sp>
          <p:nvSpPr>
            <p:cNvPr id="64" name=""/>
            <p:cNvSpPr/>
            <p:nvPr/>
          </p:nvSpPr>
          <p:spPr>
            <a:xfrm>
              <a:off x="320760" y="0"/>
              <a:ext cx="12283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ffffff"/>
                  </a:solidFill>
                  <a:latin typeface="Arial"/>
                </a:rPr>
                <a:t>T.- Sự hiệp thông nơi người tín hữu khởi đi từ Bí tích Rửa Tội. 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3902040" y="2103480"/>
              <a:ext cx="5261040" cy="350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960480"/>
            <a:ext cx="1298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42. H.- Các tín hữu hiệp thông với nhau  thế nào ?</a:t>
            </a:r>
            <a:r>
              <a:rPr b="1" lang="fr-FR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444840" y="156996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00ff"/>
                </a:solidFill>
                <a:latin typeface="Arial"/>
              </a:rPr>
              <a:t>cùng chia s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30240" y="426960"/>
            <a:ext cx="11430000" cy="10256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8075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ác tín hữu còn sống ở trần gian - các thánh trên trời - các linh hồn trong luyện ngục 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454120" y="3322800"/>
            <a:ext cx="3733920" cy="3703320"/>
            <a:chOff x="2454120" y="3322800"/>
            <a:chExt cx="3733920" cy="3703320"/>
          </a:xfrm>
        </p:grpSpPr>
        <p:graphicFrame>
          <p:nvGraphicFramePr>
            <p:cNvPr id="70" name=""/>
            <p:cNvGraphicFramePr/>
            <p:nvPr/>
          </p:nvGraphicFramePr>
          <p:xfrm>
            <a:off x="2454120" y="3322800"/>
            <a:ext cx="3733920" cy="3703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54120" y="3322800"/>
                      <a:ext cx="3733920" cy="37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>
              <a:off x="2987640" y="3932280"/>
              <a:ext cx="274320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ffffff"/>
                  </a:solidFill>
                  <a:latin typeface="Arial"/>
                </a:rPr>
                <a:t>sự sống Ba   Ngôi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492960" y="3322800"/>
            <a:ext cx="3795480" cy="3703320"/>
            <a:chOff x="6492960" y="3322800"/>
            <a:chExt cx="3795480" cy="3703320"/>
          </a:xfrm>
        </p:grpSpPr>
        <p:graphicFrame>
          <p:nvGraphicFramePr>
            <p:cNvPr id="74" name=""/>
            <p:cNvGraphicFramePr/>
            <p:nvPr/>
          </p:nvGraphicFramePr>
          <p:xfrm>
            <a:off x="6492960" y="3322800"/>
            <a:ext cx="3733560" cy="3703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92960" y="3322800"/>
                      <a:ext cx="3733560" cy="37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"/>
            <p:cNvSpPr/>
            <p:nvPr/>
          </p:nvSpPr>
          <p:spPr>
            <a:xfrm>
              <a:off x="6568920" y="3932280"/>
              <a:ext cx="37195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ffffff"/>
                  </a:solidFill>
                  <a:latin typeface="Arial"/>
                </a:rPr>
                <a:t>kho tàng thiêng 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ffffff"/>
                  </a:solidFill>
                  <a:latin typeface="Arial"/>
                </a:rPr>
                <a:t>liêng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000"/>
                            </p:stCondLst>
                            <p:childTnLst>
                              <p:par>
                                <p:cTn id="8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0:16:05Z</dcterms:created>
  <dc:creator>NguyenMinh</dc:creator>
  <dc:description/>
  <dc:language>en-US</dc:language>
  <cp:lastModifiedBy>Nguyen Minh</cp:lastModifiedBy>
  <dcterms:modified xsi:type="dcterms:W3CDTF">2013-02-20T02:14:07Z</dcterms:modified>
  <cp:revision>40</cp:revision>
  <dc:subject/>
  <dc:title>Slide 1</dc:title>
</cp:coreProperties>
</file>