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4594-5396-4801-BEDC-999D9D4CD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C5DD-C47F-47E0-AAFE-7D527BEE12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B83-DCE2-4953-8672-8753BC15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702-110A-435F-B308-E490BDA4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AE8-EE7F-441C-B458-2AE9C243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1F6-FD87-42FB-878A-047DF0BD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DE6-39A4-4D81-BE1D-16025F6C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E25-B0AB-46DB-BBAF-BE294786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3DB-0432-46F4-A5E6-E7F9D244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922-4144-428F-8476-733912D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4B0-ADC8-4DB2-9105-56CCBCC4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C39-7A95-4EE5-888E-F598939B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FA7-D3A5-4E17-A6E7-1EF7294D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C07-8DA9-4371-9024-3FB07F0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0BF1-65A0-4151-9732-587EF6C46FA4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197B-59DE-4595-848E-617AB65905AA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30240" y="503280"/>
            <a:ext cx="10591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6 / 2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ỐNG HIỆP THÔNG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303880"/>
            <a:ext cx="129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Họ hiệp thông với nhau, siêng năng tham dự lễ bẻ bánh và cầu nguyện không ngừng”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2,4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890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52. H.- Giáo xứ    sống hiệp thông   cách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1298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T.- Giáo xứ sống hiệp thông bằng cách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92560" y="1265400"/>
            <a:ext cx="9524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Mọi thành phần dân Chúa    hiệp nhất và yêu thươ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8120" y="1341360"/>
            <a:ext cx="3284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1298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T.- Giáo xứ sống hiệp thông bằng cách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60480"/>
            <a:ext cx="8853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fr-FR" sz="8000" spc="-1" strike="noStrike">
                <a:solidFill>
                  <a:srgbClr val="ffffff"/>
                </a:solidFill>
                <a:latin typeface="Arial"/>
              </a:rPr>
              <a:t>Một lòng một ý trong đường hướng và trong              hoạt động     công ích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564400" y="2255760"/>
            <a:ext cx="44197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1298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T.- Giáo xứ sống hiệp thông bằng cách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40120" y="134136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ránh những   phê bình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chỉ trích   phương hại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đến sự đoàn kết.</a:t>
            </a:r>
            <a:r>
              <a:rPr b="0" lang="fr-F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4440" y="1722600"/>
            <a:ext cx="43434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2696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49. H.- Để hiệp thông trong nhu cầu đời sống, các tín hữu    có thể làm gì ?</a:t>
            </a:r>
            <a:r>
              <a:rPr b="0" lang="fr-FR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1298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T.- Để hiệp thông trong nhu cầu đời sống</a:t>
            </a: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9440" y="248436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hực thi bác ái  mục vụ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53920" y="1189080"/>
            <a:ext cx="8153640" cy="5715000"/>
            <a:chOff x="853920" y="1189080"/>
            <a:chExt cx="8153640" cy="5715000"/>
          </a:xfrm>
        </p:grpSpPr>
        <p:sp>
          <p:nvSpPr>
            <p:cNvPr id="54" name=""/>
            <p:cNvSpPr txBox="1"/>
            <p:nvPr/>
          </p:nvSpPr>
          <p:spPr>
            <a:xfrm>
              <a:off x="3902040" y="1189080"/>
              <a:ext cx="51055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các tín hữu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853920" y="3703680"/>
              <a:ext cx="480060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Giáo sĩ 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807160" y="2712960"/>
              <a:ext cx="609480" cy="419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{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298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T.- Để hiệp thông trong nhu cầu đời sống</a:t>
            </a: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16640" y="2438280"/>
            <a:ext cx="5638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Arial"/>
              </a:rPr>
              <a:t>tuân giữ           các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Arial"/>
              </a:rPr>
              <a:t>lời khuyên    Phúc Âm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01640" y="1189080"/>
            <a:ext cx="8305920" cy="5715000"/>
            <a:chOff x="701640" y="1189080"/>
            <a:chExt cx="8305920" cy="5715000"/>
          </a:xfrm>
        </p:grpSpPr>
        <p:sp>
          <p:nvSpPr>
            <p:cNvPr id="60" name=""/>
            <p:cNvSpPr txBox="1"/>
            <p:nvPr/>
          </p:nvSpPr>
          <p:spPr>
            <a:xfrm>
              <a:off x="3902040" y="1189080"/>
              <a:ext cx="51055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các tín hữu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701640" y="2865600"/>
              <a:ext cx="4419720" cy="297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Tu sĩ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807160" y="2712960"/>
              <a:ext cx="609480" cy="419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{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1298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T.- Để hiệp thông trong nhu cầu đời sống</a:t>
            </a: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64360" y="2484360"/>
            <a:ext cx="67197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biết sẵn sàng chia sẻ những nhu cầu cần thiết của </a:t>
            </a:r>
            <a:r>
              <a:rPr b="1" lang="fr-FR" sz="6000" spc="-1" strike="noStrike">
                <a:solidFill>
                  <a:srgbClr val="ff00ff"/>
                </a:solidFill>
                <a:latin typeface="Arial"/>
              </a:rPr>
              <a:t>tha nhân</a:t>
            </a: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 và của </a:t>
            </a:r>
            <a:r>
              <a:rPr b="1" lang="fr-FR" sz="6000" spc="-1" strike="noStrike">
                <a:solidFill>
                  <a:srgbClr val="ff00ff"/>
                </a:solidFill>
                <a:latin typeface="Arial"/>
              </a:rPr>
              <a:t>Giáo Hội</a:t>
            </a: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53920" y="1189080"/>
            <a:ext cx="8153640" cy="5715000"/>
            <a:chOff x="853920" y="1189080"/>
            <a:chExt cx="8153640" cy="5715000"/>
          </a:xfrm>
        </p:grpSpPr>
        <p:sp>
          <p:nvSpPr>
            <p:cNvPr id="66" name=""/>
            <p:cNvSpPr txBox="1"/>
            <p:nvPr/>
          </p:nvSpPr>
          <p:spPr>
            <a:xfrm>
              <a:off x="3902040" y="1189080"/>
              <a:ext cx="51055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các tín hữu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5578560" y="2712960"/>
              <a:ext cx="609480" cy="419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{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853920" y="3017880"/>
              <a:ext cx="4419720" cy="289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Giáo dân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2984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50. H.- Người tín hữu cần phát huy những đức tính nào để    nuôi dưỡng sức sống hiệp thông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5532480"/>
            <a:ext cx="12984120" cy="1493640"/>
            <a:chOff x="0" y="5532480"/>
            <a:chExt cx="12984120" cy="1493640"/>
          </a:xfrm>
        </p:grpSpPr>
        <p:sp>
          <p:nvSpPr>
            <p:cNvPr id="71" name=""/>
            <p:cNvSpPr/>
            <p:nvPr/>
          </p:nvSpPr>
          <p:spPr>
            <a:xfrm>
              <a:off x="701640" y="5608800"/>
              <a:ext cx="11430000" cy="141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5532480"/>
              <a:ext cx="129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Arial"/>
                </a:rPr>
                <a:t>nhất là luôn cầu xin với</a:t>
              </a: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4400" spc="-1" strike="noStrike">
                  <a:solidFill>
                    <a:srgbClr val="ff00ff"/>
                  </a:solidFill>
                  <a:latin typeface="Arial"/>
                </a:rPr>
                <a:t>Chúa Thánh Thần</a:t>
              </a: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fr-FR" sz="4400" spc="-1" strike="noStrike">
                  <a:solidFill>
                    <a:srgbClr val="000000"/>
                  </a:solidFill>
                  <a:latin typeface="Arial"/>
                </a:rPr>
                <a:t>là tác nhân của sự hiệp thông.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0"/>
            <a:ext cx="129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ff"/>
                </a:solidFill>
                <a:latin typeface="Arial"/>
              </a:rPr>
              <a:t>T.- Người tín hữu cần phát huy các đức tính căn bản nh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77960" y="1036800"/>
            <a:ext cx="5562360" cy="1191240"/>
            <a:chOff x="777960" y="1036800"/>
            <a:chExt cx="5562360" cy="1191240"/>
          </a:xfrm>
        </p:grpSpPr>
        <p:sp>
          <p:nvSpPr>
            <p:cNvPr id="75" name=""/>
            <p:cNvSpPr/>
            <p:nvPr/>
          </p:nvSpPr>
          <p:spPr>
            <a:xfrm>
              <a:off x="2073240" y="1036800"/>
              <a:ext cx="426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khiêm hạ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006560" y="1112760"/>
              <a:ext cx="45720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963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960" y="103680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20960" y="2332080"/>
            <a:ext cx="10758240" cy="1219320"/>
            <a:chOff x="1920960" y="2332080"/>
            <a:chExt cx="10758240" cy="1219320"/>
          </a:xfrm>
        </p:grpSpPr>
        <p:sp>
          <p:nvSpPr>
            <p:cNvPr id="79" name=""/>
            <p:cNvSpPr/>
            <p:nvPr/>
          </p:nvSpPr>
          <p:spPr>
            <a:xfrm>
              <a:off x="3368520" y="2332080"/>
              <a:ext cx="931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tôn trọng tha nhân</a:t>
              </a:r>
              <a:r>
                <a:rPr b="0" lang="fr-FR" sz="7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920960" y="2408400"/>
              <a:ext cx="1143000" cy="1143000"/>
              <a:chOff x="1920960" y="2408400"/>
              <a:chExt cx="1143000" cy="1143000"/>
            </a:xfrm>
          </p:grpSpPr>
          <p:sp>
            <p:nvSpPr>
              <p:cNvPr id="81" name=""/>
              <p:cNvSpPr txBox="1"/>
              <p:nvPr/>
            </p:nvSpPr>
            <p:spPr>
              <a:xfrm>
                <a:off x="2225880" y="2484720"/>
                <a:ext cx="457200" cy="87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9963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2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20960" y="2408400"/>
                <a:ext cx="1143000" cy="1143000"/>
              </a:xfrm>
              <a:prstGeom prst="ellipse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3292560" y="3855960"/>
            <a:ext cx="9219960" cy="1295640"/>
            <a:chOff x="3292560" y="3855960"/>
            <a:chExt cx="9219960" cy="1295640"/>
          </a:xfrm>
        </p:grpSpPr>
        <p:sp>
          <p:nvSpPr>
            <p:cNvPr id="84" name=""/>
            <p:cNvSpPr/>
            <p:nvPr/>
          </p:nvSpPr>
          <p:spPr>
            <a:xfrm>
              <a:off x="4740120" y="3855960"/>
              <a:ext cx="777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có lòng chung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92560" y="4008600"/>
              <a:ext cx="1143000" cy="1143000"/>
              <a:chOff x="3292560" y="4008600"/>
              <a:chExt cx="1143000" cy="1143000"/>
            </a:xfrm>
          </p:grpSpPr>
          <p:sp>
            <p:nvSpPr>
              <p:cNvPr id="86" name=""/>
              <p:cNvSpPr txBox="1"/>
              <p:nvPr/>
            </p:nvSpPr>
            <p:spPr>
              <a:xfrm>
                <a:off x="3597480" y="4084920"/>
                <a:ext cx="457200" cy="87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9963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3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92560" y="4008600"/>
                <a:ext cx="1143000" cy="1143000"/>
              </a:xfrm>
              <a:prstGeom prst="ellipse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4800" y="1189080"/>
            <a:ext cx="12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51. H.- Gia đình   sống hiệp thông cách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129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bằng cách mỗi thành viên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16040" y="1569960"/>
            <a:ext cx="4724280" cy="1676520"/>
            <a:chOff x="1616040" y="1569960"/>
            <a:chExt cx="4724280" cy="1676520"/>
          </a:xfrm>
        </p:grpSpPr>
        <p:sp>
          <p:nvSpPr>
            <p:cNvPr id="91" name=""/>
            <p:cNvSpPr/>
            <p:nvPr/>
          </p:nvSpPr>
          <p:spPr>
            <a:xfrm>
              <a:off x="1616040" y="1569960"/>
              <a:ext cx="4724280" cy="1676520"/>
            </a:xfrm>
            <a:custGeom>
              <a:avLst/>
              <a:gdLst>
                <a:gd name="textAreaLeft" fmla="*/ 197280 w 4724280"/>
                <a:gd name="textAreaRight" fmla="*/ 4527000 w 4724280"/>
                <a:gd name="textAreaTop" fmla="*/ 197280 h 1676520"/>
                <a:gd name="textAreaBottom" fmla="*/ 1479240 h 1676520"/>
              </a:gdLst>
              <a:ahLst/>
              <a:rect l="textAreaLeft" t="textAreaTop" r="textAreaRight" b="textAreaBottom"/>
              <a:pathLst>
                <a:path w="6085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258" y="21600"/>
                  </a:lnTo>
                  <a:arcTo wR="3600" hR="3600" stAng="10800000" swAng="5400000"/>
                  <a:lnTo>
                    <a:pt x="60858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16040" y="1646280"/>
              <a:ext cx="4664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chung lòng chung sức xây dựng cuộc sống về mọi mặ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749760" y="3398760"/>
            <a:ext cx="4724280" cy="1676520"/>
            <a:chOff x="3749760" y="3398760"/>
            <a:chExt cx="4724280" cy="1676520"/>
          </a:xfrm>
        </p:grpSpPr>
        <p:sp>
          <p:nvSpPr>
            <p:cNvPr id="94" name=""/>
            <p:cNvSpPr/>
            <p:nvPr/>
          </p:nvSpPr>
          <p:spPr>
            <a:xfrm>
              <a:off x="3749760" y="3398760"/>
              <a:ext cx="4724280" cy="1676520"/>
            </a:xfrm>
            <a:custGeom>
              <a:avLst/>
              <a:gdLst>
                <a:gd name="textAreaLeft" fmla="*/ 197280 w 4724280"/>
                <a:gd name="textAreaRight" fmla="*/ 4527000 w 4724280"/>
                <a:gd name="textAreaTop" fmla="*/ 197280 h 1676520"/>
                <a:gd name="textAreaBottom" fmla="*/ 1479240 h 1676520"/>
              </a:gdLst>
              <a:ahLst/>
              <a:rect l="textAreaLeft" t="textAreaTop" r="textAreaRight" b="textAreaBottom"/>
              <a:pathLst>
                <a:path w="6085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258" y="21600"/>
                  </a:lnTo>
                  <a:arcTo wR="3600" hR="3600" stAng="10800000" swAng="5400000"/>
                  <a:lnTo>
                    <a:pt x="60858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82920" y="3475080"/>
              <a:ext cx="3657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cảm thông những     hạn chế, yếu kém      của nhau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111720" y="5227560"/>
            <a:ext cx="4724640" cy="1676520"/>
            <a:chOff x="6111720" y="5227560"/>
            <a:chExt cx="4724640" cy="1676520"/>
          </a:xfrm>
        </p:grpSpPr>
        <p:sp>
          <p:nvSpPr>
            <p:cNvPr id="97" name=""/>
            <p:cNvSpPr/>
            <p:nvPr/>
          </p:nvSpPr>
          <p:spPr>
            <a:xfrm>
              <a:off x="6111720" y="5227560"/>
              <a:ext cx="4724640" cy="1676520"/>
            </a:xfrm>
            <a:custGeom>
              <a:avLst/>
              <a:gdLst>
                <a:gd name="textAreaLeft" fmla="*/ 197280 w 4724640"/>
                <a:gd name="textAreaRight" fmla="*/ 4527360 w 4724640"/>
                <a:gd name="textAreaTop" fmla="*/ 197280 h 1676520"/>
                <a:gd name="textAreaBottom" fmla="*/ 1479240 h 1676520"/>
              </a:gdLst>
              <a:ahLst/>
              <a:rect l="textAreaLeft" t="textAreaTop" r="textAreaRight" b="textAreaBottom"/>
              <a:pathLst>
                <a:path w="608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263" y="21600"/>
                  </a:lnTo>
                  <a:arcTo wR="3600" hR="3600" stAng="10800000" swAng="5400000"/>
                  <a:lnTo>
                    <a:pt x="608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78560" y="5456160"/>
              <a:ext cx="390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cùng nhau chia sẻ ngọt bùi đắng cay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626320" y="1417680"/>
            <a:ext cx="3210120" cy="2593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8120" y="4084560"/>
            <a:ext cx="342900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3:41:12Z</dcterms:modified>
  <cp:revision>42</cp:revision>
  <dc:subject/>
  <dc:title>Slide 1</dc:title>
</cp:coreProperties>
</file>