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985750" cy="7408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D57-84CF-4A5A-8016-656967EB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798-3C69-49C9-B683-233F5E40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702-C8DC-4ECE-9FC5-8619623C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044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1080" y="172872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9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044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1080" y="4281840"/>
            <a:ext cx="376236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2B1-3A5D-4BD7-B6A1-C1E9439A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8C5-2F6F-43AC-A20C-5C9062D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C2C-1E8D-4EA0-B7F2-95BAEF2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17B-82F2-4A43-A73F-4BA693F5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030-FD36-4F5B-B468-AC2701E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9440" y="297000"/>
            <a:ext cx="1168560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3AE-A8BC-45E5-8228-368318D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FC9-DB07-491C-AA6B-AF36EF81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37320" y="428184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0B1-FD9A-4776-A624-6B78142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944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37320" y="1728720"/>
            <a:ext cx="57024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9440" y="4281840"/>
            <a:ext cx="11685600" cy="233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1DB-133A-4FD2-BFCA-11A1740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9440" y="297000"/>
            <a:ext cx="11685600" cy="123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728720"/>
            <a:ext cx="11685600" cy="4888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0040" indent="-29520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84400" indent="-23652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3652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33720" indent="-239760">
              <a:spcBef>
                <a:spcPts val="82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9440" y="6744960"/>
            <a:ext cx="303048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35200" y="6744960"/>
            <a:ext cx="411300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03840" y="6744960"/>
            <a:ext cx="3030840" cy="514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A853-681E-4D95-AE10-806F78A46B38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998960"/>
            <a:ext cx="12039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NI-Helve-Condense"/>
              </a:rPr>
              <a:t>(Ñeà nghò Ban Tu só giaùo phaän thoáng nhaát vaø phoå bieán nhöõng sinh hoaït cho caùc Tu só ñang soáng vaø laøm vieäc taïi giaùo phaän Xuaân Loäc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4440" y="274680"/>
            <a:ext cx="11430000" cy="4114800"/>
            <a:chOff x="244440" y="274680"/>
            <a:chExt cx="11430000" cy="4114800"/>
          </a:xfrm>
        </p:grpSpPr>
        <p:sp>
          <p:nvSpPr>
            <p:cNvPr id="43" name=""/>
            <p:cNvSpPr txBox="1"/>
            <p:nvPr/>
          </p:nvSpPr>
          <p:spPr>
            <a:xfrm>
              <a:off x="4587840" y="2408400"/>
              <a:ext cx="7086600" cy="19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</a:rPr>
                <a:t>TU SÓ XUAÂN LOÄC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  <a:ea typeface="VNI-Time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</a:rPr>
                <a:t>SOÁNG NAÊM ÑÖÙC TIN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  <a:ea typeface="VNI-Times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7483320" y="1569960"/>
              <a:ext cx="129564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VNI-Times"/>
                </a:rPr>
                <a:t>BAØI 3 : </a:t>
              </a:r>
              <a:endPara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NI-Times"/>
                <a:ea typeface="VNI-Times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44440" y="274680"/>
              <a:ext cx="3834000" cy="312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0:16:05Z</dcterms:created>
  <dc:creator>NguyenMinh</dc:creator>
  <dc:description/>
  <dc:language>en-US</dc:language>
  <cp:lastModifiedBy>CHA TU</cp:lastModifiedBy>
  <dcterms:modified xsi:type="dcterms:W3CDTF">2012-11-03T10:37:57Z</dcterms:modified>
  <cp:revision>44</cp:revision>
  <dc:subject/>
  <dc:title>Slide 1</dc:title>
</cp:coreProperties>
</file>