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581-E6C5-4008-812F-4E444995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D65-9D21-403D-B822-81DE79F0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050-2D8E-4BAA-B957-B757AEE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C94-9B05-4F0A-9CDE-22D92372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4A5-2283-48F5-B5E8-F6D2D78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7FC-B67F-4C84-8052-0F840E1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BE7-7FFB-4FF9-AC44-3D6110F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585-7FDC-4F07-B23C-BE1FDA0C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DD8-9D5E-47E7-9642-8AC6170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A3A-6DBB-4E89-B8B3-BF88DDE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EB8-0E60-4015-AE20-EBF81BE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B36-602F-4526-AAC4-BB30BD4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939-284B-4CA6-BD33-87B6216058E4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96720" y="503280"/>
            <a:ext cx="12230280" cy="6400440"/>
            <a:chOff x="396720" y="503280"/>
            <a:chExt cx="12230280" cy="6400440"/>
          </a:xfrm>
        </p:grpSpPr>
        <p:grpSp>
          <p:nvGrpSpPr>
            <p:cNvPr id="42" name=""/>
            <p:cNvGrpSpPr/>
            <p:nvPr/>
          </p:nvGrpSpPr>
          <p:grpSpPr>
            <a:xfrm>
              <a:off x="396720" y="3627360"/>
              <a:ext cx="7086600" cy="3276360"/>
              <a:chOff x="396720" y="3627360"/>
              <a:chExt cx="7086600" cy="3276360"/>
            </a:xfrm>
          </p:grpSpPr>
          <p:sp>
            <p:nvSpPr>
              <p:cNvPr id="43" name=""/>
              <p:cNvSpPr txBox="1"/>
              <p:nvPr/>
            </p:nvSpPr>
            <p:spPr>
              <a:xfrm>
                <a:off x="396720" y="4694040"/>
                <a:ext cx="7086600" cy="2209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VNI-Times"/>
                  </a:rPr>
                  <a:t>GIAÙO DAÂN XUAÂN LOÄC 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  <a:ea typeface="VNI-Time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VNI-Times"/>
                  </a:rPr>
                  <a:t>SOÁNG NAÊM ÑÖÙC TIN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  <a:ea typeface="VNI-Times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3368520" y="3627360"/>
                <a:ext cx="1295640" cy="38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ff00ff"/>
                    </a:solidFill>
                    <a:effectLst>
                      <a:outerShdw dist="17819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VNI-Times"/>
                  </a:rPr>
                  <a:t>BAØI 4 : </a:t>
                </a:r>
                <a:endPara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  <a:ea typeface="VNI-Times"/>
                </a:endParaRPr>
              </a:p>
            </p:txBody>
          </p:sp>
        </p:grp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492960" y="503280"/>
              <a:ext cx="6134040" cy="32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73040" y="351000"/>
            <a:ext cx="119635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7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Töøng Giôùi – Hoäi ñoaøn tham döï ñoâng vaø        sinh ñoäng caùc leã         boån maïng cuûa Giôùi,     Hoäi ñoaø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12984120" cy="9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ff"/>
                </a:solidFill>
                <a:latin typeface="VNI-Helve-Condense"/>
              </a:rPr>
              <a:t>8-</a:t>
            </a:r>
            <a:r>
              <a:rPr b="1" lang="en-US" sz="7200" spc="-1" strike="noStrike">
                <a:solidFill>
                  <a:srgbClr val="ffffff"/>
                </a:solidFill>
                <a:latin typeface="VNI-Helve-Condense"/>
              </a:rPr>
              <a:t> Thöïc thi baùc aùi: Ñaåy maïnh coâng taùc baùc aùi, nhaát laø : Beânh vöïc söï soáng – Giaùo duïc &amp; ñaøo taïo Kitoâ höõu tröôûng thaønh – Quan taâm ñeán ñôøi soáng thöïc teá cuûa daân ngheøo                       </a:t>
            </a:r>
            <a:r>
              <a:rPr b="1" i="1" lang="en-US" sz="4400" spc="-1" strike="noStrike">
                <a:solidFill>
                  <a:srgbClr val="33ccff"/>
                </a:solidFill>
                <a:latin typeface="VNI-Times"/>
              </a:rPr>
              <a:t>(ngheøo vaät chaát vaø tinh thaà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12760"/>
            <a:ext cx="1273968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9.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Caùc Giaùo xöù thöïc hieän cuoäc Baàu cöû quí chöùc BHG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nhieäm kyø 2013–2017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ff"/>
                </a:solidFill>
                <a:latin typeface="VNI-Times"/>
              </a:rPr>
              <a:t>(nghieâm tuùc theo lòch Baàu cöû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25320" y="503280"/>
            <a:ext cx="118112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VNI-Helve-Condense"/>
              </a:rPr>
              <a:t>10.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Quí chöùc (TV/BHG – BTS/Giôùi – BÑH Hoï ñaïo) tham gia tích cöïc vaø ñoâng ñuû boài döôõng naêm 2013 </a:t>
            </a:r>
            <a:r>
              <a:rPr b="1" i="1" lang="en-US" sz="6000" spc="-1" strike="noStrike">
                <a:solidFill>
                  <a:srgbClr val="33ccff"/>
                </a:solidFill>
                <a:latin typeface="VNI-Times"/>
              </a:rPr>
              <a:t>(x.lòch boài döôõng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12984120" cy="778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92560" y="0"/>
            <a:ext cx="6400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Helve-Condense"/>
              </a:rPr>
              <a:t>KEÁT THUÙC :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NI-Helve-Condense"/>
              <a:ea typeface="VNI-Helve-Condens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54120" y="3398760"/>
            <a:ext cx="868680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Phoù thaùc Naêm Ñöùc Tin cuûa Giaùo Phaän Xuaân Loä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trong tay hieàn maãu Maria, Ñaáng laø maãu göông cuûa loøng t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49760" y="1494000"/>
            <a:ext cx="6248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Naêm Ñöùc Tin laø cô hoäi thuaän tieä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VNI-Times"/>
              </a:rPr>
              <a:t>ñeå taêng cöôøng chöùng taù Baùc AÙi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VNI-Times"/>
              <a:ea typeface="VNI-Times"/>
            </a:endParaRPr>
          </a:p>
        </p:txBody>
      </p:sp>
      <p:sp>
        <p:nvSpPr>
          <p:cNvPr id="96" name=""/>
          <p:cNvSpPr/>
          <p:nvPr/>
        </p:nvSpPr>
        <p:spPr>
          <a:xfrm>
            <a:off x="2301840" y="37800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720" y="16462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130640" y="350640"/>
            <a:ext cx="4357800" cy="1968840"/>
            <a:chOff x="4130640" y="350640"/>
            <a:chExt cx="4357800" cy="1968840"/>
          </a:xfrm>
        </p:grpSpPr>
        <p:sp>
          <p:nvSpPr>
            <p:cNvPr id="47" name=""/>
            <p:cNvSpPr/>
            <p:nvPr/>
          </p:nvSpPr>
          <p:spPr>
            <a:xfrm rot="10800000">
              <a:off x="4359240" y="350280"/>
              <a:ext cx="4129200" cy="1600200"/>
            </a:xfrm>
            <a:prstGeom prst="wedgeEllipseCallout">
              <a:avLst>
                <a:gd name="adj1" fmla="val 83828"/>
                <a:gd name="adj2" fmla="val -238694"/>
              </a:avLst>
            </a:prstGeom>
            <a:gradFill rotWithShape="0">
              <a:gsLst>
                <a:gs pos="0">
                  <a:srgbClr val="f0e500"/>
                </a:gs>
                <a:gs pos="100000">
                  <a:srgbClr val="6e6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130640" y="350640"/>
              <a:ext cx="4357800" cy="1968840"/>
              <a:chOff x="4130640" y="350640"/>
              <a:chExt cx="4357800" cy="1968840"/>
            </a:xfrm>
          </p:grpSpPr>
          <p:sp>
            <p:nvSpPr>
              <p:cNvPr id="49" name=""/>
              <p:cNvSpPr/>
              <p:nvPr/>
            </p:nvSpPr>
            <p:spPr>
              <a:xfrm rot="10800000">
                <a:off x="4359240" y="350280"/>
                <a:ext cx="4129200" cy="1600200"/>
              </a:xfrm>
              <a:prstGeom prst="wedgeEllipseCallout">
                <a:avLst>
                  <a:gd name="adj1" fmla="val -74648"/>
                  <a:gd name="adj2" fmla="val -233138"/>
                </a:avLst>
              </a:prstGeom>
              <a:gradFill rotWithShape="0">
                <a:gsLst>
                  <a:gs pos="0">
                    <a:srgbClr val="f0e500"/>
                  </a:gs>
                  <a:gs pos="100000">
                    <a:srgbClr val="6e6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TextBox 2"/>
              <p:cNvSpPr/>
              <p:nvPr/>
            </p:nvSpPr>
            <p:spPr>
              <a:xfrm>
                <a:off x="4130640" y="579600"/>
                <a:ext cx="4191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00ff"/>
                    </a:solidFill>
                    <a:latin typeface="VNI-Helve-Condense"/>
                  </a:rPr>
                  <a:t> </a:t>
                </a:r>
                <a:r>
                  <a:rPr b="1" lang="en-US" sz="5400" spc="-1" strike="noStrike">
                    <a:solidFill>
                      <a:srgbClr val="0000ff"/>
                    </a:solidFill>
                    <a:latin typeface="VNI-Helve-Condense"/>
                  </a:rPr>
                  <a:t>GIAÙO DAÂN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VNI-Helve-Condense"/>
                  </a:rPr>
                  <a:t> 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8016840" y="4923000"/>
            <a:ext cx="3962520" cy="1607040"/>
            <a:chOff x="8016840" y="4923000"/>
            <a:chExt cx="3962520" cy="1607040"/>
          </a:xfrm>
        </p:grpSpPr>
        <p:sp>
          <p:nvSpPr>
            <p:cNvPr id="52" name=""/>
            <p:cNvSpPr/>
            <p:nvPr/>
          </p:nvSpPr>
          <p:spPr>
            <a:xfrm>
              <a:off x="8016840" y="4923000"/>
              <a:ext cx="3962520" cy="838080"/>
            </a:xfrm>
            <a:prstGeom prst="flowChartAlternateProcess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71000" y="4973760"/>
              <a:ext cx="3657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0e500"/>
                  </a:solidFill>
                  <a:latin typeface="VNI-Helve-Condense"/>
                </a:rPr>
                <a:t>B- TAÄP THEÅ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853920" y="4923000"/>
            <a:ext cx="3962520" cy="1556280"/>
            <a:chOff x="853920" y="4923000"/>
            <a:chExt cx="3962520" cy="1556280"/>
          </a:xfrm>
        </p:grpSpPr>
        <p:sp>
          <p:nvSpPr>
            <p:cNvPr id="55" name=""/>
            <p:cNvSpPr/>
            <p:nvPr/>
          </p:nvSpPr>
          <p:spPr>
            <a:xfrm>
              <a:off x="853920" y="4923000"/>
              <a:ext cx="3962520" cy="838080"/>
            </a:xfrm>
            <a:prstGeom prst="flowChartAlternateProcess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5007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6560" y="4923000"/>
              <a:ext cx="3504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0e500"/>
                  </a:solidFill>
                  <a:latin typeface="VNI-Helve-Condense"/>
                </a:rPr>
                <a:t>A- CAÙ NHAÂN</a:t>
              </a:r>
              <a:r>
                <a:rPr b="1" lang="en-US" sz="4000" spc="-1" strike="noStrike">
                  <a:solidFill>
                    <a:srgbClr val="f0e5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 Diagonal Corner Rectangle 7"/>
          <p:cNvSpPr/>
          <p:nvPr/>
        </p:nvSpPr>
        <p:spPr>
          <a:xfrm>
            <a:off x="181080" y="2459160"/>
            <a:ext cx="2044440" cy="4389480"/>
          </a:xfrm>
          <a:custGeom>
            <a:avLst/>
            <a:gdLst/>
            <a:ahLst/>
            <a:rect l="l" t="t" r="r" b="b"/>
            <a:pathLst>
              <a:path w="3361732" h="4741985">
                <a:moveTo>
                  <a:pt x="1680866" y="0"/>
                </a:moveTo>
                <a:lnTo>
                  <a:pt x="3064622" y="0"/>
                </a:lnTo>
                <a:cubicBezTo>
                  <a:pt x="3228711" y="0"/>
                  <a:pt x="3361732" y="133021"/>
                  <a:pt x="3361732" y="297110"/>
                </a:cubicBezTo>
                <a:lnTo>
                  <a:pt x="3361732" y="3061119"/>
                </a:lnTo>
                <a:cubicBezTo>
                  <a:pt x="3361732" y="3989436"/>
                  <a:pt x="2609183" y="4741985"/>
                  <a:pt x="1680866" y="4741985"/>
                </a:cubicBezTo>
                <a:lnTo>
                  <a:pt x="297110" y="4741985"/>
                </a:lnTo>
                <a:cubicBezTo>
                  <a:pt x="133021" y="4741985"/>
                  <a:pt x="0" y="4608964"/>
                  <a:pt x="0" y="4444875"/>
                </a:cubicBezTo>
                <a:lnTo>
                  <a:pt x="0" y="1680866"/>
                </a:lnTo>
                <a:cubicBezTo>
                  <a:pt x="0" y="752549"/>
                  <a:pt x="752549" y="0"/>
                  <a:pt x="1680866" y="0"/>
                </a:cubicBez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760" y="2712960"/>
            <a:ext cx="16002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VNI-Helve-Condense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VNI-Helve-Condense"/>
              </a:rPr>
              <a:t>Hoïc taøi lieäu Naêm Ñöùc Ti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ound Diagonal Corner Rectangle 7"/>
          <p:cNvSpPr/>
          <p:nvPr/>
        </p:nvSpPr>
        <p:spPr>
          <a:xfrm>
            <a:off x="2606760" y="2484360"/>
            <a:ext cx="3657600" cy="4389480"/>
          </a:xfrm>
          <a:custGeom>
            <a:avLst/>
            <a:gdLst/>
            <a:ahLst/>
            <a:rect l="l" t="t" r="r" b="b"/>
            <a:pathLst>
              <a:path w="3361732" h="4741985">
                <a:moveTo>
                  <a:pt x="1680866" y="0"/>
                </a:moveTo>
                <a:lnTo>
                  <a:pt x="3064622" y="0"/>
                </a:lnTo>
                <a:cubicBezTo>
                  <a:pt x="3228711" y="0"/>
                  <a:pt x="3361732" y="133021"/>
                  <a:pt x="3361732" y="297110"/>
                </a:cubicBezTo>
                <a:lnTo>
                  <a:pt x="3361732" y="3061119"/>
                </a:lnTo>
                <a:cubicBezTo>
                  <a:pt x="3361732" y="3989436"/>
                  <a:pt x="2609183" y="4741985"/>
                  <a:pt x="1680866" y="4741985"/>
                </a:cubicBezTo>
                <a:lnTo>
                  <a:pt x="297110" y="4741985"/>
                </a:lnTo>
                <a:cubicBezTo>
                  <a:pt x="133021" y="4741985"/>
                  <a:pt x="0" y="4608964"/>
                  <a:pt x="0" y="4444875"/>
                </a:cubicBezTo>
                <a:lnTo>
                  <a:pt x="0" y="1680866"/>
                </a:lnTo>
                <a:cubicBezTo>
                  <a:pt x="0" y="752549"/>
                  <a:pt x="752549" y="0"/>
                  <a:pt x="1680866" y="0"/>
                </a:cubicBez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82720" y="2789280"/>
            <a:ext cx="3429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VNI-Helve-Condense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VNI-Helve-Condense"/>
              </a:rPr>
              <a:t>Tuyeân xöng</a:t>
            </a:r>
            <a:r>
              <a:rPr b="1" lang="en-US" sz="4400" spc="-1" strike="noStrike">
                <a:solidFill>
                  <a:srgbClr val="ffffff"/>
                </a:solidFill>
                <a:latin typeface="VNI-Helve-Condense"/>
              </a:rPr>
              <a:t>    - cöû haønh</a:t>
            </a:r>
            <a:r>
              <a:rPr b="1" lang="en-US" sz="4000" spc="-1" strike="noStrike">
                <a:solidFill>
                  <a:srgbClr val="ffffff"/>
                </a:solidFill>
                <a:latin typeface="VNI-Helve-Condense"/>
              </a:rPr>
              <a:t>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30440" y="56088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NI-Times"/>
              </a:rPr>
              <a:t>* Kinh nguyeän gia ñình (thöôøng xuyeân vaø “chaát löôïng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06760" y="42372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NI-Times"/>
              </a:rPr>
              <a:t>* Tham döï sinh ñoäng vaø troïn veïn Phuïng töï nhaát laø Thaùnh le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ound Diagonal Corner Rectangle 7"/>
          <p:cNvSpPr/>
          <p:nvPr/>
        </p:nvSpPr>
        <p:spPr>
          <a:xfrm flipH="1">
            <a:off x="6645240" y="2484360"/>
            <a:ext cx="3733920" cy="4389480"/>
          </a:xfrm>
          <a:custGeom>
            <a:avLst/>
            <a:gdLst/>
            <a:ahLst/>
            <a:rect l="l" t="t" r="r" b="b"/>
            <a:pathLst>
              <a:path w="3361732" h="4741985">
                <a:moveTo>
                  <a:pt x="1680866" y="0"/>
                </a:moveTo>
                <a:lnTo>
                  <a:pt x="3064622" y="0"/>
                </a:lnTo>
                <a:cubicBezTo>
                  <a:pt x="3228711" y="0"/>
                  <a:pt x="3361732" y="133021"/>
                  <a:pt x="3361732" y="297110"/>
                </a:cubicBezTo>
                <a:lnTo>
                  <a:pt x="3361732" y="3061119"/>
                </a:lnTo>
                <a:cubicBezTo>
                  <a:pt x="3361732" y="3989436"/>
                  <a:pt x="2609183" y="4741985"/>
                  <a:pt x="1680866" y="4741985"/>
                </a:cubicBezTo>
                <a:lnTo>
                  <a:pt x="297110" y="4741985"/>
                </a:lnTo>
                <a:cubicBezTo>
                  <a:pt x="133021" y="4741985"/>
                  <a:pt x="0" y="4608964"/>
                  <a:pt x="0" y="4444875"/>
                </a:cubicBezTo>
                <a:lnTo>
                  <a:pt x="0" y="1680866"/>
                </a:lnTo>
                <a:cubicBezTo>
                  <a:pt x="0" y="752549"/>
                  <a:pt x="752549" y="0"/>
                  <a:pt x="1680866" y="0"/>
                </a:cubicBez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21560" y="248436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NI-Helve-Condense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 Soáng theo “linh ñaïo GLHAÂ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6120" y="37036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NI-Helve-Condense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 töø cuoäc soá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3840" y="446580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NI-Helve-Condense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 leân tôùi Chuù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50160" y="5227560"/>
            <a:ext cx="304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VNI-Helve-Condense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 trôû veà cuoäc soáng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ound Diagonal Corner Rectangle 7"/>
          <p:cNvSpPr/>
          <p:nvPr/>
        </p:nvSpPr>
        <p:spPr>
          <a:xfrm flipH="1">
            <a:off x="10848240" y="2496960"/>
            <a:ext cx="1855800" cy="4389480"/>
          </a:xfrm>
          <a:custGeom>
            <a:avLst/>
            <a:gdLst/>
            <a:ahLst/>
            <a:rect l="l" t="t" r="r" b="b"/>
            <a:pathLst>
              <a:path w="3361732" h="4741985">
                <a:moveTo>
                  <a:pt x="1680866" y="0"/>
                </a:moveTo>
                <a:lnTo>
                  <a:pt x="3064622" y="0"/>
                </a:lnTo>
                <a:cubicBezTo>
                  <a:pt x="3228711" y="0"/>
                  <a:pt x="3361732" y="133021"/>
                  <a:pt x="3361732" y="297110"/>
                </a:cubicBezTo>
                <a:lnTo>
                  <a:pt x="3361732" y="3061119"/>
                </a:lnTo>
                <a:cubicBezTo>
                  <a:pt x="3361732" y="3989436"/>
                  <a:pt x="2609183" y="4741985"/>
                  <a:pt x="1680866" y="4741985"/>
                </a:cubicBezTo>
                <a:lnTo>
                  <a:pt x="297110" y="4741985"/>
                </a:lnTo>
                <a:cubicBezTo>
                  <a:pt x="133021" y="4741985"/>
                  <a:pt x="0" y="4608964"/>
                  <a:pt x="0" y="4444875"/>
                </a:cubicBezTo>
                <a:lnTo>
                  <a:pt x="0" y="1680866"/>
                </a:lnTo>
                <a:cubicBezTo>
                  <a:pt x="0" y="752549"/>
                  <a:pt x="752549" y="0"/>
                  <a:pt x="1680866" y="0"/>
                </a:cubicBez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760040" y="2712960"/>
            <a:ext cx="190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VNI-Helve-Condense"/>
              </a:rPr>
              <a:t>4.</a:t>
            </a:r>
            <a:r>
              <a:rPr b="1" lang="en-US" sz="4800" spc="-1" strike="noStrike">
                <a:solidFill>
                  <a:srgbClr val="ffffff"/>
                </a:solidFill>
                <a:latin typeface="VNI-Helve-Condense"/>
              </a:rPr>
              <a:t>   Thöïc   thi    baùc     aùi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25520" y="1189080"/>
            <a:ext cx="8610840" cy="1447920"/>
            <a:chOff x="2225520" y="1189080"/>
            <a:chExt cx="8610840" cy="1447920"/>
          </a:xfrm>
        </p:grpSpPr>
        <p:sp>
          <p:nvSpPr>
            <p:cNvPr id="71" name=""/>
            <p:cNvSpPr/>
            <p:nvPr/>
          </p:nvSpPr>
          <p:spPr>
            <a:xfrm flipH="1">
              <a:off x="2225520" y="1189080"/>
              <a:ext cx="4114800" cy="1371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40320" y="1189080"/>
              <a:ext cx="4496040" cy="1447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816080" y="1189080"/>
              <a:ext cx="152388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40320" y="118908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054320" y="351000"/>
            <a:ext cx="4129200" cy="1556280"/>
            <a:chOff x="4054320" y="351000"/>
            <a:chExt cx="4129200" cy="1556280"/>
          </a:xfrm>
        </p:grpSpPr>
        <p:sp>
          <p:nvSpPr>
            <p:cNvPr id="76" name=""/>
            <p:cNvSpPr/>
            <p:nvPr/>
          </p:nvSpPr>
          <p:spPr>
            <a:xfrm>
              <a:off x="4054320" y="351000"/>
              <a:ext cx="4129200" cy="838080"/>
            </a:xfrm>
            <a:prstGeom prst="wedgeEllipseCallout">
              <a:avLst>
                <a:gd name="adj1" fmla="val 34814"/>
                <a:gd name="adj2" fmla="val 39773"/>
              </a:avLst>
            </a:prstGeom>
            <a:gradFill rotWithShape="0">
              <a:gsLst>
                <a:gs pos="0">
                  <a:srgbClr val="f0e500"/>
                </a:gs>
                <a:gs pos="100000">
                  <a:srgbClr val="6e6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11520" y="351000"/>
              <a:ext cx="3200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ff"/>
                  </a:solidFill>
                  <a:latin typeface="VNI-Helve-Condense"/>
                </a:rPr>
                <a:t>A-CAÙ NHAÂN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3000"/>
                            </p:stCondLst>
                            <p:childTnLst>
                              <p:par>
                                <p:cTn id="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435560" y="0"/>
            <a:ext cx="4128840" cy="1632600"/>
            <a:chOff x="4435560" y="0"/>
            <a:chExt cx="4128840" cy="1632600"/>
          </a:xfrm>
        </p:grpSpPr>
        <p:sp>
          <p:nvSpPr>
            <p:cNvPr id="79" name=""/>
            <p:cNvSpPr/>
            <p:nvPr/>
          </p:nvSpPr>
          <p:spPr>
            <a:xfrm>
              <a:off x="4435560" y="0"/>
              <a:ext cx="4128840" cy="914400"/>
            </a:xfrm>
            <a:prstGeom prst="wedgeEllipseCallout">
              <a:avLst>
                <a:gd name="adj1" fmla="val -35314"/>
                <a:gd name="adj2" fmla="val 22569"/>
              </a:avLst>
            </a:prstGeom>
            <a:gradFill rotWithShape="0">
              <a:gsLst>
                <a:gs pos="0">
                  <a:srgbClr val="f0e500"/>
                </a:gs>
                <a:gs pos="100000">
                  <a:srgbClr val="6e6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92760" y="76320"/>
              <a:ext cx="327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66"/>
                  </a:solidFill>
                  <a:latin typeface="VNI-Helve-Condense"/>
                </a:rPr>
                <a:t>B-TAÄP THEÅ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44440" y="1219320"/>
            <a:ext cx="125730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VNI-Helve-Condense"/>
              </a:rPr>
              <a:t>1.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Giaùo Xöù – Giôùi – Hoäi ñoaøn phoå bieán, toå chöùc,       ñoäng vieân  hoïc  taøi lieäu Naêm Ñöùc Tin – CÑ Vat.II – saùch Giaùo lyù HT CG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120" y="1417680"/>
            <a:ext cx="61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VNI-Helve-Condense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808200"/>
            <a:ext cx="12192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VNI-Helve-Condense"/>
              </a:rPr>
              <a:t>2.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Giaùo xöù toå chöùc vaø cöû haønh Phuïng vuï sinh ñoäng, nhaát laø nhöõng ngaøy coù ôn Toøan xa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3040" y="731880"/>
            <a:ext cx="1203948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Caùc Giôùi, Hoäi ñoaøn toå chöùc haønh höông (keát hôïp vieäc hoïc taøi lieäu MV 2013) taïi Nhaø thôø Haït + Gphaän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3040" y="1494000"/>
            <a:ext cx="12268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Giaùo xöù toå chöùc tónh taâm muøa Chay vôùi chuû ñeà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    </a:t>
            </a:r>
            <a:r>
              <a:rPr b="1" lang="en-US" sz="8000" spc="-1" strike="noStrike">
                <a:solidFill>
                  <a:srgbClr val="ff00ff"/>
                </a:solidFill>
                <a:latin typeface="VNI-Helve-Condense"/>
              </a:rPr>
              <a:t>“</a:t>
            </a:r>
            <a:r>
              <a:rPr b="1" lang="en-US" sz="8000" spc="-1" strike="noStrike">
                <a:solidFill>
                  <a:srgbClr val="ff00ff"/>
                </a:solidFill>
                <a:latin typeface="VNI-Helve-Condense"/>
              </a:rPr>
              <a:t>HOÀNG AÂN ÑÖÙC TIN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3040" y="419040"/>
            <a:ext cx="12344400" cy="86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Tham döï ñoâng vaø sinh ñoäng </a:t>
            </a:r>
            <a:r>
              <a:rPr b="1" lang="en-US" sz="8000" spc="-1" strike="noStrike">
                <a:solidFill>
                  <a:srgbClr val="ff00ff"/>
                </a:solidFill>
                <a:latin typeface="VNI-Helve-Condense"/>
              </a:rPr>
              <a:t>Leã Truyeàn Daàu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Thöù Naêm Tuaàn Thaùnh ngaøy 28/03/2013 taïi nhaø thôø Phuùc Nhaïc - Gia Kieäm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214200" y="960480"/>
            <a:ext cx="13488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Arial"/>
              </a:rPr>
              <a:t>6.</a:t>
            </a:r>
            <a:r>
              <a:rPr b="1" lang="en-US" sz="8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Tham döï ñoâng </a:t>
            </a:r>
            <a:r>
              <a:rPr b="1" lang="en-US" sz="4400" spc="-1" strike="noStrike">
                <a:solidFill>
                  <a:srgbClr val="ffffff"/>
                </a:solidFill>
                <a:latin typeface="VNI-Helve-Condense"/>
              </a:rPr>
              <a:t>vaø 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sinh ñoäng </a:t>
            </a:r>
            <a:r>
              <a:rPr b="1" lang="en-US" sz="8000" spc="-1" strike="noStrike">
                <a:solidFill>
                  <a:srgbClr val="ff00ff"/>
                </a:solidFill>
                <a:latin typeface="VNI-Helve-Condense"/>
              </a:rPr>
              <a:t>Leã Truyeàn chöùc Linh muïc</a:t>
            </a:r>
            <a:r>
              <a:rPr b="1" lang="en-US" sz="8000" spc="-1" strike="noStrike">
                <a:solidFill>
                  <a:srgbClr val="ffffff"/>
                </a:solidFill>
                <a:latin typeface="VNI-Helve-Condense"/>
              </a:rPr>
              <a:t>    taïi Nhaø thôø Chaùnh Toøa XL ngaøy 30/05/201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CHA TU</cp:lastModifiedBy>
  <dcterms:modified xsi:type="dcterms:W3CDTF">2012-11-03T10:57:25Z</dcterms:modified>
  <cp:revision>52</cp:revision>
  <dc:subject/>
  <dc:title>Slide 1</dc:title>
</cp:coreProperties>
</file>